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85BD-68CF-439C-8C33-51B0AB418035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1586-B91B-4EAD-B213-2353DD3A12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F26-1149-40B0-9268-02CF98AD50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7732-8399-41C7-82D8-D971276115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56A-5643-4590-BF9F-1B2B6A44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328-30F9-423E-8A18-4D8D3FC1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615-965E-4B09-8213-C412E195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116-197B-435B-9A64-40429622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D05-5EF4-42AC-89DD-0332BC4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366-B898-4C74-A9E7-98FDDDED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936-062C-4947-B39E-847812E7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88D-C798-42EA-80C7-39A1DFB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351-62F8-4B2B-8847-A4424FBF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F35-A7EA-4B74-AF38-89ED177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D18-315D-4F4B-A0E5-C3EE200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373-DBD0-4288-857B-F241C90C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E8AA-5BDE-41BA-A3BA-43AE3C403B4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italia.rai.it/" TargetMode="External"/><Relationship Id="rId2" Type="http://schemas.openxmlformats.org/officeDocument/2006/relationships/hyperlink" Target="http://www.italiano.rai.i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Linee%20guida%20A1%20e%20A2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I%20prot.%20n.%20716_3.2.2014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illabo%20A2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dempimenti previsti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l decreto del Ministero dell’Interno 4 giugno 2010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l DPR 179/2011 artt. 3 e 6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rispettivi Accordi Quad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4382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USR Camp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1 novembre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UR –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inister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dell’Intern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7 agost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sessioni di formazione civica e di in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svolgono presso i C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nno una durata di 10 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chiedono 2 docenti per attività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coglienza e asco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ttazione, ricerca e documen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noscenz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ncipi fondamentali della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izzazione e funzionamento delle istituzioni pubbliche in It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an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rvizi soc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bblighi fis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noscenz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ritti e doveri degli stranieri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coltà e obblighi inerenti al soggi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ritti e doveri reciproci dei coniu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veri dei genitori verso i figli secondo l’ordinamento giuridico italiano, anche con riferimento all’obbligo di istr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incipali iniziative a sostegno del processo di integrazione degli stranieri a cui egli può accedere n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ritorio della provincia di resid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sulla normativa di riferimento in materia di salute e sicurezza su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Organizzazione delle ses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urata di 10 ore strutturata in più incontri in base alle esi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rutturazione modulare (es.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° gior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ccoglienza e registrazione dei partecipanti; introduzione; filmato; informazioni; filmato; interazione; pausa; informazioni; filmato; interazione; sintesi e feedback; firme in usci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° gior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……; assaggio di lingua e cultura; le risorse e i corsi in funzione dell’Accordo di integrazione; cartelli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erca di strumenti e materiali; allestimento degli sp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ogl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co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cu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roget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involgimento dei partecip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luralità di canali di comun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fronto inter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magini e materiali per arricchire 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llestimento degli spa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versificare il setting durante le 10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cogl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ruizione dei film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vers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vori di gruppo/a cop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rrazioni biogra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stimonianze attive di immigrati con esperienza di vita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rumenti e materi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rtellina in più lingue con materiali ut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info locali: indirizzi, recapiti, siti internet; risorse relative ai contenuti trattati: brevi sintesi, parole-chiave, opuscol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ateriale autentico portato dagli strani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Personale coinvo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centi, con particolari competenze linguistiche e comunic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diatori professionali linguistici e/o cultu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diatori non professionali / “autentici” (studenti o ex studenti del C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laboratori scolastici attenti all’accogl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compagnatori degli stranieri frequentanti la sessione (con le dovute caute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peratori dei servizi e delle istituzioni locali (medici, assistenti sociali, referenti dei patronati, forze dell’ordin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Materiali e sussidi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 moduli di apprendimento (DVD) di un’ora ciascuno in 19 li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roduzione (Accordo di integrazione; percorso form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: Costituzione; dati sull’Italia;Unione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: visto; permesso di soggiorno; cittadinanza; codice della str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: lavoro; sanità; assistenza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: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: la città; la casa; la vita quoti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ee g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italia.rai.i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sezione “Orientarsi nella cittadinanz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grande portale della Lingu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taliano.rai.i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Materiali e sussidi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447920"/>
            <a:ext cx="86104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48320" indent="1650600">
              <a:spcBef>
                <a:spcPts val="499"/>
              </a:spcBef>
              <a:tabLst>
                <a:tab algn="l" pos="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www.initalia.rai.it/costituzioneitaliana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8320" indent="1650600">
              <a:spcBef>
                <a:spcPts val="349"/>
              </a:spcBef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con rimando al sito del Quirin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48320" indent="1650600">
              <a:spcBef>
                <a:spcPts val="40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8320" indent="1650600">
              <a:spcBef>
                <a:spcPts val="400"/>
              </a:spcBef>
              <a:tabLst>
                <a:tab algn="l" pos="0"/>
              </a:tabLst>
            </a:pPr>
            <a:r>
              <a:rPr b="1" lang="it-IT" sz="1600" spc="-1" strike="noStrike" u="sng">
                <a:solidFill>
                  <a:srgbClr val="92d050"/>
                </a:solidFill>
                <a:uFillTx/>
                <a:latin typeface="Arial"/>
              </a:rPr>
              <a:t>http://www.italiano.rai.it/categorie/la-costituzione-italiana/508/1/default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8320" indent="1650600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8320" indent="1650600">
              <a:spcBef>
                <a:spcPts val="499"/>
              </a:spcBef>
              <a:tabLst>
                <a:tab algn="l" pos="0"/>
              </a:tabLst>
            </a:pPr>
            <a:r>
              <a:rPr b="1" lang="it-IT" sz="2000" spc="-1" strike="noStrike">
                <a:solidFill>
                  <a:srgbClr val="4597a0"/>
                </a:solidFill>
                <a:latin typeface="Arial"/>
              </a:rPr>
              <a:t>http://www.arcobalenoweb.org/documenti/materiali-didattic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an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http://www.salute.gov.it/portale/documentazione/p6_2_5.jsp?lingua=italiano&amp;area=Assistenza%20sa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pieghevole ‘’Salute: un diritto per tutti’’ e opuscolo “InformaSalute”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M 4.6.2010 art. 2 c. 2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Disposizioni sulla conoscenza della lingua italia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l fine della verifica della conoscenza della lingua italiana, conforme al livello indicato al comma 1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2 del QCER nd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, lo straniero effettua un apposito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test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, secondo le modalità indicate dall'art.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PR 179/2011 art. 3 c. 1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Sessione di formazione civica e di informaz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o straniero partecipa gratuitamente alla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sessione di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civica e di informazione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sulla vita civile in Italia di cui all'articolo 2, comma 6, entro i tre mesi successivi a quello di stipula dell'accordo (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PR 179/2011 art. 6 c. 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Verifica dell’Accor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Un mese prima della scadenza del biennio di durata dell'accordo, lo sportello unico ne avvia la verifica previa comunicazione allo straniero ed invitandolo a presentare, entro quindici giorni, qualora non vi abbia già provveduto, la documentazione necessaria ad ottenere il riconoscimento dei crediti e la certificazione relativa all'adempimento dell'obbligo di istruzione dei figli minori (….) Lo sportello unico informa, altresì, lo straniero della facoltà, in assenza di idonea documentazione, di far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accertare il proprio livello di conoscenza della lingua italiana, della cultura civica e della vita civile in Italia attraverso un apposito test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svolto gratuitamente (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Materiali e sussidi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www.arcobalenoweb.org/documenti/materiali-didattici/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opuscolo “Le parole che accolgono”;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www.integrazionemigranti.gov.it/Pagine/default.as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sezioni: lingua italiana, lavoro, casa, salute, minori stranieri, mediazione intercultu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http://www.italiano.rai.it/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ezione “Iniziative territoriali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i territoriali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Abruzzo: “Pillole multimedia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Toscana: Brochure in 9 lingue “Rete e Cittadinanz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Umbria: 5 modul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Veneto: 5 mod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162920" y="37339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Materiali e sussidi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aveneto.i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seguenti materiali per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sessioni di formazione civica e di inform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filmati originali forniti dal Ministero dell’Inter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versione lunga orig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filmati originali forniti dal Ministero dell’Inter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versione rido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telline in lingua con tanti materiali per l’accogli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ffale di documenti uti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 registra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erta la pagina del sito  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daveneto.it/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deve effettuare la registrazione per l’accesso al portale cliccando sulla destra poiché i materiali della sessione sono riservati a differenza d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ranno recapitate una prima e una seconda e-mail per perfezionare la registr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sito, scegliere il menù a tendina “Formazione civica” per scaricare i mater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ifica dell’Accordo di integrazion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a lo straniero e lo Stato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PR 179/2011 art. 6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st è articolato in 2 sezioni e si svolge in un’unica gior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se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onoscenza della lingua italiana di livello A2 del QCER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Vademe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I se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onoscenza della cultura civica e della vita civile in Itali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dei criteri per lo svolgimento del test di conoscenza della cultura civica e della vita civile in Ita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Il test è sostenuto in forma orale sotto forma di colloquio e dura dai 7 ai 10 mi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EMP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Materiali per la realizzazione del test di conoscenza della cultura civica e della vita civile in Italia proposti dai CPIA di Forlì e di Cese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ww3.istruzioneer.it/category/ida/page/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odalità alternative a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2 del QCER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M 4.6.2010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2 del QCER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conoscenza della lingua italiana, della cultura civica e della vita civile in Ital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PR 179/2011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estato di conoscenza della lingua italiana di livello di conoscenza non inferiore al livello A2 del QCER rilasciato dagli Enti certif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guimento, 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 termine della frequenza di un corso presso il CT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di un titolo che attesta il raggiungimento di un livello di conoscenza della lingua italiana non inferiore al livello A2 del QCER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Linee guid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per i percorsi di alfabetizzazione e di apprendimento della lingua italian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Linee guid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per la sessione di formazione civica e di informazione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guimento del diploma di scuola secondaria di primo grado presso un istituto scolastico appartenente al sistema italiano di 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zioni favoriscono e incoraggian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‘’modalità alternative’’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ediatament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ima della somministrazione del 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evidenziare che se non superato, è possibile ripetere il test dop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90 gior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nistero Interno 716 del 3.2.2014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ppu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requentare un corso di italiano L2 presso il C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urante la sessione di formazione civica e di inform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è opportuno fornire tutte le informazioni relative all’offerta formativa dei C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esso le Prefettu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durante la fase di sottoscrizione dell’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ccordo di integrazione tra lo straniero e lo Sta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opportuno fornire tutte le informazioni relative all’offerta formativa dei CP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47920" y="990720"/>
          <a:ext cx="5867280" cy="457200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1287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media dei promossi negli anni 2011-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amp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6" name="CasellaDiTesto 1"/>
          <p:cNvSpPr/>
          <p:nvPr/>
        </p:nvSpPr>
        <p:spPr>
          <a:xfrm>
            <a:off x="2985120" y="2728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M 4 giugn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2"/>
          <p:cNvSpPr/>
          <p:nvPr/>
        </p:nvSpPr>
        <p:spPr>
          <a:xfrm>
            <a:off x="2985120" y="57834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dia dei 5 anni: 91,4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st DM 4.6.2010 – anno 2015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egnaposto contenuto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st DM 4.6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3 f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labor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ultare il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llabo A2 del QC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laborato dagli Enti certificato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mministra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dere e redigere a priori l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struzioni per la somministrazione delle pro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fine di assicurare le medesime condizioni a tutti coloro che si sottopongono al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elicatezza di questa fase richiede professionalità e rigore, comportamenti coerenti e sistematici e uniformità di giudiz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ssione di formazione civica e di informazion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PR 179/2011 art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 Lo straniero partecipa gratuitamente alla sessione di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vica e di informazione sulla vita civile in Italia di c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articolo 2, comma 6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tro i tre mesi successivi a quell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ipula dell'accord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La sessione h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urata non inferior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inque e non superiore a dieci o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prevede l'utilizzo di 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sussi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adotti nella lingua indicata dallo stranie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se ci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è possibile, inglese, francese, spagnola, araba, cine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banese, russa o filippina, secondo la preferenza ind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ll'interes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Finalit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 2, comma 4, lett. b) acquisire una sufficiente conoscenza dei principi fondamentali della Costituzione della Repubblica e dell'organizzazione e funzionamento delle istituzioni pubbliche in 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 2, comma 4, lett. c) acquisire una sufficiente conoscenza della vita civile in Italia, con particolare riferimento ai settori della sanità, della scuola, dei servizi sociali, del lavoro e agli obblighi fis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 3, comma 2) acquisire le informazioni sui diritti e i doveri degli stranieri in Italia, sulle facolta' e gli obblighi inerenti al soggiorno, sui diritti e doveri reciproci dei coniugi e sui doveri dei genitori verso i figli secondo l'ordinamento giuridico italiano, anche con riferimento all'obbligo di i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21:28:25Z</dcterms:created>
  <dc:creator>Calise Maria Luisa</dc:creator>
  <dc:description/>
  <dc:language>en-US</dc:language>
  <cp:lastModifiedBy>Administrator</cp:lastModifiedBy>
  <cp:lastPrinted>2015-11-10T18:10:37Z</cp:lastPrinted>
  <dcterms:modified xsi:type="dcterms:W3CDTF">2015-11-12T12:09:24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