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481-A930-4E70-B5A1-DF1E1629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71A-B7D6-4D1E-B840-610D8969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3BC-7E60-4EE4-ADEB-BC6DCB6A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E3D-29B0-47C2-A9CF-5E53E8AB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ED5-93C6-435D-8DCE-E89B4ECD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FF9-B8F9-4C7C-824E-89EABF91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87D-22FD-4ECB-9E4D-6205E8C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33B-DD29-4031-9B72-AAA2246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B30-C586-424D-9C12-40D558D9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FD1-3B00-4813-9674-FF9E517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A42-C938-414E-BBC8-4F3FB1C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AC5-87FC-44C0-BA13-4E46F0AC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195E-4B27-479A-B97B-D9F7A9F0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353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'Organo di Garanzia (OG) di istit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428-D486-452D-B015-2C84364997FF}" type="slidenum">
              <a:rPr b="0" lang="it-IT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è composto 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 docenti, eletti dal Collegio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 studenti (di cui 1 del biennio e 1 del triennio eletti separat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 genitore, eletto dal Comitato Genito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 rappresentante del personale non doc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 presidente coincidente con il Dirigente scolastico con la funzione di mediare tra le diverse compon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l'irrogazione delle sanzioni alle lettere f) e g) e per i relativi ricorsi si applicano le disposizioni di cui all'art. 328, commi 2 e 4, del D.Lgs. 16 aprile 1994, n.2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ro le sanzioni disciplinari diverse da quelle sopra individuate è ammesso ricorso da parte degli studenti entro quindici giorni dalla comunicazione della loro irrogazione all'organo di garanzia interno alla scuola costituito a norma dell'art. 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provvedimenti decisi dall'organo collegiale preposto comportano l'instaurarsi di una procedura aperta da una breve istruttoria a porte chiuse dell'organo disciplinare e seguita dall'audizione dello studente nei cui confronti l'organo proce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aurita questa fase l'organo di disciplina torna a riunirsi a porte chiuse e decide sulla sanzione da commin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 decisione è subito comunicata allo studente interessato che, ammesso dinanzi a tale organo, può chiedere la commutazione della sanzione ai sensi dell'art. 6.2 del presente regol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tale eventuale richiesta decide in via definitiva l'organo di disciplina, che renderà tempestivamente note le sue conclusioni all'interessa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'OG interviene nelle sanzioni disciplinari (diverse dalle sospensioni) e nei conflitti in merito all'applicazione del Regolamento di Istituto, su richiesta di chiunque ne abbia intere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funzioni dell'OG son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o sull'applicazione del Regolamento (tramite interviste, questionari, statistiche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i eventuali modifiche/integrazioni (a seguito delle indagini effettu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zione/mediazione in caso di conflitto fra le par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zione sul Regolamento di Istituto (distribuzione di materiali, controllo sull'efficacia degli interventi informativ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nza agli Organismi di Disciplina dei Consigli di Classe nella definizione delle sanzioni sostitu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nza agli studenti che subiscano un provvedimento di allontanamento dalla scuola (sospensione) durante e dopo il provvedimento stesso (art. 4, comma 8 dello Statu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rio con l'Autorità Giudiziaria in caso si renda necess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ricorso all'OG avviene entro 15 giorni dall'irrogazione della sanzione e può essere inoltrato da parte dello studente o da chiunque ne abbia interes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o di ricorso o di conflitto l'OG convoca preliminarmente le parti in causa per permettere loro di esporre il proprio punto di vista; qualora lo ritenga opportuno, può consultare un esperto anche esterno alla scuo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 scopo primario dell'OG è quello di arrivare ad una mediazione soddisfacente per le parti in causa; nel caso ciò non sia possibile, l'OG elabora una risoluzione a cui le parti si devono attene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ecisione viene verbalizzata e pubblicizzata mediante l'affissione in un apposito spaz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'OG si riunisce obbligatoriamente nei mesi di ottobre, febbraio e maggio per procedere all'attività di valutazione del funzionamento del Regolamento secondo le modalità prestabilite. Le riunioni dell'OG devono almeno prevedere la presenza di 4 eletti (tra cui almeno 1 studente) per avere validità legale. Le decisioni all'interno dell'OG vengono prese a maggioranza o per consenso, a discrezione dell'OG stesso. L'OG ha diritto, qualora ne faccia richiesta, ad avere una formazione specifica e/o una supervisione di esperti su temi attinenti la propria funzione (ad esempio: la risoluzione dei conflitti, la negoziazione, la normativa scolastica..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57:37Z</dcterms:created>
  <dc:creator>M.I.U.R.</dc:creator>
  <dc:description/>
  <dc:language>en-US</dc:language>
  <cp:lastModifiedBy>Vodafone</cp:lastModifiedBy>
  <dcterms:modified xsi:type="dcterms:W3CDTF">2009-02-24T17:10:21Z</dcterms:modified>
  <cp:revision>5</cp:revision>
  <dc:subject/>
  <dc:title>Diapositiva 1</dc:title>
</cp:coreProperties>
</file>