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093-949E-45E8-B4BE-C96BB1F8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2B2-65B6-49DA-A0A6-12BB6D4D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5F8-6C29-4986-AE7B-1718DBE0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5C6-1E10-4011-A30C-8ED2760C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0E7-8742-4D5C-882F-CC728FC1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96D-09F3-40AC-833D-EABFEAC6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120-6C97-42A3-8101-7B213CE5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F5D-5278-4E4B-B820-4B352409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BA2-18A2-4118-8D6F-43E1EAF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F21-EA0B-4ED8-98CF-733919FC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216-45EA-4E67-B598-20499269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2B6-1BE8-433E-A800-A38CC6E0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4F48-F5BE-43C4-A785-05B62427D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 cos'è la consu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nsulta provinciale degli studenti – CPS – è un organismo istituzionale di rappresentanza studentesca su base provinc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È composta da due studenti per ogni istituto secondario superiore della provi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rappresentanti che la compongono sono eletti da tutti i loro compagni della scu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PS hanno una sede appositamente attrezzata messa a disposizione dall’Ufficio Scolastico Provinciale di competen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gono di fondi propri che possono essere spesi solo dagli studenti che la compongono. La quota prevista è almeno il 7% dei fondi provinciali destinati alle scuole per le attività degli studenti in base ai D.P.R. 567/96, D.P.R. 156/99, D.P.R. 105/2001 e il D.P.R. 301/05, pari a circa 35-40 milioni all’anno per una CPS di medie dimensioni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ni CPS si dota di un proprio regolamento e si riunisce con frequenza regol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funzioni delle consulte sono:</a:t>
            </a:r>
            <a:br>
              <a:rPr sz="24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 assicurare il più ampio confronto fra gli studenti di tutte le scuole superiori;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 ottimizzare ed integrare in rete le attività extracurricolari;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 formulare proposte che superino la dimensione del singolo istituto;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 stipulare accordi con gli enti locali, la regione e le associazioni, l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organizzazioni del mondo del lavoro;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 formulare proposte ed esprimere pareri all’USP, agli enti locali competent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e agli organi collegiali territoriali;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 istituire uno sportello informativo per gli studenti, con particolare riferiment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alle attività integrative, all’orientamento e all’attuazione dello Statuto dell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studentesse e degli studenti;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 progettare, organizzare e realizzare attività anche a caratte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transnazionale;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 designare due studenti all’interno dell’organo provinciale di garanzi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istituito dallo Statuto delle studentesse e degli studenti (art.5, comma 4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GLIO NAZIONALE 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103 Presidenti delle consulte si riuniscono periodicamente in Consiglio nazionale, dove hanno l’opportunità di scambiarsi informazioni, d’ideare progetti integra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scutere dei problemi comuni delle CPS e di confrontarsi con il Ministro dell’Istruzione formulando pareri e propo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po 10 anni di lavoro le consulte hanno realizzato numerose attività, co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 convegni nazionali, provinciali e region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giornata nazionale dell’arte e della creatività studentesca in tutte le province italiane nella prima settimana di magg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missioni televisi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ornali studenteschi provinciali e nazion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si di formazione per gli studenti e i loro rappresentanti sulle politiche giovani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artecipazione all’elaborazione dei piani di dimensionamento delle scuole a livello provinci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vità di educazione alla pace e di solidarietà internazion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uazione dello Statuto delle Studentesse e degli Studenti (D.P.R. 249/98 modificato dal D.P.R. n. 235 del 21 novembre 2007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4358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e di progetti per le attività integrative e complementari (D.P.R. 567/9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ito all’attivazione degli Organi di Garanzia e alla designazione degli studenti al loro inter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elli informativi e di servizio per gli studen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urato un dialogo con gli Enti Locali e le Amministrazioni Perifer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ito alla promozione e all’approvazione di leggi regionali per il diritto allo stud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zato attività e iniziative di promozione e utilizzo dei nuovi linguaggi e delle nuove tecnolog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ito a stimolare il coinvolgimento degli studenti nell’elaborazione dei Piani dell’Offerta Forma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zato campagne di prevenzione contro le drog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to concorsi per gli studen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osi pareri delle CPS sono stati accolti dal ministero, ad esempio su: lo Statuto delle studentesse e degli studenti, le modifiche del D.P.R. 567/96, l’autonomia scolas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modifiche degli organi collegiali e il progetto di rappresentanza studentesca nazi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0:22:06Z</dcterms:created>
  <dc:creator>M.I.U.R.</dc:creator>
  <dc:description/>
  <dc:language>en-US</dc:language>
  <cp:lastModifiedBy>M.I.U.R.</cp:lastModifiedBy>
  <dcterms:modified xsi:type="dcterms:W3CDTF">2009-02-04T10:40:06Z</dcterms:modified>
  <cp:revision>3</cp:revision>
  <dc:subject/>
  <dc:title>Diapositiva 1</dc:title>
</cp:coreProperties>
</file>