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5254-82E4-4693-8F44-25C391239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B5D5-8B2C-4B0B-8BB8-186F7414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A1C8-0C1B-4B27-8701-30816C187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EF66-C637-4297-9A6B-68AA96D15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0773-E262-4A33-98EA-81022688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22FD-7CD6-4385-9F4B-8C028A6E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18C7-8AA2-41DA-8E39-9061BC43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C7D0-4D53-4EE8-A21B-CECD230A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DCB6-A483-4DE1-81E7-DAC5F0F2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1FFF-D32E-47AD-AB25-67D354A9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C06B-20AF-4B5E-95DF-71B56809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A0AF-EE75-47B4-801C-52F2D43A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B75A-4FD3-4634-80D1-5C5FD4017C93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Arial"/>
              </a:rPr>
              <a:t>Ministero dell’Istruzione, Università e Ricer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Arial"/>
              </a:rPr>
              <a:t>Ufficio Scolastico Regionale per la Campania</a:t>
            </a:r>
            <a:r>
              <a:rPr b="0" lang="es-E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66"/>
                </a:solidFill>
                <a:latin typeface="Arial"/>
              </a:rPr>
              <a:t>Direzione Generale</a:t>
            </a:r>
            <a:r>
              <a:rPr b="0" lang="es-ES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733920" y="228600"/>
            <a:ext cx="1400040" cy="1400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3581280"/>
            <a:ext cx="91440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66"/>
                </a:solidFill>
                <a:latin typeface="Arial"/>
              </a:rPr>
              <a:t>AZIONI PER LA PREVENZIONE DELLA</a:t>
            </a:r>
            <a:r>
              <a:rPr b="1" lang="es-E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8000" spc="-1" strike="noStrike">
                <a:solidFill>
                  <a:srgbClr val="000066"/>
                </a:solidFill>
                <a:latin typeface="Arial"/>
              </a:rPr>
              <a:t>DISPERSIONE SCOLASTICA</a:t>
            </a:r>
            <a:r>
              <a:rPr b="0" lang="es-ES" sz="4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10666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Arial"/>
              </a:rPr>
              <a:t>Ufficio Scolastico Regionale per la Camp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038480" y="76320"/>
            <a:ext cx="1095480" cy="990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09480" y="1905120"/>
            <a:ext cx="4267440" cy="1752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Arial"/>
              </a:rPr>
              <a:t>AZIONI PER LA PREVENZIONE DELLA DISPERSIONE SCOLASTIC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038480"/>
            <a:ext cx="91440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66"/>
                </a:solidFill>
                <a:latin typeface="Arial"/>
              </a:rPr>
              <a:t>GRUPPO DI LAVO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"/>
              </a:rPr>
              <a:t>AVELLINO – Prof. Adriana Troisi -  tel 0825 2092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"/>
              </a:rPr>
              <a:t>BENEVENTO – Prof. Emilia Tartaglia Polcini – t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"/>
              </a:rPr>
              <a:t>CASERTA – Prof. Maria Grazia Guarino – tel. 0823 2482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"/>
              </a:rPr>
              <a:t>NAPOLI – Dir. scol. Enrichetta Idato – tel. 081 2449534            Prof.  Vincenzo D’Onofrio – tel. 081 24495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"/>
              </a:rPr>
              <a:t>SALERNO – Prof. Maurizio Ugo Parascandolo</a:t>
            </a:r>
            <a:r>
              <a:rPr b="1" lang="it-IT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66"/>
                </a:solidFill>
                <a:latin typeface="Arial"/>
              </a:rPr>
              <a:t>–</a:t>
            </a:r>
            <a:r>
              <a:rPr b="1" lang="it-IT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66"/>
                </a:solidFill>
                <a:latin typeface="Arial"/>
              </a:rPr>
              <a:t>tel. 089</a:t>
            </a:r>
            <a:r>
              <a:rPr b="1" lang="it-IT" sz="1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66"/>
                </a:solidFill>
                <a:latin typeface="Arial"/>
              </a:rPr>
              <a:t>7716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486400" y="1828800"/>
            <a:ext cx="304812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66"/>
                </a:solidFill>
                <a:latin typeface="Arial"/>
              </a:rPr>
              <a:t>MONITORAGGIO QUALI-QUANTITATI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66"/>
                </a:solidFill>
                <a:latin typeface="Arial"/>
              </a:rPr>
              <a:t>RACCOLTA INDICAZIONI E PROPOSTE</a:t>
            </a:r>
            <a:r>
              <a:rPr b="0" lang="es-ES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514600"/>
            <a:ext cx="9144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Arial"/>
              </a:rPr>
              <a:t>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PROMUOVERE IL</a:t>
            </a:r>
            <a:r>
              <a:rPr b="1" lang="es-E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000066"/>
                </a:solidFill>
                <a:latin typeface="Arial"/>
              </a:rPr>
              <a:t>SUCCESSO SCOLAST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66"/>
                </a:solidFill>
                <a:latin typeface="Arial"/>
              </a:rPr>
              <a:t>FAVORIRE L’</a:t>
            </a:r>
            <a:r>
              <a:rPr b="1" lang="es-E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" sz="3600" spc="-1" strike="noStrike">
                <a:solidFill>
                  <a:srgbClr val="000066"/>
                </a:solidFill>
                <a:latin typeface="Arial"/>
              </a:rPr>
              <a:t>INTEGRA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76520" y="4343400"/>
            <a:ext cx="5715000" cy="2590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52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Arial"/>
              </a:rPr>
              <a:t>Ufficio Scolastico Regionale per la Camp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838080"/>
            <a:ext cx="9144000" cy="381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AZIONI PER LA PREVENZIONE DELLA DISPERSIONE SCOLAST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80880" y="320760"/>
            <a:ext cx="2362320" cy="1888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151920"/>
            <a:ext cx="6705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UE - 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Strategia di Lisbo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Trasfor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mazione dell’economia </a:t>
            </a: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el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l’Unione Europea in un</a:t>
            </a: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'economia basata sulla conoscenza, (la) più competitiva e dinamica del mondo, in grado di realizzare una crescita economica sostenibile con nuovi e migliori posti di lavoro e una maggiore coesione socia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247680"/>
            <a:ext cx="2514600" cy="18860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3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Quadro Strategico Nazion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Il sistema di </a:t>
            </a: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istruzione e formazione 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è stato incluso fra i </a:t>
            </a:r>
            <a:r>
              <a:rPr b="1" lang="en-US" sz="6000" spc="-1" strike="noStrike">
                <a:solidFill>
                  <a:srgbClr val="000066"/>
                </a:solidFill>
                <a:latin typeface="Arial"/>
              </a:rPr>
              <a:t>servizi essenziali</a:t>
            </a:r>
            <a:r>
              <a:rPr b="1" lang="en-US" sz="5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54100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66"/>
                </a:solidFill>
                <a:latin typeface="Arial"/>
              </a:rPr>
              <a:t>obiettivi di servizi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spcBef>
                <a:spcPts val="16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4191120"/>
            <a:ext cx="0" cy="1371600"/>
          </a:xfrm>
          <a:prstGeom prst="line">
            <a:avLst/>
          </a:prstGeom>
          <a:ln w="57240">
            <a:solidFill>
              <a:srgbClr val="0000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106200"/>
            <a:ext cx="815328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Arial"/>
              </a:rPr>
              <a:t>OBIETTIVI DI SERVIZIO PER L’ISTRUZIO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idurre la percentuale dei giovani che abbandonano prematuramente gli studi dall’attuale 26% al 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idurre la percentuale degli studenti di 15 anni con scarse competenze di lettura dall’attuale 35% al 20% ( prove  PISA- OCSE-Prossima aprile 200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idurre la percentuale degli studenti di 15 anni con scarse competenze di matematica dall’attuale 48% al 21% (Prove PISA- OCSE -Prossima aprile 200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152280"/>
            <a:ext cx="861048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DISPERSIONE SCOLASTICA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IN CAMP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4924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28600" y="914400"/>
            <a:ext cx="8610480" cy="533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66"/>
                </a:solidFill>
                <a:latin typeface="Arial"/>
              </a:rPr>
              <a:t>SCUOLE SECONDARIE DI I° GR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152280"/>
            <a:ext cx="861048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DISPERSIONE SCOLASTICA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ff00"/>
                </a:solidFill>
                <a:latin typeface="Arial"/>
              </a:rPr>
              <a:t>IN CAMP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914400"/>
            <a:ext cx="8610480" cy="533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66"/>
                </a:solidFill>
                <a:latin typeface="Arial"/>
              </a:rPr>
              <a:t>SCUOLE SECONDARIE DI II° GR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Arial"/>
              </a:rPr>
              <a:t>Ufficio Scolastico Regionale per la Camp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990720"/>
            <a:ext cx="9144000" cy="380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AZIONI PER LA PREVENZIONE DELLA DISPERSIONE SCOLAST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981080"/>
            <a:ext cx="91440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66"/>
                </a:solidFill>
                <a:latin typeface="Arial"/>
              </a:rPr>
              <a:t>SCHEDA DI RILEVAZIONE D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Arial"/>
              </a:rPr>
              <a:t>ANAGRAFICA DELLA SCUOLA (O PLESS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"/>
              </a:rPr>
              <a:t>(DISTRETTO-COMUNE-CODICE MECC.-DENOMINAZI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Arial"/>
              </a:rPr>
              <a:t>SITUAZIONE DELLE CLA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"/>
              </a:rPr>
              <a:t>(ISCRIZIONI-RITIRI-ABBANDONI-NON PROMOS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Arial"/>
              </a:rPr>
              <a:t>INIZIATIVE IN CORSO O PROGET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"/>
              </a:rPr>
              <a:t>(TARGET-TIPOLOGIA-RISORSE-OBIETTIV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Arial"/>
              </a:rPr>
              <a:t>INIZIATIVE DEI DUE ANNI PRECED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"/>
              </a:rPr>
              <a:t>(TARGET-TIPOLOGIA-RISORSE-OBIETTIVI-RISULTA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Arial"/>
              </a:rPr>
              <a:t>Ufficio Scolastico Regionale per la Camp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914400"/>
            <a:ext cx="9144000" cy="3808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AZIONI PER LA PREVENZIONE DELLA DISPERSIONE SCOLAST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828800"/>
            <a:ext cx="91440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ROPOSTE DELLE SCUOLE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PER UN PROGRAMMA DI </a:t>
            </a: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INTERVEN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A DIMENSIONE </a:t>
            </a: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ERRITORIA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BIENNIO 2009-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CONTENUTI – ATTORI – OBIETTIVI STRUMENTI – RISOR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.I.U.R.</cp:lastModifiedBy>
  <dcterms:modified xsi:type="dcterms:W3CDTF">2008-11-28T08:19:51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