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172-4CF0-44B5-B9A8-9106DF30CFB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A73-ABC4-4BA7-82BB-4B6C123057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76E-E479-4A5F-9F0F-5309441207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60BB-BF26-43F7-90B9-8656EC68CEC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2F67-B42D-47E3-B6F3-E29C2563CB9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29F-761B-4F6E-BBF9-EC84264EF6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7126-6CB7-4A37-A0B6-BA2B8C1B2DB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8631-79BE-4CEB-942D-7385730C3E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1CC-89B6-4989-9FE1-D551E5E7E8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09F-FBFE-40C0-836C-D056B83B38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9DBD-6DA5-469C-B4C4-DED6D7BAC1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2D2-CA1E-4471-BD36-043FFE8FF9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B447-0B16-48B1-A182-837DEB5AC53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2610-01F0-44FE-A551-E9EB17084AA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23FB-EB26-494D-8785-C72A62A145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E0D-155E-41DC-AF03-22D92268D13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27C-08A8-434A-AFC6-C8842952772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18C1-0C4D-4DE3-A77F-609CA9ACB66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0992-196E-456B-B738-7F970FC172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1E86-C670-4BBB-9402-6F53A143B9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72D-95E2-49E1-9CF7-8BE5F12320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357B-F469-4A67-B364-B1B88529337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26B-A5DF-4CE6-9346-C35199ADBA2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6E17-9B43-4636-9391-17BF90D99F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BDBC-69B4-463A-A044-E3CE0296501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B4F-14F9-421B-9863-63C8A2B2702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B4D-26BB-42C4-BD44-7910BDA869A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4155-442E-4C77-923E-F93244BD0E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92A1-0E00-4F1E-AFDD-AD0184FA0D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630-3108-4C3E-8486-76E810BEB6A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BBDA-78D0-4A39-B0DE-EA5875255A3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859-C434-4766-89E3-02E492E211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BB0-66B6-46DE-8234-1B320583877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3016-4E40-4496-82FB-765639C3FF5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4BF6-7F69-45B2-993C-661F170FF81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C9BB-2AEA-496C-BD67-DD602F1E51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396-6BB2-4865-A126-16D80474C2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2A0-B826-4C60-AA03-855FF89F3A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367-8FEA-4CA7-A903-882AA67208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F2C-2E3F-4BDD-B414-87FBC26DD86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2565-0838-4CBA-89E3-A0EBCF70EF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AD6-D84E-4203-9EFC-957063B69BD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07F-CD38-42F5-83A7-7223FB9F37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5B36-0AD7-4920-AE41-02B9CA26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260D-C683-4A25-9F9E-ABB188B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5A84-C21E-4D3D-9DAE-28B47D9F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20B0A-CB00-488C-B8A3-E169B38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DB3BB-AD23-43E4-86A0-7A6448A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9A30F-9AC1-4106-B7E0-6924BDA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70088-A4CF-4D9B-AA01-BE3ACA18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F3C63-04D4-454F-82B3-AB148D9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18D42-69C9-4B52-8D56-55A7DBA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BC63A-E9C8-4A41-AEB6-DFF01BC2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1E0F3-DCE2-47AC-A9EC-EC873CE5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539F-828A-489F-B14A-A9555363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5766-C42B-40DF-A080-97CA46DE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4D1E-50B2-462B-992E-F45E0377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B4D7-7373-478A-89DB-9D5E890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BCC2-93A5-4549-A988-1629D5C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D4D8-BFC5-4070-8E12-7DC00BE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8034-7C87-4E69-9B45-A1364E47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0B5E-A522-4595-A36B-20FD671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1FE8-4903-439A-BF77-7F06AEB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A536-B670-4EEA-B4F6-75A90941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0454-3553-4BF5-AD7E-DB1F608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6BE6-109D-46A2-9243-8CCA0C3E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F4C1-96C0-4E46-AE26-8C3CA599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160C-1754-4440-850C-43FF6DDB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30E-07E0-4219-B198-437FB485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33CA-667B-44C1-8539-5B0F6717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E314-F3AD-4337-87FC-C9201F4D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15B9-0A0C-41ED-9ACF-9110CFAD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4F81-9DA7-4348-B708-33CC702F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FA55-98D6-4A52-86F9-63A6FC7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8478-264F-4EB2-BB95-7D53DD3D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88D3-6EE2-4E0D-99BB-DD880D74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FFB0-BE6E-41A6-B557-8145F28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13F1-7BCD-4D22-84A5-56722B4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71CE-CC4A-45D8-9AB5-65FD469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E930-679E-4B94-A5C3-1EBE46F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E6F1-3A80-446D-8AEC-3C0B4F64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2CD5-2097-4CF7-B9DE-4275C67B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5FE4-3EF3-499C-A1B3-7C39132C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F14D-EDAD-4984-BC37-F97C2A08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A974-72EB-4C8B-A989-50BCA2E1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AC26-9008-4793-8020-FC1FD2D4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08C0-F882-4489-9AB3-E9F018C8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68E3-C26D-4276-A5B9-EA8C6E7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B04F-AAFA-49DC-A041-90D64346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098C-5362-4714-B546-2786E698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AA23-BED7-45A5-BB7C-D779E82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2D43-A4CE-4194-9A0D-FE49CEE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CD90-6E1E-431D-80F6-AA82AB79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8F13-C4AA-49D6-97AB-89065EAC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65D0-449B-4FFA-AFF8-A24D6D8C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D2C3-85B9-40A5-BD89-D47B115D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9954-F482-4882-A459-010214D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07B26-2D26-43C9-9C86-7EA73F4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E024-F1B4-45B3-8313-A03BBC6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94C0-9550-4259-9B23-55B4A3F1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E826F-1638-4811-9966-3CA310A7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2C70B-23E6-4464-987C-6B03C0C5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B099-5A59-49FA-BCFD-2EBF4CE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504C-45BA-4FB4-B981-DA9174A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DFC3D-0D09-46C3-84C0-24E8BA82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FED3-4102-4C66-BDDE-BEF45DF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DAA4-0FC3-4B17-920B-DB7F7194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01BE-6C4B-42CF-A82A-CE74746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BB19-66A4-4FDF-B1FD-01BA8A04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E4F15-1D95-4622-9912-480D5E83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2A69-C94B-45CD-9724-3A94AA24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622B-D1FE-460F-AC3C-0D4897DC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17FB-746D-419D-AFA5-6E950593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D5BA-1E19-4B4F-8A9C-F2B5CCFC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3747-B1D0-42CB-8862-55FE002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F02F-BEE0-470C-BE26-A6DBB48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831F-95C4-4228-AD64-912CF19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6329C-4B1F-4D2F-A527-13FB4F73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96DD-4CB6-4E32-9E55-8A41CB8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B9DC-DC18-4BD2-B2FD-857530E1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ACBC-5730-46F4-A119-A0535F35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D21E-B684-4E00-958E-52F4F237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8AA35-E380-480B-84DE-DC7AB0B3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B93F-C744-417F-8774-37A0C76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22F3-B302-48CC-98AF-6F31239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181EC-F1B5-49A8-86BF-3B0EFD3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CF380-0EC7-4724-BC36-82A2B54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7BCC5-3FE2-4E47-82F5-C6008D65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8B496-A86A-465D-B2A1-5A2904D5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A54A-DF54-423A-ABFC-2486AB2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495D5-D965-4428-AB89-4879BC1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4F2D-1546-416E-9D1F-8F12F02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7C87-7362-459B-A1C2-1F4B420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9F57-D644-4772-A4FF-A51348CA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98A7-7BC2-4458-B411-6DD6454D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B98E-717E-4587-8404-02A96809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2A2C7-D123-459B-B134-B28A871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BC727-67C7-4351-AE73-CE9E3DBF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560C4-1039-428E-A42D-5C19D7ED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B9360-3B8D-428F-8EDD-7C8E451A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9831-49FB-46B5-A06E-60229A9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87C5-9D58-4C1A-8554-C424F33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9B451-7531-4412-9ADB-15A8D13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0743-9783-45D4-90D4-59DC751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0BFC-3361-4BB5-B3C3-0C074F2C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5AF3-3879-43A1-88B5-9E13957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05238-BCAA-44D9-9FB7-12FE2A3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CD85-67D1-44C1-92BC-80081B99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8580-71B6-4632-9D14-BB9DEB5D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38A09-664C-4643-850B-D764570B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4FAD5-7D71-4D3E-A2C9-EDDABE06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DF06-8B3D-4795-B98D-282F382FB4F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613D-58D4-440D-B191-A9AE17F2760D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83D-5FB6-4122-AB08-A6A46013D11C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A0AF-9E11-4F39-8E42-556B8BC253DE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56D2-CD09-46FC-B3AF-0A59217BBE3B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FD3A-3F71-4F9A-B094-A03607E0D84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0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3" name="Gallone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Gallone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36A-D6B0-4151-BA5F-217DC918837C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583-6172-4806-B06A-001370B56467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9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12A0-5ED9-4F06-A28B-1B4BDA4A280C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DA6-4A7D-41FB-8D5B-F3AEB7E9D445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8E0E-7FC1-42F5-A95C-101DCDD4ABAA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C49-93C5-4F16-A139-4636CAFC094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7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A564-9D38-4BCE-92E2-678C66D32455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B60-DD6A-4FE9-A0BD-867EC91A2A58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2967-105D-4617-9035-2EE80884790A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9A9C-D838-4DC4-B4A3-4DBEBFDD9EF6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5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Gallone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Gallone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682-8BB5-452C-A086-1FC003022352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EC6-F9FE-4C79-B8D3-59E93EDD22A9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CasellaDiTesto 4"/>
          <p:cNvSpPr/>
          <p:nvPr/>
        </p:nvSpPr>
        <p:spPr>
          <a:xfrm>
            <a:off x="3065400" y="1727280"/>
            <a:ext cx="6078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  <a:ea typeface="Calibri"/>
              </a:rPr>
              <a:t>I nu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600" spc="-1" strike="noStrike">
                <a:solidFill>
                  <a:srgbClr val="ffffff"/>
                </a:solidFill>
                <a:latin typeface="Arial"/>
                <a:ea typeface="Calibri"/>
              </a:rPr>
              <a:t>Licei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3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CasellaDiTesto 5"/>
          <p:cNvSpPr/>
          <p:nvPr/>
        </p:nvSpPr>
        <p:spPr>
          <a:xfrm>
            <a:off x="581040" y="4572000"/>
            <a:ext cx="83455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chema di regolamento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ecante 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“Revisione dell’assetto ordinamentale, organizzativo didattico dei licei ai sensi dell’articolo 64, comma 4, del decreto legge 25 giugno 2008, n. 112, convertito dalla legge 6 agosto 2008, n. 133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it-IT" sz="1400" spc="-1" strike="noStrike">
                <a:solidFill>
                  <a:srgbClr val="ff0000"/>
                </a:solidFill>
                <a:latin typeface="Calibri"/>
              </a:rPr>
              <a:t> licenziato in prima lettura dal Consiglio dei Mini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egnaposto numero diapositiva 2"/>
          <p:cNvSpPr/>
          <p:nvPr/>
        </p:nvSpPr>
        <p:spPr>
          <a:xfrm>
            <a:off x="7340760" y="758016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BA7-4251-4D68-9BB8-D59A25643C0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ttangolo 4"/>
          <p:cNvSpPr/>
          <p:nvPr/>
        </p:nvSpPr>
        <p:spPr>
          <a:xfrm>
            <a:off x="216000" y="1425600"/>
            <a:ext cx="86659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 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scientifico-tecn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 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economico-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9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6FD2-4A8A-4771-B724-F90CC5AFE0B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sellaDiTesto 6"/>
          <p:cNvSpPr/>
          <p:nvPr/>
        </p:nvSpPr>
        <p:spPr>
          <a:xfrm>
            <a:off x="563400" y="428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secondo il Rego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771480" y="912960"/>
            <a:ext cx="72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0000"/>
                </a:solidFill>
                <a:uFillTx/>
                <a:latin typeface="Arial"/>
              </a:rPr>
              <a:t>Licei del nuovo ordin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9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 Box 8"/>
          <p:cNvSpPr/>
          <p:nvPr/>
        </p:nvSpPr>
        <p:spPr>
          <a:xfrm>
            <a:off x="388800" y="1101600"/>
            <a:ext cx="78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Licei si diversificano in rapporto agli approfondimenti specifici che rientrano all’interno d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un’unica cultura liceale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quadri orari dei singoli percorsi liceali presentano l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terie obbligatorie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tutti gli studenti. Ciascuna istituzione scolastica può utilizzare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a quota di autonomia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rafforzare alcune materie o per inserirne di ulteriori scelte dal Repertorio (</a:t>
            </a:r>
            <a:r>
              <a:rPr b="0" i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llegato H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’offerta formativa può essere ulteriormente arricchita attraverso gl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gnamenti facoltativi aggiuntivi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ttivati dalle Istituzioni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55D6-3C7F-47E9-A318-4BE65440171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5213-0F16-4440-8C34-6FE1E6A744B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3"/>
          <p:cNvSpPr/>
          <p:nvPr/>
        </p:nvSpPr>
        <p:spPr>
          <a:xfrm>
            <a:off x="565200" y="398520"/>
            <a:ext cx="782460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allegato H – Repertorio dell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Approfondimenti nelle discipline obbligatorie </a:t>
            </a:r>
            <a:r>
              <a:rPr b="1" lang="it-IT" sz="1400" spc="-1" strike="noStrike">
                <a:solidFill>
                  <a:srgbClr val="002060"/>
                </a:solidFill>
                <a:latin typeface="Arial"/>
                <a:ea typeface="Calibri"/>
              </a:rPr>
              <a:t>oppure ove non previste tra le Attività e insegnamenti obbligatori per tutti gli studenti nelle singole classi, attivazione tra le seguenti discip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Diritto ed econ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Mu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trumento musi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stranier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e cultur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e cultura gr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Discipline audiovi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Tecnologia e dis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toria dell’a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Pedag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Psic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oci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egislazione so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Elementi di Psicologia, sociologia e stati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Informatica e sistemi automa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cienze sociali e metodologia della rice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Fi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cienz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Conversazione con docente di madrelin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Teoria e tecnica della 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596D-E66D-47A1-8391-73F89D3E7BC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1407960"/>
            <a:ext cx="89582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Verdana"/>
                <a:ea typeface="Calibri"/>
              </a:rPr>
              <a:t>	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Per i percorsi liceali la quota oraria riservata alle singole istituzioni scolastiche, determinata nei limiti del contingente di organico ad esse assegnato, e tenuto conto delle richieste degli studenti e delle loro famiglie,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on può essere superiore al 20% del monte ore complessivo</a:t>
            </a:r>
            <a:r>
              <a:rPr b="0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el primo biennio, al 30% nel secondo biennio e al 20% nel quinto anno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, fermo restando che l’orario previsto dal piano di studio di ciascuna disciplina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on può essere ridotto in misura superiore a un terzo nell’arco dei cinque a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1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CasellaDiTesto 6"/>
          <p:cNvSpPr/>
          <p:nvPr/>
        </p:nvSpPr>
        <p:spPr>
          <a:xfrm>
            <a:off x="717480" y="42552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Quote di aut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6337-9E15-4120-BEF1-2F279FFF183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sellaDiTesto 2"/>
          <p:cNvSpPr/>
          <p:nvPr/>
        </p:nvSpPr>
        <p:spPr>
          <a:xfrm>
            <a:off x="142920" y="598320"/>
            <a:ext cx="84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GESTIONE DELLA QUOTA DI AUTONOMIA ATTRAVERSO IL SISTEMA INFORMATIVO DEL MI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CasellaDiTesto 4"/>
          <p:cNvGrpSpPr/>
          <p:nvPr/>
        </p:nvGrpSpPr>
        <p:grpSpPr>
          <a:xfrm>
            <a:off x="237960" y="890640"/>
            <a:ext cx="8607600" cy="6028920"/>
            <a:chOff x="237960" y="890640"/>
            <a:chExt cx="8607600" cy="6028920"/>
          </a:xfrm>
        </p:grpSpPr>
        <p:pic>
          <p:nvPicPr>
            <p:cNvPr id="517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237960" y="890640"/>
              <a:ext cx="860760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60280" y="914400"/>
              <a:ext cx="8566200" cy="60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Per rendere effettiva la possibilità di recepire in organico di diritto le variazioni determinate dall’impiego della quota del 20% e del 30% di autonomia riservata alle singole Istituzioni Scolastiche verrà assicurata la seguente procedura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il Sistema Informativo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del</a:t>
              </a:r>
              <a:r>
                <a:rPr b="0" lang="it-IT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MIUR</a:t>
              </a:r>
              <a:r>
                <a:rPr b="0" lang="it-IT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fornirà l’elaborazione automatizzata degli organici sulla base dei piani orari nazionali standar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le singole istituzioni scolastiche inseriranno le variazioni necessarie a corrispondere al Piano dell’offerta formativa, sia in termini di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compensazion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sia in termini di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inserimento di discipline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(nell’ambito del repertorio di cui all’allegato H), fermi restando il numero delle ore previste dall’ordinamento, le quote di autonomia su richiamate, e il vincolo di non diminuire una disciplina  di più di un terzo nell’arco del quinquennio 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7"/>
          <p:cNvGrpSpPr/>
          <p:nvPr/>
        </p:nvGrpSpPr>
        <p:grpSpPr>
          <a:xfrm>
            <a:off x="8001000" y="142920"/>
            <a:ext cx="1011240" cy="955440"/>
            <a:chOff x="8001000" y="142920"/>
            <a:chExt cx="1011240" cy="955440"/>
          </a:xfrm>
        </p:grpSpPr>
        <p:pic>
          <p:nvPicPr>
            <p:cNvPr id="520" name="Picture 8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169480" y="142920"/>
              <a:ext cx="594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9"/>
            <p:cNvSpPr/>
            <p:nvPr/>
          </p:nvSpPr>
          <p:spPr>
            <a:xfrm>
              <a:off x="8001000" y="761040"/>
              <a:ext cx="101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0E27-15C0-4B53-A8A6-DFAE43E8769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asellaDiTesto 2"/>
          <p:cNvSpPr/>
          <p:nvPr/>
        </p:nvSpPr>
        <p:spPr>
          <a:xfrm>
            <a:off x="142920" y="59832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ORGANICO AGGIUN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CasellaDiTesto 4"/>
          <p:cNvGrpSpPr/>
          <p:nvPr/>
        </p:nvGrpSpPr>
        <p:grpSpPr>
          <a:xfrm>
            <a:off x="262080" y="1627200"/>
            <a:ext cx="8613720" cy="5462640"/>
            <a:chOff x="262080" y="1627200"/>
            <a:chExt cx="8613720" cy="5462640"/>
          </a:xfrm>
        </p:grpSpPr>
        <p:pic>
          <p:nvPicPr>
            <p:cNvPr id="526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262080" y="1627200"/>
              <a:ext cx="861372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89080" y="1652760"/>
              <a:ext cx="85658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7d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L’annuale Decreto Interministeriale metterà a disposizione delle scuole  e / o di reti di scuole un  contingente di organico aggiuntivo secondo modalità tecnico-giuridiche di ampliamento degli organic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8001000" y="142920"/>
            <a:ext cx="1011240" cy="955440"/>
            <a:chOff x="8001000" y="142920"/>
            <a:chExt cx="1011240" cy="955440"/>
          </a:xfrm>
        </p:grpSpPr>
        <p:pic>
          <p:nvPicPr>
            <p:cNvPr id="529" name="Picture 8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169480" y="142920"/>
              <a:ext cx="594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9"/>
            <p:cNvSpPr/>
            <p:nvPr/>
          </p:nvSpPr>
          <p:spPr>
            <a:xfrm>
              <a:off x="8001000" y="761040"/>
              <a:ext cx="101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3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CasellaDiTesto 6"/>
          <p:cNvSpPr/>
          <p:nvPr/>
        </p:nvSpPr>
        <p:spPr>
          <a:xfrm>
            <a:off x="384120" y="59364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arico orario per gli stu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0" y="1335240"/>
            <a:ext cx="914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artistico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4 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bienn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5 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trienn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musicale e coreutico</a:t>
            </a:r>
            <a:br>
              <a:rPr sz="3200"/>
            </a:b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(dalla prima alla quinta cla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2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lassico</a:t>
            </a:r>
            <a:br>
              <a:rPr sz="3200"/>
            </a:b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1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i </a:t>
            </a:r>
            <a:r>
              <a:rPr b="1" lang="it-IT" sz="2800" spc="-1" strike="noStrike" u="sng">
                <a:solidFill>
                  <a:srgbClr val="ef033b"/>
                </a:solidFill>
                <a:uFillTx/>
                <a:latin typeface="Arial"/>
              </a:rPr>
              <a:t>scientifico, linguistico, scienze u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0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r>
              <a:rPr b="1" lang="it-IT" sz="1800" spc="-1" strike="noStrike">
                <a:solidFill>
                  <a:srgbClr val="ef033b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3D0C-DABA-485C-BEED-7BFA7C04D6F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189000" y="1210680"/>
            <a:ext cx="8594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I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Calibri"/>
              </a:rPr>
              <a:t>tutti i Lice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viene studiat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obbligatoriament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Calibri"/>
              </a:rPr>
              <a:t>almeno una lingua stran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Calibri"/>
              </a:rPr>
              <a:t>Nel Liceo linguistico, che diventa scuola di ordinamento, si studiano tre lingue stran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È attivabile una seconda lingua straniera in tutti i licei usufruendo  della quota di 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4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CasellaDiTesto 6"/>
          <p:cNvSpPr/>
          <p:nvPr/>
        </p:nvSpPr>
        <p:spPr>
          <a:xfrm>
            <a:off x="417600" y="4665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ngue strani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28760" y="4270320"/>
            <a:ext cx="8092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Nel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iceo classico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fino ad ora lo studio della lingua straniera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era previsto solo nel bien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Nel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iceo artistico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quadriennale non era previsto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o studio della lingua stran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EB0-56C6-4667-8790-16F42A62A12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7"/>
          <p:cNvSpPr/>
          <p:nvPr/>
        </p:nvSpPr>
        <p:spPr>
          <a:xfrm>
            <a:off x="584280" y="1373040"/>
            <a:ext cx="795168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I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tutti i percors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è previsto che, nel quinto anno di corso, una disciplina non linguistica sia studiata in lingua straniera secondo la modalità CL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Un decreto ministeriale fisserà i percorsi e i titoli per ottenere la specializzazione CL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asellaDiTesto 6"/>
          <p:cNvSpPr/>
          <p:nvPr/>
        </p:nvSpPr>
        <p:spPr>
          <a:xfrm>
            <a:off x="822240" y="61452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3F8C-581D-4542-8B55-D5F90218AE1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Obbligo di istr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Il primo biennio di ciascun percorso è finalizzato a una prima acquisizione delle conoscenze, abilità e competenze caratterizzanti le singole articolazioni del sistema liceale di cui all’articolo 3 e all’assolvimento dell’obbligo di istru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Ciò anche attraverso la verifica e l’eventuale integrazione delle conoscenze, abilità e competenze raggiunte al termine del primo ciclo di istruzione, attraverso gli strumenti di autonomia didattica previsti dall’articolo 4 del DPR 8 marzo 1999, n. 2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C08-0A78-4B15-9943-09CC5F147C8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5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3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Avver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89C-3254-42CF-B9C7-E145A0217AF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552600" y="923040"/>
            <a:ext cx="83152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Le slide che seguono presentano lo schema di Regolamento approvato in prima lettura dal Consiglio dei Ministri (CDM) il 28 maggio 2009; esaminato dal CNP, dalla Conferenza unificata Stato Regioni il 29 ottobr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Questa fase di 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“Dialogo con la scuola” 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e i pareri obbligatori (Consiglio di Stato e Commissioni parlament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ntribuiranno 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integrare e modificare</a:t>
            </a:r>
            <a:br>
              <a:rPr sz="1800"/>
            </a:b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il testo che andrà in approvazione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L’iter legislativo prevede successivam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Approvazione definitiva da parte del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Firma da parte del Capo dello St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Registrazione da parte della Corte dei Co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Pubblicazione sulla Gazzetta Ufficiale della Repubb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Scuola, istruzione superiore,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 mondo del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Le istituzioni scolastiche stabiliscono, a partire dal secondo biennio, anche d’intesa con le università, le istituzioni dell’alta formazione artistica, musicale e coreutica, gli IFTS e gli ITS modalità per l’approfondimento delle conoscenze, delle abilità e delle competenze richieste per l’accesso ai relativi percorsi o per l’inserimento nel mondo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L’approfondimento può essere realizzato anche nell’ambito dei percorsi di alternanza scuola-lavoro di cui al decreto legislativo 15 aprile 2005, n. 77, nonché attraverso l’attivazione di moduli e di iniziative di studio-lavoro per progetti, di esperienze pratiche e di </a:t>
            </a:r>
            <a:r>
              <a:rPr b="0" i="1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stage</a:t>
            </a: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164-8995-4DF7-B3F0-A63B6F27330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"/>
          <p:cNvGrpSpPr/>
          <p:nvPr/>
        </p:nvGrpSpPr>
        <p:grpSpPr>
          <a:xfrm>
            <a:off x="7705800" y="131760"/>
            <a:ext cx="1295280" cy="1129320"/>
            <a:chOff x="7705800" y="131760"/>
            <a:chExt cx="1295280" cy="1129320"/>
          </a:xfrm>
        </p:grpSpPr>
        <p:pic>
          <p:nvPicPr>
            <p:cNvPr id="56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317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9"/>
            <p:cNvSpPr/>
            <p:nvPr/>
          </p:nvSpPr>
          <p:spPr>
            <a:xfrm>
              <a:off x="7705800" y="9237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365-9F74-4E1D-BCF1-FC1A8EBA3F3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Monitoraggio e valutazione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Costituzione del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COMITATO NAZIONALE PER L’ISTRUZIONE LICEAL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composto da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onenti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mondo della cultura, dell’arte e della ricerca, dell’università e dell’alta formazione;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irigenti scolastic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oc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un espert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signato dal Ministero per la pubblica amministrazione e l’innovazioni, ANSAS e INVAL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Ha funzioni di proposta e consulenza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per l’aggiornamento periodico del Profilo educativo, culturale e professionale dello studente e delle Indicazioni naziona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7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9"/>
          <p:cNvSpPr/>
          <p:nvPr/>
        </p:nvSpPr>
        <p:spPr>
          <a:xfrm>
            <a:off x="684360" y="109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nuovi 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  <a:ea typeface="Arial"/>
              </a:rPr>
              <a:t>Liceo artist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7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8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CasellaDiTesto 6"/>
          <p:cNvSpPr/>
          <p:nvPr/>
        </p:nvSpPr>
        <p:spPr>
          <a:xfrm>
            <a:off x="584280" y="500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art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0" y="3270240"/>
            <a:ext cx="895356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Nel triennio, il Liceo artistico è articolato in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3 indirizz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rti figu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rchitettura Design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udiovisivo Multimedia Sce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asellaDiTesto 6"/>
          <p:cNvSpPr/>
          <p:nvPr/>
        </p:nvSpPr>
        <p:spPr>
          <a:xfrm>
            <a:off x="6364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228600" y="1589040"/>
            <a:ext cx="863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Approfondisce la cultura liceale attraver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componente estetic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, fornendo agli stud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gli strumenti per esprimere la propri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creatività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attraverso 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progettualità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6F69-D5D6-4994-84AE-A5DC41D949A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egnaposto numero diapositiva 2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9E6-19A1-418D-B992-A32A02F68F5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7"/>
          <p:cNvGrpSpPr/>
          <p:nvPr/>
        </p:nvGrpSpPr>
        <p:grpSpPr>
          <a:xfrm>
            <a:off x="7778880" y="71280"/>
            <a:ext cx="1222200" cy="888840"/>
            <a:chOff x="7778880" y="71280"/>
            <a:chExt cx="1222200" cy="888840"/>
          </a:xfrm>
        </p:grpSpPr>
        <p:pic>
          <p:nvPicPr>
            <p:cNvPr id="59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82640" y="71280"/>
              <a:ext cx="718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9"/>
            <p:cNvSpPr/>
            <p:nvPr/>
          </p:nvSpPr>
          <p:spPr>
            <a:xfrm>
              <a:off x="7778880" y="622800"/>
              <a:ext cx="122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CasellaDiTesto 6"/>
          <p:cNvSpPr/>
          <p:nvPr/>
        </p:nvSpPr>
        <p:spPr>
          <a:xfrm>
            <a:off x="579600" y="426960"/>
            <a:ext cx="6883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ti fig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18960" y="1025640"/>
          <a:ext cx="8475840" cy="5692680"/>
        </p:xfrm>
        <a:graphic>
          <a:graphicData uri="http://schemas.openxmlformats.org/drawingml/2006/table">
            <a:tbl>
              <a:tblPr/>
              <a:tblGrid>
                <a:gridCol w="4307040"/>
                <a:gridCol w="598320"/>
                <a:gridCol w="209520"/>
                <a:gridCol w="487440"/>
                <a:gridCol w="320760"/>
                <a:gridCol w="390600"/>
                <a:gridCol w="417600"/>
                <a:gridCol w="323640"/>
                <a:gridCol w="486000"/>
                <a:gridCol w="225360"/>
                <a:gridCol w="7095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CasellaDiTesto 6"/>
          <p:cNvSpPr/>
          <p:nvPr/>
        </p:nvSpPr>
        <p:spPr>
          <a:xfrm>
            <a:off x="6364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BA0-0265-4A3A-96B3-2833C514324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9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CasellaDiTesto 6"/>
          <p:cNvSpPr/>
          <p:nvPr/>
        </p:nvSpPr>
        <p:spPr>
          <a:xfrm>
            <a:off x="565200" y="398520"/>
            <a:ext cx="688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ti fig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5"/>
          <p:cNvSpPr/>
          <p:nvPr/>
        </p:nvSpPr>
        <p:spPr>
          <a:xfrm>
            <a:off x="0" y="5691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333360" y="1260360"/>
          <a:ext cx="8475840" cy="3048120"/>
        </p:xfrm>
        <a:graphic>
          <a:graphicData uri="http://schemas.openxmlformats.org/drawingml/2006/table">
            <a:tbl>
              <a:tblPr/>
              <a:tblGrid>
                <a:gridCol w="4307040"/>
                <a:gridCol w="807840"/>
                <a:gridCol w="808200"/>
                <a:gridCol w="807840"/>
                <a:gridCol w="809640"/>
                <a:gridCol w="9352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ella figur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7"/>
          <p:cNvGrpSpPr/>
          <p:nvPr/>
        </p:nvGrpSpPr>
        <p:grpSpPr>
          <a:xfrm>
            <a:off x="8124840" y="60480"/>
            <a:ext cx="752400" cy="807120"/>
            <a:chOff x="8124840" y="60480"/>
            <a:chExt cx="752400" cy="807120"/>
          </a:xfrm>
        </p:grpSpPr>
        <p:pic>
          <p:nvPicPr>
            <p:cNvPr id="60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50120" y="60480"/>
              <a:ext cx="442440" cy="4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9"/>
            <p:cNvSpPr/>
            <p:nvPr/>
          </p:nvSpPr>
          <p:spPr>
            <a:xfrm>
              <a:off x="8124840" y="530280"/>
              <a:ext cx="75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CasellaDiTesto 6"/>
          <p:cNvSpPr/>
          <p:nvPr/>
        </p:nvSpPr>
        <p:spPr>
          <a:xfrm>
            <a:off x="550800" y="301680"/>
            <a:ext cx="6883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br>
              <a:rPr sz="4000"/>
            </a:b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chitettura Design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93840" y="816120"/>
          <a:ext cx="8404200" cy="6095880"/>
        </p:xfrm>
        <a:graphic>
          <a:graphicData uri="http://schemas.openxmlformats.org/drawingml/2006/table">
            <a:tbl>
              <a:tblPr/>
              <a:tblGrid>
                <a:gridCol w="4209840"/>
                <a:gridCol w="835200"/>
                <a:gridCol w="757080"/>
                <a:gridCol w="642960"/>
                <a:gridCol w="182520"/>
                <a:gridCol w="469800"/>
                <a:gridCol w="301680"/>
                <a:gridCol w="338400"/>
                <a:gridCol w="666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7B5B-2918-49BA-BCE1-6366B816D37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1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CasellaDiTesto 6"/>
          <p:cNvSpPr/>
          <p:nvPr/>
        </p:nvSpPr>
        <p:spPr>
          <a:xfrm>
            <a:off x="593640" y="498600"/>
            <a:ext cx="6883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br>
              <a:rPr sz="4000"/>
            </a:b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chitettura Design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61800" y="1192320"/>
          <a:ext cx="8420400" cy="3166920"/>
        </p:xfrm>
        <a:graphic>
          <a:graphicData uri="http://schemas.openxmlformats.org/drawingml/2006/table">
            <a:tbl>
              <a:tblPr/>
              <a:tblGrid>
                <a:gridCol w="4218120"/>
                <a:gridCol w="797040"/>
                <a:gridCol w="798480"/>
                <a:gridCol w="801720"/>
                <a:gridCol w="798480"/>
                <a:gridCol w="100656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ella proget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rogettu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Architettura/design/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7"/>
          <p:cNvGrpSpPr/>
          <p:nvPr/>
        </p:nvGrpSpPr>
        <p:grpSpPr>
          <a:xfrm>
            <a:off x="7778880" y="25560"/>
            <a:ext cx="995400" cy="945360"/>
            <a:chOff x="7778880" y="25560"/>
            <a:chExt cx="995400" cy="945360"/>
          </a:xfrm>
        </p:grpSpPr>
        <p:pic>
          <p:nvPicPr>
            <p:cNvPr id="6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44840" y="25560"/>
              <a:ext cx="58536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9"/>
            <p:cNvSpPr/>
            <p:nvPr/>
          </p:nvSpPr>
          <p:spPr>
            <a:xfrm>
              <a:off x="7778880" y="633600"/>
              <a:ext cx="9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CasellaDiTesto 6"/>
          <p:cNvSpPr/>
          <p:nvPr/>
        </p:nvSpPr>
        <p:spPr>
          <a:xfrm>
            <a:off x="450720" y="189000"/>
            <a:ext cx="68835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udiovisivo Multimedia Sce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39560" y="787320"/>
          <a:ext cx="8264880" cy="6096240"/>
        </p:xfrm>
        <a:graphic>
          <a:graphicData uri="http://schemas.openxmlformats.org/drawingml/2006/table">
            <a:tbl>
              <a:tblPr/>
              <a:tblGrid>
                <a:gridCol w="4253040"/>
                <a:gridCol w="630360"/>
                <a:gridCol w="315720"/>
                <a:gridCol w="515880"/>
                <a:gridCol w="182880"/>
                <a:gridCol w="506160"/>
                <a:gridCol w="182520"/>
                <a:gridCol w="441360"/>
                <a:gridCol w="206640"/>
                <a:gridCol w="403200"/>
                <a:gridCol w="627120"/>
              </a:tblGrid>
              <a:tr h="297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o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egnaposto numero diapositiva 2"/>
          <p:cNvSpPr/>
          <p:nvPr/>
        </p:nvSpPr>
        <p:spPr>
          <a:xfrm>
            <a:off x="6824520" y="6319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06D6-1AB2-46F2-A505-C8A2C4ADC12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2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CasellaDiTesto 6"/>
          <p:cNvSpPr/>
          <p:nvPr/>
        </p:nvSpPr>
        <p:spPr>
          <a:xfrm>
            <a:off x="493560" y="398520"/>
            <a:ext cx="68835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udiovisivo Multimedia Sce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42800" y="1379520"/>
          <a:ext cx="8580600" cy="3006720"/>
        </p:xfrm>
        <a:graphic>
          <a:graphicData uri="http://schemas.openxmlformats.org/drawingml/2006/table">
            <a:tbl>
              <a:tblPr/>
              <a:tblGrid>
                <a:gridCol w="4241880"/>
                <a:gridCol w="814320"/>
                <a:gridCol w="816120"/>
                <a:gridCol w="815760"/>
                <a:gridCol w="817560"/>
                <a:gridCol w="10749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udiovi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4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1"/>
          <p:cNvSpPr/>
          <p:nvPr/>
        </p:nvSpPr>
        <p:spPr>
          <a:xfrm>
            <a:off x="334800" y="894960"/>
            <a:ext cx="8402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La Cabina di Regia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, istituita con Decreto ministeriale del MIUR </a:t>
            </a:r>
            <a:br>
              <a:rPr sz="2000"/>
            </a:b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n.75 del 2009, ha il compito 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coordinare e orientare i diversi provvedimenti collegati al nuovo ordinamento dei licei, anche alla luce dei pareri previsti dall’iter normativo vigente.” (Art. 1). Svolge inoltre la funzione di “coordinamento e indirizzo relativo alle finalità di cui al Decreto Dipartimentale del 17 febbraio 2009, n. 14, avvalendosi dei materiali sin qui sviluppati dal Gruppo tecnico e della collaborazione dei gruppi di lavoro individuati dal medesimo provvedimento.” (Art.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La Cabina di Regia,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 finché il Regolamento non sarà proposto in seconda lettura al Consiglio dei Ministri per l'approvazione definitiva,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si occuperà di raccogliere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areri istituzionali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(Consiglio Nazionale della Pubblica Istruzione, Consiglio di Stato, Conferenza Unificata, Commissioni Parlamentari)  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 suggerimenti che verranno dal mondo della scuola e dall'opinione pub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Cabina di R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B52-DA8F-408F-AA03-85AA3926F0D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</a:t>
            </a:r>
            <a:br>
              <a:rPr sz="44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musicale e coreu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3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FF3-B2DE-4117-89E2-B0341B93E68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4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CasellaDiTesto 6"/>
          <p:cNvSpPr/>
          <p:nvPr/>
        </p:nvSpPr>
        <p:spPr>
          <a:xfrm>
            <a:off x="584280" y="500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musicale e coreu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492120" y="1771560"/>
            <a:ext cx="81662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liceo musicale e coreutico è stata introdotta una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sezione musical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che prevede, tra l’altro, esecuzione e interpretazione stru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e il laboratorio di musica di insieme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la sezione coreutica si prevede non solo lo studio ma anche 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pratica delle diverse tecniche della danz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asellaDiTesto 6"/>
          <p:cNvSpPr/>
          <p:nvPr/>
        </p:nvSpPr>
        <p:spPr>
          <a:xfrm>
            <a:off x="636480" y="334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165-7522-4549-BCAD-5B487EA2962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4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CasellaDiTesto 6"/>
          <p:cNvSpPr/>
          <p:nvPr/>
        </p:nvSpPr>
        <p:spPr>
          <a:xfrm>
            <a:off x="650880" y="334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4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38200" y="1320840"/>
          <a:ext cx="8153280" cy="4324320"/>
        </p:xfrm>
        <a:graphic>
          <a:graphicData uri="http://schemas.openxmlformats.org/drawingml/2006/table">
            <a:tbl>
              <a:tblPr/>
              <a:tblGrid>
                <a:gridCol w="4243320"/>
                <a:gridCol w="747720"/>
                <a:gridCol w="216000"/>
                <a:gridCol w="521640"/>
                <a:gridCol w="181800"/>
                <a:gridCol w="381240"/>
                <a:gridCol w="227880"/>
                <a:gridCol w="393840"/>
                <a:gridCol w="353880"/>
                <a:gridCol w="283320"/>
                <a:gridCol w="6026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7F33-F0AD-46B8-A4B9-5E1557770F3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7"/>
          <p:cNvGrpSpPr/>
          <p:nvPr/>
        </p:nvGrpSpPr>
        <p:grpSpPr>
          <a:xfrm>
            <a:off x="7851600" y="142920"/>
            <a:ext cx="873360" cy="833400"/>
            <a:chOff x="7851600" y="142920"/>
            <a:chExt cx="873360" cy="833400"/>
          </a:xfrm>
        </p:grpSpPr>
        <p:pic>
          <p:nvPicPr>
            <p:cNvPr id="65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7040" y="142920"/>
              <a:ext cx="513720" cy="47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9"/>
            <p:cNvSpPr/>
            <p:nvPr/>
          </p:nvSpPr>
          <p:spPr>
            <a:xfrm>
              <a:off x="7851600" y="639000"/>
              <a:ext cx="8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asellaDiTesto 6"/>
          <p:cNvSpPr/>
          <p:nvPr/>
        </p:nvSpPr>
        <p:spPr>
          <a:xfrm>
            <a:off x="650880" y="33480"/>
            <a:ext cx="76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71360" y="1967040"/>
          <a:ext cx="8121600" cy="4724280"/>
        </p:xfrm>
        <a:graphic>
          <a:graphicData uri="http://schemas.openxmlformats.org/drawingml/2006/table">
            <a:tbl>
              <a:tblPr/>
              <a:tblGrid>
                <a:gridCol w="4245120"/>
                <a:gridCol w="747720"/>
                <a:gridCol w="747720"/>
                <a:gridCol w="747720"/>
                <a:gridCol w="745920"/>
                <a:gridCol w="887400"/>
              </a:tblGrid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ezione mus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Motorie e spor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Esecuzione e interpre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oria e composi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a mu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i musica d’insi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uove Tec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ezione coreu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a d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cniche della d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core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aboratorio mus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208080" y="833400"/>
          <a:ext cx="8124840" cy="1127160"/>
        </p:xfrm>
        <a:graphic>
          <a:graphicData uri="http://schemas.openxmlformats.org/drawingml/2006/table">
            <a:tbl>
              <a:tblPr/>
              <a:tblGrid>
                <a:gridCol w="4246560"/>
                <a:gridCol w="747720"/>
                <a:gridCol w="747720"/>
                <a:gridCol w="747720"/>
                <a:gridCol w="747720"/>
                <a:gridCol w="8874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delle scienze um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6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BF3-2786-4BB3-B251-9750A2912FA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egnaposto contenuto 2"/>
          <p:cNvSpPr/>
          <p:nvPr/>
        </p:nvSpPr>
        <p:spPr>
          <a:xfrm>
            <a:off x="3459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dal punto di vista della conoscenza dei fenomeni collegati al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costruzione dell’identità personal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 e delle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relazioni umane e social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26920" y="685800"/>
            <a:ext cx="64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delle scienz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184F-AFF0-49BB-8E7D-6FD4787E52C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7"/>
          <p:cNvGrpSpPr/>
          <p:nvPr/>
        </p:nvGrpSpPr>
        <p:grpSpPr>
          <a:xfrm>
            <a:off x="7870680" y="0"/>
            <a:ext cx="1041480" cy="1047960"/>
            <a:chOff x="7870680" y="0"/>
            <a:chExt cx="1041480" cy="1047960"/>
          </a:xfrm>
        </p:grpSpPr>
        <p:pic>
          <p:nvPicPr>
            <p:cNvPr id="67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44200" y="0"/>
              <a:ext cx="6123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9"/>
            <p:cNvSpPr/>
            <p:nvPr/>
          </p:nvSpPr>
          <p:spPr>
            <a:xfrm>
              <a:off x="7870680" y="71064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CasellaDiTesto 6"/>
          <p:cNvSpPr/>
          <p:nvPr/>
        </p:nvSpPr>
        <p:spPr>
          <a:xfrm>
            <a:off x="650880" y="4752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28600" y="1135080"/>
          <a:ext cx="8756640" cy="5187960"/>
        </p:xfrm>
        <a:graphic>
          <a:graphicData uri="http://schemas.openxmlformats.org/drawingml/2006/table">
            <a:tbl>
              <a:tblPr/>
              <a:tblGrid>
                <a:gridCol w="3137040"/>
                <a:gridCol w="1238040"/>
                <a:gridCol w="1038240"/>
                <a:gridCol w="1457280"/>
                <a:gridCol w="944640"/>
                <a:gridCol w="94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um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u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9AA6-BDF0-48D0-B9FF-BDD01C958D3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8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gnaposto contenuto 2"/>
          <p:cNvSpPr/>
          <p:nvPr/>
        </p:nvSpPr>
        <p:spPr>
          <a:xfrm>
            <a:off x="3459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0" lang="it-IT" sz="3000" spc="-1" strike="noStrike">
                <a:solidFill>
                  <a:srgbClr val="000072"/>
                </a:solidFill>
                <a:latin typeface="Arial"/>
              </a:rPr>
              <a:t>Al fine di assecondare le vocazioni degli studenti interessati ad acquisire competenze particolarmente avanzate negli studi afferenti alle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scienze giuridiche, economiche e sociali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it-IT" sz="3000" spc="-1" strike="noStrike">
                <a:solidFill>
                  <a:srgbClr val="000072"/>
                </a:solidFill>
                <a:latin typeface="Arial"/>
              </a:rPr>
              <a:t>le istituzioni scolastiche possono attivare, nell’ambito del liceo delle scienze umane, una o più sezione a </a:t>
            </a: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opzione economico-sociale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757080" y="512640"/>
            <a:ext cx="6459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delle scienz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Opzione economico-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A23D-679C-48CC-BCF8-0874C016D11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7870680" y="0"/>
            <a:ext cx="1041480" cy="1047960"/>
            <a:chOff x="7870680" y="0"/>
            <a:chExt cx="1041480" cy="1047960"/>
          </a:xfrm>
        </p:grpSpPr>
        <p:pic>
          <p:nvPicPr>
            <p:cNvPr id="69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44200" y="0"/>
              <a:ext cx="6123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9"/>
            <p:cNvSpPr/>
            <p:nvPr/>
          </p:nvSpPr>
          <p:spPr>
            <a:xfrm>
              <a:off x="7870680" y="71064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asellaDiTesto 6"/>
          <p:cNvSpPr/>
          <p:nvPr/>
        </p:nvSpPr>
        <p:spPr>
          <a:xfrm>
            <a:off x="650880" y="4752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Opzione econom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28600" y="1135080"/>
          <a:ext cx="8756640" cy="5110200"/>
        </p:xfrm>
        <a:graphic>
          <a:graphicData uri="http://schemas.openxmlformats.org/drawingml/2006/table">
            <a:tbl>
              <a:tblPr/>
              <a:tblGrid>
                <a:gridCol w="3137040"/>
                <a:gridCol w="771480"/>
                <a:gridCol w="466560"/>
                <a:gridCol w="346320"/>
                <a:gridCol w="691920"/>
                <a:gridCol w="411120"/>
                <a:gridCol w="1046160"/>
                <a:gridCol w="944640"/>
                <a:gridCol w="94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stranier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itto ed econom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sociali e metodologia della rice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clas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9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"/>
          <p:cNvSpPr/>
          <p:nvPr/>
        </p:nvSpPr>
        <p:spPr>
          <a:xfrm>
            <a:off x="552600" y="643320"/>
            <a:ext cx="811368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legge 14/2009*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ha previ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dal settembre 2010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l’avvio del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sistema dei Lice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Calibri"/>
              </a:rPr>
              <a:t>l'articolo 64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, comma 4, del decreto legge 25 giugno 2008, n. 112,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convertito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 con modificazioni dalla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Legge 6 agosto 2008, n. 133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ha previsto la revisione degli ordinamenti attraverso regol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*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Calibri"/>
              </a:rPr>
              <a:t>Decreto legge 30 Dicembre 2008, n. 207, convertito, con modificazioni, dalla legge 27 Febbraio 2009, n. 14, articolo 37, com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sellaDiTesto 6"/>
          <p:cNvSpPr/>
          <p:nvPr/>
        </p:nvSpPr>
        <p:spPr>
          <a:xfrm>
            <a:off x="650880" y="6048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i riferimen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418-EDB3-498D-B336-01449586F96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11C0-30D1-4EA5-A0A5-B674ABFE83B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0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9"/>
          <p:cNvSpPr/>
          <p:nvPr/>
        </p:nvSpPr>
        <p:spPr>
          <a:xfrm>
            <a:off x="0" y="582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2"/>
          <p:cNvSpPr/>
          <p:nvPr/>
        </p:nvSpPr>
        <p:spPr>
          <a:xfrm>
            <a:off x="189000" y="1994040"/>
            <a:ext cx="877392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dal punto di vista dello  studio del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civiltà classic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Il nuovo liceo classico propone l’insegn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di un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lingua straniera dal primo al quinto anno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e del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storia dell’art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 nel secondo biennio e nel quinto anno per due ore medie settiman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Potenzia inoltre l’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asse matematico-scientifico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5"/>
          <p:cNvSpPr/>
          <p:nvPr/>
        </p:nvSpPr>
        <p:spPr>
          <a:xfrm>
            <a:off x="733320" y="42876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C9C-3B10-4272-9649-5D8E14B7FF2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1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06360" y="1314360"/>
          <a:ext cx="8582040" cy="4762440"/>
        </p:xfrm>
        <a:graphic>
          <a:graphicData uri="http://schemas.openxmlformats.org/drawingml/2006/table">
            <a:tbl>
              <a:tblPr/>
              <a:tblGrid>
                <a:gridCol w="4037040"/>
                <a:gridCol w="1257480"/>
                <a:gridCol w="1091880"/>
                <a:gridCol w="677880"/>
                <a:gridCol w="674640"/>
                <a:gridCol w="84312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gre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6" name="Text Box 136"/>
          <p:cNvSpPr/>
          <p:nvPr/>
        </p:nvSpPr>
        <p:spPr>
          <a:xfrm>
            <a:off x="304920" y="6060960"/>
            <a:ext cx="852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scienti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1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5E3-04C1-478A-BD7B-97AC30CF42C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2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67"/>
          <p:cNvSpPr/>
          <p:nvPr/>
        </p:nvSpPr>
        <p:spPr>
          <a:xfrm>
            <a:off x="399960" y="1658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nella prospettiva del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rapporto fra la tradizione umani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	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e i saperi scientific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È stat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rafforzata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l’area matematico-scienti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8"/>
          <p:cNvSpPr/>
          <p:nvPr/>
        </p:nvSpPr>
        <p:spPr>
          <a:xfrm>
            <a:off x="869040" y="704880"/>
            <a:ext cx="37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scient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3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290520" y="1208160"/>
          <a:ext cx="8586720" cy="4968720"/>
        </p:xfrm>
        <a:graphic>
          <a:graphicData uri="http://schemas.openxmlformats.org/drawingml/2006/table">
            <a:tbl>
              <a:tblPr/>
              <a:tblGrid>
                <a:gridCol w="3849840"/>
                <a:gridCol w="519120"/>
                <a:gridCol w="928440"/>
                <a:gridCol w="968400"/>
                <a:gridCol w="630360"/>
                <a:gridCol w="630000"/>
                <a:gridCol w="10605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e insegnamenti obbligatori per tutti gli studenti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–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Arte e tecniche della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6" name="Text Box 129"/>
          <p:cNvSpPr/>
          <p:nvPr/>
        </p:nvSpPr>
        <p:spPr>
          <a:xfrm>
            <a:off x="279360" y="6184800"/>
            <a:ext cx="854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74E-285A-4FCA-8A22-C6CD9812526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3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egnaposto contenuto 2"/>
          <p:cNvSpPr/>
          <p:nvPr/>
        </p:nvSpPr>
        <p:spPr>
          <a:xfrm>
            <a:off x="3603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Al fine di assecondare le vocazioni degli studenti interessati ad acquisire competenze molto avanzate negli studi afferenti alla cultura scientifico-tecnologica, con particolare riferimento alle scienze matematiche, fisiche, chimiche e biologiche e all’informatica, le istituzioni scolastiche possono attivare, nell’ambito del liceo scientifico, una o più sezioni a opzione scientifico-tecnolog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57080" y="512640"/>
            <a:ext cx="6459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scient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Opzione scientifico-tecnolo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4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CasellaDiTesto 6"/>
          <p:cNvSpPr/>
          <p:nvPr/>
        </p:nvSpPr>
        <p:spPr>
          <a:xfrm>
            <a:off x="650880" y="33480"/>
            <a:ext cx="68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opzione scientifico-tecn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90520" y="1208160"/>
          <a:ext cx="8586720" cy="5516640"/>
        </p:xfrm>
        <a:graphic>
          <a:graphicData uri="http://schemas.openxmlformats.org/drawingml/2006/table">
            <a:tbl>
              <a:tblPr/>
              <a:tblGrid>
                <a:gridCol w="3849840"/>
                <a:gridCol w="519120"/>
                <a:gridCol w="928440"/>
                <a:gridCol w="968400"/>
                <a:gridCol w="630360"/>
                <a:gridCol w="630000"/>
                <a:gridCol w="10605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e insegnamenti obbligatori per tutti gli studenti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–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sistemi automat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della Te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i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cnologia e diseg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1" name="Text Box 129"/>
          <p:cNvSpPr/>
          <p:nvPr/>
        </p:nvSpPr>
        <p:spPr>
          <a:xfrm>
            <a:off x="279360" y="6184800"/>
            <a:ext cx="854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lingu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5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8A61-8564-45A4-A962-4DF60807241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5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CasellaDiTesto 6"/>
          <p:cNvSpPr/>
          <p:nvPr/>
        </p:nvSpPr>
        <p:spPr>
          <a:xfrm>
            <a:off x="536400" y="5954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lingu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725400" y="1793880"/>
            <a:ext cx="7691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Approfondisce la cultura liceale dal punto di vista del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conoscenza coordinata di più sistemi linguistici e cultural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Liceo Linguistico vie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rafforzato l’insegnamento delle lingue strani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con particolare riferimento al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terza lin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6"/>
          <p:cNvSpPr/>
          <p:nvPr/>
        </p:nvSpPr>
        <p:spPr>
          <a:xfrm>
            <a:off x="650880" y="19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4252-FF44-44AD-B3D5-E4B527C239C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6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CasellaDiTesto 6"/>
          <p:cNvSpPr/>
          <p:nvPr/>
        </p:nvSpPr>
        <p:spPr>
          <a:xfrm>
            <a:off x="801720" y="641520"/>
            <a:ext cx="638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linguistic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LI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725400" y="2090880"/>
            <a:ext cx="769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a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Arial"/>
              </a:rPr>
              <a:t>primo anno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el secondo biennio è previsto l’insegnamento in lingua straniera di una disciplina non lingu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a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Arial"/>
              </a:rPr>
              <a:t>secondo anno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el secondo biennio è previsto inoltre l’insegnamento, in una diversa lingua straniera, di una disciplina non lingu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CasellaDiTesto 6"/>
          <p:cNvSpPr/>
          <p:nvPr/>
        </p:nvSpPr>
        <p:spPr>
          <a:xfrm>
            <a:off x="650880" y="19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5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1"/>
          <p:cNvSpPr/>
          <p:nvPr/>
        </p:nvSpPr>
        <p:spPr>
          <a:xfrm>
            <a:off x="552600" y="537480"/>
            <a:ext cx="811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Per effetto della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egge 40/2007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(Fioroni)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NON sono più contemplati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il Liceo econo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e il Liceo tecnologico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mentre è ricostituita l’Istruzione Tecnica e Profess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asellaDiTesto 6"/>
          <p:cNvSpPr/>
          <p:nvPr/>
        </p:nvSpPr>
        <p:spPr>
          <a:xfrm>
            <a:off x="650880" y="6048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i riferimen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30D-2699-4B49-A604-C5D5B923523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egnaposto numero diapositiva 2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1DCF-C900-48DD-AD6F-0C359B4AEE2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7"/>
          <p:cNvGrpSpPr/>
          <p:nvPr/>
        </p:nvGrpSpPr>
        <p:grpSpPr>
          <a:xfrm>
            <a:off x="7705800" y="119160"/>
            <a:ext cx="1295280" cy="1129320"/>
            <a:chOff x="7705800" y="119160"/>
            <a:chExt cx="1295280" cy="1129320"/>
          </a:xfrm>
        </p:grpSpPr>
        <p:pic>
          <p:nvPicPr>
            <p:cNvPr id="77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191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9"/>
            <p:cNvSpPr/>
            <p:nvPr/>
          </p:nvSpPr>
          <p:spPr>
            <a:xfrm>
              <a:off x="7705800" y="911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00080" y="1185840"/>
          <a:ext cx="8701200" cy="5621400"/>
        </p:xfrm>
        <a:graphic>
          <a:graphicData uri="http://schemas.openxmlformats.org/drawingml/2006/table">
            <a:tbl>
              <a:tblPr/>
              <a:tblGrid>
                <a:gridCol w="3773520"/>
                <a:gridCol w="568080"/>
                <a:gridCol w="787680"/>
                <a:gridCol w="1333440"/>
                <a:gridCol w="620640"/>
                <a:gridCol w="620640"/>
                <a:gridCol w="9972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c4b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7d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D1DE-20FE-45C1-A9DF-2CD13326693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8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egnaposto contenuto 2"/>
          <p:cNvSpPr/>
          <p:nvPr/>
        </p:nvSpPr>
        <p:spPr>
          <a:xfrm>
            <a:off x="3603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 percorsi liceali di ogni tipo e indirizzo con le relative sperimentazioni confluiscono nei nuovi licei secondo quanto previsto dalla tabella contenuta nell’allegato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n rapporto alla specificità dei percorsi di origine sperimentale effettivamente attuati, le istituzioni scolastiche, statali e paritarie, possono presentare ai competenti Uffici scolastici regionali motivate proposte finalizzate alla individuazione di una confluenza diversa da quella indicata nella ta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757080" y="512640"/>
            <a:ext cx="6459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passaggio dal vecc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al nuovo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0882-D468-4016-9AC0-DB61F29C967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CasellaDiTesto 2"/>
          <p:cNvSpPr/>
          <p:nvPr/>
        </p:nvSpPr>
        <p:spPr>
          <a:xfrm>
            <a:off x="950760" y="29052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77920" y="741240"/>
          <a:ext cx="8577000" cy="6172200"/>
        </p:xfrm>
        <a:graphic>
          <a:graphicData uri="http://schemas.openxmlformats.org/drawingml/2006/table">
            <a:tbl>
              <a:tblPr/>
              <a:tblGrid>
                <a:gridCol w="5994360"/>
                <a:gridCol w="2582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6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a sezione (Accadem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grafi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itto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la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osa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stamp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’alabas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e pietre 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lastica arredo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ittorica arredo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ittura e decorazione pittores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pittores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ultura e decorazione pla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lapide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ilievo e cataloga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mosa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’alabas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AZIOMNE SPERIMENTALE LEONAR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atalogazione e conservazione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en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ultural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gurativ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BROC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eni culturali e della conserv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A COERENTI CON L’INDIRI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2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TI FIGURA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8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789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ttangolo 8"/>
          <p:cNvSpPr/>
          <p:nvPr/>
        </p:nvSpPr>
        <p:spPr>
          <a:xfrm>
            <a:off x="58824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ADA-0915-41DA-86C0-542497659F1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CasellaDiTesto 2"/>
          <p:cNvSpPr/>
          <p:nvPr/>
        </p:nvSpPr>
        <p:spPr>
          <a:xfrm>
            <a:off x="950760" y="290520"/>
            <a:ext cx="60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324000" y="1295280"/>
          <a:ext cx="8496000" cy="3611520"/>
        </p:xfrm>
        <a:graphic>
          <a:graphicData uri="http://schemas.openxmlformats.org/drawingml/2006/table">
            <a:tbl>
              <a:tblPr/>
              <a:tblGrid>
                <a:gridCol w="4930560"/>
                <a:gridCol w="35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2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a sezione (Architettu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ator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ator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arredament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redament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RIMENTALE MICHELANG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arre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Broc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osizione e proget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A SE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ARCHITETTURA E AMBIEN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79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796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CCBC-86DC-4B39-A095-8ED541AE186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324000" y="785880"/>
          <a:ext cx="8496000" cy="5927760"/>
        </p:xfrm>
        <a:graphic>
          <a:graphicData uri="http://schemas.openxmlformats.org/drawingml/2006/table">
            <a:tbl>
              <a:tblPr/>
              <a:tblGrid>
                <a:gridCol w="4930560"/>
                <a:gridCol w="35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7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ob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cera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ologia ceram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Orefic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i metalli e orefice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da e cost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i metal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cora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leg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tessu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ve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porcel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etallo e oreficeria arredo chie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tessuto, decorazione e arredo della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erletto e del rica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industr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da e costu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a cera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’oro e metalli prezios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i metal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cora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ling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ve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li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De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01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02" name="Picture 8" descr="miur_colorato_trasparente_piccolo"/>
            <p:cNvPicPr/>
            <p:nvPr/>
          </p:nvPicPr>
          <p:blipFill>
            <a:blip r:embed="rId3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ttangolo 8"/>
          <p:cNvSpPr/>
          <p:nvPr/>
        </p:nvSpPr>
        <p:spPr>
          <a:xfrm>
            <a:off x="56448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8F50-BD1C-4CE2-BDB3-E4E197F8E54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24000" y="958680"/>
          <a:ext cx="8496000" cy="5195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LEONA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vi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 (BROCC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e comunicazione vi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A SE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De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24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anima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enotec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pubblicit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grafica pubblicitaria e fot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otografia arti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mmagine fotografica, filmica, televi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’INDIRI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UDIOVISIVO MULTIMEDIALE SCENOGRAF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0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09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ttangolo 8"/>
          <p:cNvSpPr/>
          <p:nvPr/>
        </p:nvSpPr>
        <p:spPr>
          <a:xfrm>
            <a:off x="588240" y="349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F062-F1CB-4632-AF92-A98247BAC1A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324000" y="958680"/>
          <a:ext cx="8496000" cy="3611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CLASS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CLAS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LINGUISTIC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E INDIRIZZI LINGUISTICI SPERIMENTAL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LINGUI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E MUSICALE, COREUTICHE, MUSICALI E COREUTICHE, ARTISTICO MUSICALI AUTO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MUSICALE E CORE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SCIENTIF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I*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SCIENTIF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QUINQUENNALI A INDIRIZZI MAGISTRAL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DELLA SCIENZ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1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16" name="Picture 8" descr="miur_colorato_trasparente_piccolo"/>
            <p:cNvPicPr/>
            <p:nvPr/>
          </p:nvPicPr>
          <p:blipFill>
            <a:blip r:embed="rId6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ttangolo 8"/>
          <p:cNvSpPr/>
          <p:nvPr/>
        </p:nvSpPr>
        <p:spPr>
          <a:xfrm>
            <a:off x="243000" y="5254560"/>
            <a:ext cx="8646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* 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Gli indirizzi sperimentali che non prevedono lo studio del latino confluiscono, di norma, nella opzione scientifico-tecnolog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**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 Gli indirizzi sperimentali che non prevedono lo studio del latino confluiscono, di norma, nella opzione economico-soci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ttangolo 8"/>
          <p:cNvSpPr/>
          <p:nvPr/>
        </p:nvSpPr>
        <p:spPr>
          <a:xfrm>
            <a:off x="46116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4AE-7E83-4207-89ED-DA5AFF26196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6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ttangolo 9"/>
          <p:cNvSpPr/>
          <p:nvPr/>
        </p:nvSpPr>
        <p:spPr>
          <a:xfrm>
            <a:off x="357120" y="1071720"/>
            <a:ext cx="82155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I livelli di responsabilità  per prep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’a.s.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2010-20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Dove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attivare gli indiriz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Quali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indirizzi è possibile attivare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ttangolo 7"/>
          <p:cNvSpPr/>
          <p:nvPr/>
        </p:nvSpPr>
        <p:spPr>
          <a:xfrm>
            <a:off x="595440" y="6984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C0FB-7FC2-4424-B955-565AEC719C0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6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ttangolo 9"/>
          <p:cNvSpPr/>
          <p:nvPr/>
        </p:nvSpPr>
        <p:spPr>
          <a:xfrm>
            <a:off x="428760" y="2428920"/>
            <a:ext cx="82864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Regione attribuisce alla Provincia i compiti e le funzioni concernenti l’istituzione, l’aggregazione, la fusione e la soppressione delle s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’Ufficio Scolastico regionale promuove la ricognizione delle esigenze formative e lo sviluppo della relativa offerta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Giunta regionale delibera entro il 31 dicembre 2009 il piano di dimensionamento della rete scolastica e la programmazione dell’offerta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45720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DOVE</a:t>
            </a:r>
            <a:r>
              <a:rPr b="1" lang="it-IT" sz="3200" spc="-1" strike="noStrike">
                <a:solidFill>
                  <a:srgbClr val="00005e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attivare gli indirizzi </a:t>
            </a:r>
            <a:br>
              <a:rPr sz="2800"/>
            </a:b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(dimensionamento della rete scolastica e programmazione dell’offerta formativa)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ttangolo 9"/>
          <p:cNvSpPr/>
          <p:nvPr/>
        </p:nvSpPr>
        <p:spPr>
          <a:xfrm>
            <a:off x="595440" y="5724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C7CC-4969-4E0A-8CDD-6213AD37AEF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7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2"/>
          <p:cNvSpPr/>
          <p:nvPr/>
        </p:nvSpPr>
        <p:spPr>
          <a:xfrm>
            <a:off x="45720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ttangolo 7"/>
          <p:cNvSpPr/>
          <p:nvPr/>
        </p:nvSpPr>
        <p:spPr>
          <a:xfrm>
            <a:off x="571680" y="571680"/>
            <a:ext cx="72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QUALI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indirizzi è possibile attivare </a:t>
            </a:r>
            <a:br>
              <a:rPr sz="2800"/>
            </a:b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(ordinamenti scolast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42920" y="2000160"/>
            <a:ext cx="8472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scuola costruisce la sua identità, valorizzando le professionalità presenti in organico in Istit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scuola legge la tabella di confluenza allegata allo schema di regolamento e conferma o modifica la proposta di offerta formativa della scuola alla luce dei piani di studio e dei quadri orario previsti dal regol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ttangolo 10"/>
          <p:cNvSpPr/>
          <p:nvPr/>
        </p:nvSpPr>
        <p:spPr>
          <a:xfrm>
            <a:off x="588240" y="8100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2034-2BA6-47EC-A153-9626D6463F1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NUOVI MODELLI ORGANIZZ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8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250920" y="1700280"/>
          <a:ext cx="8642160" cy="332244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vorire la progettazione didatt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 la progettazione formativa</a:t>
                      </a:r>
                      <a:r>
                        <a:rPr b="1" lang="it-IT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osti da docent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di esperti del mondo del lavoro, delle professioni, della ricerca scientifica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tecnologica, delle università, delle istituzioni di alta formazione artistica, musicale e coreutica. H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unzioni consultive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 propost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 l’ utilizzazione degli spazi di autonomia e flessibilità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Rectangle 21"/>
          <p:cNvSpPr/>
          <p:nvPr/>
        </p:nvSpPr>
        <p:spPr>
          <a:xfrm>
            <a:off x="684360" y="109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nuovi 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2:10Z</dcterms:created>
  <dc:creator>win</dc:creator>
  <dc:description/>
  <dc:language>en-US</dc:language>
  <cp:lastModifiedBy>Elisabetta</cp:lastModifiedBy>
  <dcterms:modified xsi:type="dcterms:W3CDTF">2009-11-10T11:53:59Z</dcterms:modified>
  <cp:revision>228</cp:revision>
  <dc:subject/>
  <dc:title>Diapositiva 1</dc:title>
</cp:coreProperties>
</file>