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A7EC-F390-4FF1-A974-EF5E3CC18D4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69B8-3B02-4C28-9B03-D9AFF7C6418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1DD4C-149D-4EFB-8C82-A9378048B48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07EB-BCF2-4C15-A8FA-5C26CE3A5FA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C3FA-E917-4A5F-A9D4-8911D5ADB84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B8DE-B722-4191-9C6F-395161FA619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24EF-008F-468B-A359-5E58C7E372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092F-B96E-4795-B0F8-28A2A9CE27C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777A-DE2B-48E1-8FD9-B2745F9B640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B458-C940-4091-B4CB-4F4C54DA2C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623A-58A6-4635-9786-78F4076068C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A96E-ADB4-4B0A-9B0A-F5D4144EC82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FF10-E96E-4371-ADEC-CE6817FC08B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55FB-BBFD-4236-8269-8BE853A611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0738-C238-4CEB-9F90-CBE84457CA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2831-5E1D-4EF3-992E-DDEEDCFA9C6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A96C-044E-4BF6-8825-E106E1A613C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E6B0-47C4-42CF-8FD5-2C371045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9F17-7D5C-4915-8314-D355E401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9239-2A9C-473D-8ABE-700C3CDE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6AAB3-E211-4E3D-9B05-2F5575B5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E640-CB21-471F-BAD2-102D48E4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0924F-5C5C-413B-AE40-EE4C170F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6377-9795-4A3F-990D-8A6454A0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D7F8-5C1F-437C-AEF4-109623F3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415C-1322-491B-AC07-5C82EC66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BBD0-5293-4267-BCF8-3DF11244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48F5-0395-4C14-8DB2-16697E2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FFB6-5F99-4A52-A132-EEB25B81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07CB-3217-4DBA-96CE-0CA835A5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4338-8DF5-4097-8307-85DF625F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31F2-D74C-4D5B-9819-EDBD546C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99B9-050D-4ED0-A5A8-C2946B40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D5C5-74D1-42CA-90B7-9BB36FAA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C4354-C0D0-4289-B607-CF355A83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9296E-CD17-4DA0-8501-298F185D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0DC7-5538-4A78-96D3-D67EF8C4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3430-725D-4399-B81F-DECB7080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4DE93-9051-421D-9AF4-70BEC63E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FB5A2-78A9-4046-98DD-F6E530B7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6D72-F851-4537-BD85-B11C07F8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31BD-CA38-45B5-8ED4-D69E24771DC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ADA2-7940-4C01-BC6F-6879214F974D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4FDD-BC46-41D5-B51F-1FCE83763E81}" type="datetime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8435-F385-4161-B0E6-D5DB3E6C58A4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indire.i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Arial"/>
              </a:rPr>
              <a:t>I nuovi </a:t>
            </a:r>
            <a:br>
              <a:rPr sz="3000"/>
            </a:br>
            <a:r>
              <a:rPr b="0" lang="it-IT" sz="6800" spc="-1" strike="noStrike">
                <a:solidFill>
                  <a:srgbClr val="ffffff"/>
                </a:solidFill>
                <a:latin typeface="Arial"/>
              </a:rPr>
              <a:t>Istituti Tecnici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1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CasellaDiTesto 5"/>
          <p:cNvSpPr/>
          <p:nvPr/>
        </p:nvSpPr>
        <p:spPr>
          <a:xfrm>
            <a:off x="324000" y="4365720"/>
            <a:ext cx="8632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“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Schema di regolamento recante norme concernenti il riordino degli Istituti Tecnici ai sensi dell’articolo 64, comma 4, del decreto legge 25 giugno 2008, n. 112, convertito dalla legge 6 agosto 2008, n. 133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”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lang="it-IT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*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Berlin Sans FB"/>
              </a:rPr>
              <a:t>deliberato in prima lettura dal Consiglio dei Ministri il 28/5/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885528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ORE DI INSE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7812000" y="333360"/>
            <a:ext cx="1295640" cy="1129320"/>
            <a:chOff x="7812000" y="333360"/>
            <a:chExt cx="1295640" cy="1129320"/>
          </a:xfrm>
        </p:grpSpPr>
        <p:pic>
          <p:nvPicPr>
            <p:cNvPr id="18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28000" y="33336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9"/>
            <p:cNvSpPr/>
            <p:nvPr/>
          </p:nvSpPr>
          <p:spPr>
            <a:xfrm>
              <a:off x="7812000" y="112536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0"/>
          <p:cNvSpPr/>
          <p:nvPr/>
        </p:nvSpPr>
        <p:spPr>
          <a:xfrm>
            <a:off x="395280" y="13413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Aumento previs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4000" y="2421000"/>
          <a:ext cx="8497800" cy="3792600"/>
        </p:xfrm>
        <a:graphic>
          <a:graphicData uri="http://schemas.openxmlformats.org/drawingml/2006/table">
            <a:tbl>
              <a:tblPr/>
              <a:tblGrid>
                <a:gridCol w="4251240"/>
                <a:gridCol w="424656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rio attua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i="1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lla maggior parte delle scuole</a:t>
                      </a:r>
                      <a:r>
                        <a:rPr b="0" lang="it-IT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isto dalla Rifor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9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6 ore settimanali di 50 minuti</a:t>
                      </a:r>
                      <a:br>
                        <a:rPr sz="3200"/>
                      </a:br>
                      <a:br>
                        <a:rPr sz="32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</a:t>
                      </a:r>
                      <a:r>
                        <a:rPr b="1" lang="it-IT" sz="3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990</a:t>
                      </a: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ore annue effettiv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2 ore settimanali di 60 minuti</a:t>
                      </a:r>
                      <a:br>
                        <a:rPr sz="3200"/>
                      </a:br>
                      <a:br>
                        <a:rPr sz="32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</a:t>
                      </a:r>
                      <a:r>
                        <a:rPr b="1" lang="it-IT" sz="3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1.056</a:t>
                      </a: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ore annuali di lezio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68360" y="2276640"/>
          <a:ext cx="8136000" cy="3587760"/>
        </p:xfrm>
        <a:graphic>
          <a:graphicData uri="http://schemas.openxmlformats.org/drawingml/2006/table">
            <a:tbl>
              <a:tblPr/>
              <a:tblGrid>
                <a:gridCol w="2663640"/>
                <a:gridCol w="2733840"/>
                <a:gridCol w="2738520"/>
              </a:tblGrid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 GENER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U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RIZZ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ECIF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91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rimo bien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660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96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condo biennio e quinto an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95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61 or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9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ettangolo 10"/>
          <p:cNvSpPr/>
          <p:nvPr/>
        </p:nvSpPr>
        <p:spPr>
          <a:xfrm>
            <a:off x="395280" y="561960"/>
            <a:ext cx="74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A STRUTTURA DEL PERCORSO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QUINQUEN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6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CARATTERISTICHE INNOV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3760" y="1599840"/>
            <a:ext cx="843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Fort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tegrazione tra saperi teorici e saperi operativ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Risultati di apprendimento declinati i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mpetenze, abilità e conoscenze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anche con riferimento al Quadro europeo dei titoli e delle qualifiche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(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QF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),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er favorire la mobilità delle persone nell’Unione europea (da definire con apposito regola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Centralità de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laborator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tage, tirocini e alternanza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scuola-lavoro per apprendere in contesti operativ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ossibile collaborazione co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sperti estern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per arricchire l’offerta formativa 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e sviluppar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mpetenze specialist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9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604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VALUTAZIONE E ESAMI DI S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Per la valutazione periodica e finale 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degli studenti e per gli esami di St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sono previste 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prove finalizzate anche all’accertamento delle competenze in contesti applicativi</a:t>
            </a: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 le Commissioni degli esami di Stato possono avvalersi anche di qualificati esperti del mondo economico e produt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0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747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CRITERI DI CONFLUENZA NEL NUOVO ORDI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276280"/>
            <a:ext cx="85071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Il sistema è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RIORDINATO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INNOVA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per valorizzare le vocazion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degli istituti tecnic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Tutti i corsi di ordinamento e le relative sperimentazioni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degli attuali istituti tecn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confluiscono nel nuovo ordinamento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1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STITUTO TECNICO DEL SETTORE TECNOLOGICO E LICEO SCIENTIFICO AD OPZIONE SCIENTIFICO-TECNOLOGICA: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FILI CULTURALI E RISULTATI di APPREND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000" y="1533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TITUTO TECNICO 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TTORE TECNOLOGIC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CEO SCIENTIF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PZIONE SCIENTIFICO –TECNOLO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360" indent="-1443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800600" y="1488600"/>
            <a:ext cx="4038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gli istituti tecnici del settore tecnologico  lo studio della scienza e della tecnologia ha una valenza culturale generale, che garantisce il proseguimento degli studi, ma fornisce anche specifiche competenze professionali correlate  ai processi produttivi reali, collegati all’economia e al lavoro. In quanto rispondono alle esigenze del mondo produttivo, tali competenze offrono anche immediate opportunità di occupazio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’ opzione scientifico-tecnologica del Liceo scientifico è finalizzata a un approfondimento culturale della  scienza e alla padronanza dei suoi metodi, con particolare riferimento alle scienze sperimentali. La disciplina Informatica e Sistemi completa il quadro di cultura generale. Questa opzione è, quindi, prevalentemente orientata alla prosecuzione degli studi a livello universitari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ccia circolare in su 4"/>
          <p:cNvSpPr/>
          <p:nvPr/>
        </p:nvSpPr>
        <p:spPr>
          <a:xfrm>
            <a:off x="2484360" y="2781360"/>
            <a:ext cx="2357640" cy="571320"/>
          </a:xfrm>
          <a:custGeom>
            <a:avLst/>
            <a:gdLst>
              <a:gd name="textAreaLeft" fmla="*/ 535680 w 2357640"/>
              <a:gd name="textAreaRight" fmla="*/ 1750680 w 235764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818" hR="21600" stAng="10800000" swAng="-5400000"/>
                <a:lnTo>
                  <a:pt x="11128" y="21600"/>
                </a:lnTo>
                <a:arcTo wR="9818" hR="21600" stAng="5400000" swAng="-3624081"/>
                <a:lnTo>
                  <a:pt x="21288" y="5400"/>
                </a:lnTo>
                <a:lnTo>
                  <a:pt x="20291" y="0"/>
                </a:lnTo>
                <a:lnTo>
                  <a:pt x="18670" y="5400"/>
                </a:lnTo>
                <a:lnTo>
                  <a:pt x="19324" y="5400"/>
                </a:lnTo>
                <a:arcTo wR="9818" hR="21600" stAng="1775919" swAng="3519633"/>
                <a:lnTo>
                  <a:pt x="10473" y="21552"/>
                </a:lnTo>
                <a:arcTo wR="9818" hR="21600" stAng="5504447" swAng="5295553"/>
                <a:close/>
              </a:path>
              <a:path fill="darkenLess" w="21600" h="21600">
                <a:moveTo>
                  <a:pt x="0" y="0"/>
                </a:moveTo>
                <a:arcTo wR="9818" hR="21600" stAng="10800000" swAng="-5400000"/>
                <a:lnTo>
                  <a:pt x="11128" y="21600"/>
                </a:lnTo>
                <a:arcTo wR="9818" hR="21600" stAng="5400000" swAng="104447"/>
                <a:lnTo>
                  <a:pt x="10473" y="21552"/>
                </a:lnTo>
                <a:arcTo wR="9818" hR="21600" stAng="5504447" swAng="5295553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ccia circolare in su 5"/>
          <p:cNvSpPr/>
          <p:nvPr/>
        </p:nvSpPr>
        <p:spPr>
          <a:xfrm>
            <a:off x="2627280" y="5516640"/>
            <a:ext cx="2286000" cy="571320"/>
          </a:xfrm>
          <a:custGeom>
            <a:avLst/>
            <a:gdLst>
              <a:gd name="textAreaLeft" fmla="*/ 517680 w 2286000"/>
              <a:gd name="textAreaRight" fmla="*/ 1696680 w 2286000"/>
              <a:gd name="textAreaTop" fmla="*/ 76320 h 571320"/>
              <a:gd name="textAreaBottom" fmla="*/ 49500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-3619483"/>
                <a:lnTo>
                  <a:pt x="21289" y="5400"/>
                </a:lnTo>
                <a:lnTo>
                  <a:pt x="20250" y="0"/>
                </a:lnTo>
                <a:lnTo>
                  <a:pt x="18589" y="5400"/>
                </a:lnTo>
                <a:lnTo>
                  <a:pt x="19264" y="5400"/>
                </a:lnTo>
                <a:arcTo wR="9788" hR="21600" stAng="1780517" swAng="3511832"/>
                <a:lnTo>
                  <a:pt x="10462" y="21549"/>
                </a:lnTo>
                <a:arcTo wR="9788" hR="21600" stAng="5507651" swAng="5292349"/>
                <a:close/>
              </a:path>
              <a:path fill="darkenLess" w="21600" h="21600">
                <a:moveTo>
                  <a:pt x="0" y="0"/>
                </a:moveTo>
                <a:arcTo wR="9788" hR="21600" stAng="10800000" swAng="-5400000"/>
                <a:lnTo>
                  <a:pt x="11138" y="21600"/>
                </a:lnTo>
                <a:arcTo wR="9788" hR="21600" stAng="5400000" swAng="107651"/>
                <a:lnTo>
                  <a:pt x="10462" y="21549"/>
                </a:lnTo>
                <a:arcTo wR="9788" hR="21600" stAng="5507651" swAng="5292349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8001000" y="71280"/>
            <a:ext cx="1000080" cy="948960"/>
            <a:chOff x="8001000" y="71280"/>
            <a:chExt cx="1000080" cy="948960"/>
          </a:xfrm>
        </p:grpSpPr>
        <p:pic>
          <p:nvPicPr>
            <p:cNvPr id="222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167680" y="71280"/>
              <a:ext cx="588240" cy="5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9"/>
            <p:cNvSpPr/>
            <p:nvPr/>
          </p:nvSpPr>
          <p:spPr>
            <a:xfrm>
              <a:off x="8001000" y="682920"/>
              <a:ext cx="1000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60480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ICEO DELLE SCIENZE UMANE AD OPZIONE ECONOMICO-SOCIALE E ISTITUTO TECNICO DEL SETTORE ECONOMICO “AMMINISTRAZIONE, FINANZA E MARKETING”: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PARAZIONE DEI PROFILI CULTURALI E DEI RISULTATI di APPRENDI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1680" y="178596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CEO DELLE SCIENZE U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PZIONE ECONOMICO SO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STITUTO TEC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TTORE ECONOM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AMMINISTRAZIONE, FINANZA E MARKETING 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800600" y="1533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Cogliere  nessi ed interazioni tra le diverse scienze sociali (storia, diritto, economia, sociologia, antropologia, psicologia, ecc.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Individuare e utilizzare le categorie utili per la comprensione  dei fenomeni culturali e sociali contemporane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perare nel governo dei sistemi aziendali con riferimento a previsione, organizzazione, conduzione, gestione e controll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Arial"/>
              </a:rPr>
              <a:t>Operare nel sistema informativo dell’azienda  e contribuire sia alla sua innovazione  sia al suo adeguamento organizzativo e tecnolog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425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ccia circolare in su 9"/>
          <p:cNvSpPr/>
          <p:nvPr/>
        </p:nvSpPr>
        <p:spPr>
          <a:xfrm>
            <a:off x="3643200" y="5643720"/>
            <a:ext cx="1500480" cy="500040"/>
          </a:xfrm>
          <a:custGeom>
            <a:avLst/>
            <a:gdLst>
              <a:gd name="textAreaLeft" fmla="*/ 327960 w 1500480"/>
              <a:gd name="textAreaRight" fmla="*/ 1109880 w 1500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7"/>
          <p:cNvGrpSpPr/>
          <p:nvPr/>
        </p:nvGrpSpPr>
        <p:grpSpPr>
          <a:xfrm>
            <a:off x="8215200" y="0"/>
            <a:ext cx="785880" cy="817560"/>
            <a:chOff x="8215200" y="0"/>
            <a:chExt cx="785880" cy="817560"/>
          </a:xfrm>
        </p:grpSpPr>
        <p:pic>
          <p:nvPicPr>
            <p:cNvPr id="23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46240" y="0"/>
              <a:ext cx="462240" cy="4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Text Box 9"/>
            <p:cNvSpPr/>
            <p:nvPr/>
          </p:nvSpPr>
          <p:spPr>
            <a:xfrm>
              <a:off x="8215200" y="480240"/>
              <a:ext cx="785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Freccia circolare in su 12"/>
          <p:cNvSpPr/>
          <p:nvPr/>
        </p:nvSpPr>
        <p:spPr>
          <a:xfrm>
            <a:off x="3643200" y="3429000"/>
            <a:ext cx="1500480" cy="500040"/>
          </a:xfrm>
          <a:custGeom>
            <a:avLst/>
            <a:gdLst>
              <a:gd name="textAreaLeft" fmla="*/ 327960 w 1500480"/>
              <a:gd name="textAreaRight" fmla="*/ 1109880 w 150048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-3567133"/>
                <a:lnTo>
                  <a:pt x="21300" y="5400"/>
                </a:lnTo>
                <a:lnTo>
                  <a:pt x="19800" y="0"/>
                </a:lnTo>
                <a:lnTo>
                  <a:pt x="17700" y="5400"/>
                </a:lnTo>
                <a:lnTo>
                  <a:pt x="18600" y="5400"/>
                </a:lnTo>
                <a:arcTo wR="9450" hR="21600" stAng="1832867" swAng="3423323"/>
                <a:lnTo>
                  <a:pt x="10350" y="21502"/>
                </a:lnTo>
                <a:arcTo wR="9450" hR="21600" stAng="5543810" swAng="5256190"/>
                <a:close/>
              </a:path>
              <a:path fill="darkenLess" w="21600" h="21600">
                <a:moveTo>
                  <a:pt x="0" y="0"/>
                </a:moveTo>
                <a:arcTo wR="9450" hR="21600" stAng="10800000" swAng="-5400000"/>
                <a:lnTo>
                  <a:pt x="11250" y="21600"/>
                </a:lnTo>
                <a:arcTo wR="9450" hR="21600" stAng="5400000" swAng="143810"/>
                <a:lnTo>
                  <a:pt x="10350" y="21502"/>
                </a:lnTo>
                <a:arcTo wR="9450" hR="21600" stAng="5543810" swAng="5256190"/>
                <a:close/>
              </a:path>
            </a:pathLst>
          </a:cu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4760" y="419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E FASI DI ATTU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Con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uccessivi decreti ministeriali</a:t>
            </a: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 sono definiti i seguenti aspetti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scrizione de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risultati d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pprendiment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i="1" lang="it-IT" sz="2000" spc="-1" strike="noStrike">
                <a:solidFill>
                  <a:srgbClr val="00007d"/>
                </a:solidFill>
                <a:latin typeface="Arial"/>
              </a:rPr>
              <a:t>(competenze, abilità e conoscenze)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in relazione agli insegnamenti previsti negli Allegati B e C del Regolamento (</a:t>
            </a:r>
            <a:r>
              <a:rPr b="0" i="1" lang="it-IT" sz="2000" spc="-1" strike="noStrike">
                <a:solidFill>
                  <a:srgbClr val="00007d"/>
                </a:solidFill>
                <a:latin typeface="Arial"/>
              </a:rPr>
              <a:t>profili professionali e quadri orar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criteri e modalità  per definire le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opzion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cui è possibile articolare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aree di indirizz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predisposizione dell’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elenco nazional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delle opzioni, con indicazione delle discipline di riferimento, il relativo monte ore, la descrizione dei risultati di apprendimen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finizione delle</a:t>
            </a:r>
            <a:r>
              <a:rPr b="1" lang="it-IT" sz="20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lassi di concorso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e articolazione delle cattedre del personale docente, compreso quello da destinare all’Ufficio tecn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definizione degl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ndicatori per la valutazione e l’autovalutazione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di sistema degli istituti tecnici con riferimento al Quadro europeo per la qualità dei sistemi di istruzione e form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3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egnaposto numero diapositiva 2"/>
          <p:cNvSpPr/>
          <p:nvPr/>
        </p:nvSpPr>
        <p:spPr>
          <a:xfrm>
            <a:off x="6553080" y="61387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50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MISURE DI ACCOMPAGN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"/>
          <p:cNvGrpSpPr/>
          <p:nvPr/>
        </p:nvGrpSpPr>
        <p:grpSpPr>
          <a:xfrm>
            <a:off x="7705800" y="33480"/>
            <a:ext cx="1295280" cy="1129320"/>
            <a:chOff x="7705800" y="33480"/>
            <a:chExt cx="1295280" cy="1129320"/>
          </a:xfrm>
        </p:grpSpPr>
        <p:pic>
          <p:nvPicPr>
            <p:cNvPr id="244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3348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Text Box 9"/>
            <p:cNvSpPr/>
            <p:nvPr/>
          </p:nvSpPr>
          <p:spPr>
            <a:xfrm>
              <a:off x="7705800" y="82548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6" name=""/>
          <p:cNvGraphicFramePr/>
          <p:nvPr/>
        </p:nvGraphicFramePr>
        <p:xfrm>
          <a:off x="181080" y="1488960"/>
          <a:ext cx="8820000" cy="4869000"/>
        </p:xfrm>
        <a:graphic>
          <a:graphicData uri="http://schemas.openxmlformats.org/drawingml/2006/table">
            <a:tbl>
              <a:tblPr/>
              <a:tblGrid>
                <a:gridCol w="3529080"/>
                <a:gridCol w="5290920"/>
              </a:tblGrid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TINATA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IS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e scolas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ovani e famigl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nformazione/formazione</a:t>
                      </a:r>
                      <a:r>
                        <a:rPr b="0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del personale scolastico sui contenuti della riforma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ampagna di informazione</a:t>
                      </a:r>
                      <a:r>
                        <a:rPr b="0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in relazione alle scelte per l’anno scolastico 2010/2011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1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terventi da attuare in collaborazione con l’ANSA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7" name="Rectangle 51"/>
          <p:cNvSpPr/>
          <p:nvPr/>
        </p:nvSpPr>
        <p:spPr>
          <a:xfrm>
            <a:off x="4106520" y="2998080"/>
            <a:ext cx="9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1"/>
          <p:cNvSpPr/>
          <p:nvPr/>
        </p:nvSpPr>
        <p:spPr>
          <a:xfrm>
            <a:off x="686520" y="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MONITORAGGIO E VALUTAZIONE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DI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Costituzione del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COMITATO NAZIONALE PER L’ISTRUZIONE TECNICA E PROFESSIONAL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articolato in Commissioni di settore, composto da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erti</a:t>
            </a:r>
            <a:r>
              <a:rPr b="0" lang="it-IT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mondo del lavor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delle profession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ell’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università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ricerca;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irigenti scolastic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</a:t>
            </a: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doc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3300"/>
                </a:solidFill>
                <a:latin typeface="Arial"/>
              </a:rPr>
              <a:t>esper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signati da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Conferenza dei President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dell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Region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all’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UP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lavor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salute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 e delle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politiche sociali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lo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sviluppo economico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dal Ministero della </a:t>
            </a:r>
            <a:r>
              <a:rPr b="1" lang="it-IT" sz="2200" spc="-1" strike="noStrike">
                <a:solidFill>
                  <a:srgbClr val="00007d"/>
                </a:solidFill>
                <a:latin typeface="Arial"/>
              </a:rPr>
              <a:t>gioventù</a:t>
            </a:r>
            <a:r>
              <a:rPr b="0" lang="it-IT" sz="2200" spc="-1" strike="noStrike">
                <a:solidFill>
                  <a:srgbClr val="00007d"/>
                </a:solidFill>
                <a:latin typeface="Arial"/>
              </a:rPr>
              <a:t>, con funzioni di proposta e consulenza per l’aggiornamento periodico dei percorsi degli istituti tecnici e per la definizione degli indicatori per la valutazione e l’autovalutazione del servizio degli istitu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25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1"/>
          <p:cNvSpPr/>
          <p:nvPr/>
        </p:nvSpPr>
        <p:spPr>
          <a:xfrm>
            <a:off x="684360" y="109440"/>
            <a:ext cx="50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 nuovi Istituti Tecnici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Calibri"/>
              </a:rPr>
              <a:t>- Avvert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7"/>
          <p:cNvGrpSpPr/>
          <p:nvPr/>
        </p:nvGrpSpPr>
        <p:grpSpPr>
          <a:xfrm>
            <a:off x="7715160" y="0"/>
            <a:ext cx="1295640" cy="1129320"/>
            <a:chOff x="7715160" y="0"/>
            <a:chExt cx="1295640" cy="1129320"/>
          </a:xfrm>
        </p:grpSpPr>
        <p:pic>
          <p:nvPicPr>
            <p:cNvPr id="120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9"/>
            <p:cNvSpPr/>
            <p:nvPr/>
          </p:nvSpPr>
          <p:spPr>
            <a:xfrm>
              <a:off x="7715160" y="79200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"/>
          <p:cNvSpPr/>
          <p:nvPr/>
        </p:nvSpPr>
        <p:spPr>
          <a:xfrm>
            <a:off x="214200" y="954000"/>
            <a:ext cx="89298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Le slide che seguono presentano lo schema di Regolamento approvato in prima lettura dal Consiglio dei Ministri (CDM) il 28 maggio 2009; esaminato dal CNP il 22 luglio 2009, dalla Conferenza unificata Stato Regioni il 29 ottobre 20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Questa fase di </a:t>
            </a:r>
            <a:r>
              <a:rPr b="0" i="1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“Dialogo con la scuola” </a:t>
            </a: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e i pareri obbligatori (Consiglio di Stato e Commissioni parlamenta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contribuiranno 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Calibri"/>
              </a:rPr>
              <a:t>integrare e modificare</a:t>
            </a:r>
            <a:br>
              <a:rPr sz="1800"/>
            </a:br>
            <a:r>
              <a:rPr b="0" lang="it-IT" sz="1800" spc="-1" strike="noStrike">
                <a:solidFill>
                  <a:srgbClr val="000099"/>
                </a:solidFill>
                <a:latin typeface="Arial"/>
                <a:ea typeface="Calibri"/>
              </a:rPr>
              <a:t>il testo che andrà in approvazione defi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L’iter legislativo prevede successivam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Approvazione definitiva da parte del CD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Firma da parte del Capo dello Sta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Registrazione da parte della Corte dei Co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  </a:t>
            </a:r>
            <a:r>
              <a:rPr b="0" lang="it-IT" sz="1400" spc="-1" strike="noStrike">
                <a:solidFill>
                  <a:srgbClr val="000099"/>
                </a:solidFill>
                <a:latin typeface="Arial"/>
                <a:ea typeface="Calibri"/>
              </a:rPr>
              <a:t>Pubblicazione sulla Gazzetta Ufficiale della Repubbl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ETTORE ECONOMIC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GENERALI COMUNI AGLI INDIRIZZI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9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0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61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2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3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4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5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6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269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63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65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74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57120" y="1736640"/>
          <a:ext cx="8344080" cy="4978440"/>
        </p:xfrm>
        <a:graphic>
          <a:graphicData uri="http://schemas.openxmlformats.org/drawingml/2006/table">
            <a:tbl>
              <a:tblPr/>
              <a:tblGrid>
                <a:gridCol w="3238560"/>
                <a:gridCol w="1008000"/>
                <a:gridCol w="936720"/>
                <a:gridCol w="954000"/>
                <a:gridCol w="1100160"/>
                <a:gridCol w="110664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e letteratura italiana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inglese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toria, Cittadinanza e Costituzione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atematica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Scienze della Terra e Biologia)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motorie e sportive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RC o 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alterna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gener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MMINISTRAZIONE, FINANZA E MARKETING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 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286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35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337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0"/>
          <p:cNvSpPr/>
          <p:nvPr/>
        </p:nvSpPr>
        <p:spPr>
          <a:xfrm>
            <a:off x="5054760" y="97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1"/>
          <p:cNvSpPr/>
          <p:nvPr/>
        </p:nvSpPr>
        <p:spPr>
          <a:xfrm>
            <a:off x="5070600" y="129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513396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250920" y="1700280"/>
            <a:ext cx="86868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Amministrazione, Finanza e Market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ha competenze specifiche nel campo dei macro-fenomeni economici nazionali ed internazionali, della normativa civilistica e fiscale, dei sistemi aziendali (organizzazione, pianificazione, programmazione, amministrazione, finanza e controllo) degli strumenti di marketing, dei prodotti assicurativo-finanziari e dell’economia sociale.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tegra  le competenze dell’ambito professionale specifico con quelle linguistiche e informatiche per operare  nel sistema informativo dell’azienda e contribuire sia all’innovazione sia al miglioramento organizzativo e tecnologico dell’impresa.</a:t>
            </a:r>
            <a:br>
              <a:rPr sz="1200"/>
            </a:br>
            <a:br>
              <a:rPr sz="8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E’ in grado di:</a:t>
            </a:r>
            <a:br>
              <a:rPr sz="12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 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partecipare al lavoro organizzato e di gruppo con responsabilità e contributo person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con flessibilità in vari contesti affrontando il cambiamen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per obiettivi e per proget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documentare opportunamente il proprio lavor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individuare, selezionare e gestire le fonti di informa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elaborare, interpretare e rappresentare dati con il ricorso a strumenti informa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operare con una visione trasversale e sistemica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comunicare con linguaggi appropriati e con codici diver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 comunicare in due lingue straniere anche su argomenti tecnici.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 particolare, è in grado di assumere ruoli e funzioni relative a: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rilevazione dei fenomeni gestionali utilizzando metodi, strumenti, tecniche contabili ed extracontabi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trattamenti contabili in linea con i principi nazionali ed internazion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adempimenti di natura fiscale (imposte dirette ed indirette, contributi)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trattative contrattuali riferite alle diverse aree funzionali dell’aziend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lettura, redazione e interpretazione dei documenti contabili e finanziari aziend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controllo della gestione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reporting di analisi e di sintesi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utilizzo di tecnologie e programmi informatici dedicati alla gestione amministrativo/finanzia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MMINISTRAZIONE, FINANZA E MARKETING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1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35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37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22"/>
          <p:cNvSpPr/>
          <p:nvPr/>
        </p:nvSpPr>
        <p:spPr>
          <a:xfrm>
            <a:off x="5054760" y="974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23"/>
          <p:cNvSpPr/>
          <p:nvPr/>
        </p:nvSpPr>
        <p:spPr>
          <a:xfrm>
            <a:off x="5070600" y="1298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24"/>
          <p:cNvSpPr/>
          <p:nvPr/>
        </p:nvSpPr>
        <p:spPr>
          <a:xfrm>
            <a:off x="5133960" y="26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68360" y="1557360"/>
          <a:ext cx="8136000" cy="4649760"/>
        </p:xfrm>
        <a:graphic>
          <a:graphicData uri="http://schemas.openxmlformats.org/drawingml/2006/table">
            <a:tbl>
              <a:tblPr/>
              <a:tblGrid>
                <a:gridCol w="3206880"/>
                <a:gridCol w="1066680"/>
                <a:gridCol w="982440"/>
                <a:gridCol w="901800"/>
                <a:gridCol w="682560"/>
                <a:gridCol w="398520"/>
                <a:gridCol w="8971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a lingua comunitari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aziendale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politica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à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à e insegnamenti facoltativi nel settore econo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33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0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1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277920" y="333360"/>
            <a:ext cx="8866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URISM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73"/>
          <p:cNvSpPr/>
          <p:nvPr/>
        </p:nvSpPr>
        <p:spPr>
          <a:xfrm>
            <a:off x="6059520" y="144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75"/>
          <p:cNvSpPr/>
          <p:nvPr/>
        </p:nvSpPr>
        <p:spPr>
          <a:xfrm>
            <a:off x="6075360" y="16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4"/>
          <p:cNvSpPr/>
          <p:nvPr/>
        </p:nvSpPr>
        <p:spPr>
          <a:xfrm>
            <a:off x="5297400" y="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5"/>
          <p:cNvSpPr/>
          <p:nvPr/>
        </p:nvSpPr>
        <p:spPr>
          <a:xfrm>
            <a:off x="5313240" y="36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6"/>
          <p:cNvSpPr/>
          <p:nvPr/>
        </p:nvSpPr>
        <p:spPr>
          <a:xfrm>
            <a:off x="5297400" y="20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7"/>
          <p:cNvSpPr/>
          <p:nvPr/>
        </p:nvSpPr>
        <p:spPr>
          <a:xfrm>
            <a:off x="5313240" y="52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250920" y="1052640"/>
            <a:ext cx="8713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nel Turism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ha competenze specifiche nel campo dei macrofenomeni economici nazionali ed internazionali, della normativa civilistica e fiscale, oltre a competenze specifiche nel comparto delle aziende del settore turist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 nel sistema produttivo con particolare attenzione alla valorizzazione e fruizione del patrimonio paesaggistico, artistico, culturale, artigianale, enogastronomic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ntegra le competenze dell’ambito gestionale e della produzione di servizi/prodotti turistici con quelle linguistiche e informatiche per operare nel sistema informativo dell’azienda e contribuire sia all’innovazione sia al miglioramento organizzativo e tecnologico dell’impr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 con competenza ed autonomia  nelle diverse tipologie di imprese turistich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E’ in grado d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collaborare nella gestione organizzativa dei servizi secondo parametri di efficienza, efficacia e qualità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re le proprie competenze nel lavoro organizzato e di gruppo con responsabilità e propositivo contributo persona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con flessibilità in vari contesti sapendo affrontare il cambiament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per obiettivi e per progett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documentare opportunamente il proprio lavor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dividuare, selezionare e gestire le fonti di informa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laborare, interpretare e rappresentare efficacemente dati con il ricorso a strumenti informatici  e software gestional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re con visione non settoriale e sistemic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municare con linguaggi appropriati e con codici divers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comunicare in tre lingue stranie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operare nella produzione e gestione di servizi e/o prodotti turistici, con particolare attenzione alla valorizzazione del territori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definire con soggetti pubblici e privati l’immagine turistica del territorio e i piani di qualificazione per lo sviluppo dell’offerta integra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analizzare le tendenze del mercato e proporre opportune politiche di marketing, rispetto a specifiche tipologie di imprese turistic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-88920"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avvalersi di tecniche di comunicazione multimediale per la proozione del turismo integra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6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0"/>
          <p:cNvSpPr/>
          <p:nvPr/>
        </p:nvSpPr>
        <p:spPr>
          <a:xfrm>
            <a:off x="6059520" y="1603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21"/>
          <p:cNvSpPr/>
          <p:nvPr/>
        </p:nvSpPr>
        <p:spPr>
          <a:xfrm>
            <a:off x="6075360" y="1803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243000" y="476280"/>
            <a:ext cx="8866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URISMO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373"/>
          <p:cNvSpPr/>
          <p:nvPr/>
        </p:nvSpPr>
        <p:spPr>
          <a:xfrm>
            <a:off x="6059520" y="144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375"/>
          <p:cNvSpPr/>
          <p:nvPr/>
        </p:nvSpPr>
        <p:spPr>
          <a:xfrm>
            <a:off x="6075360" y="1639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>
            <a:off x="5297400" y="38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25"/>
          <p:cNvSpPr/>
          <p:nvPr/>
        </p:nvSpPr>
        <p:spPr>
          <a:xfrm>
            <a:off x="5313240" y="36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6"/>
          <p:cNvSpPr/>
          <p:nvPr/>
        </p:nvSpPr>
        <p:spPr>
          <a:xfrm>
            <a:off x="5297400" y="20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7"/>
          <p:cNvSpPr/>
          <p:nvPr/>
        </p:nvSpPr>
        <p:spPr>
          <a:xfrm>
            <a:off x="5313240" y="52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324000" y="1268280"/>
          <a:ext cx="8351640" cy="5160960"/>
        </p:xfrm>
        <a:graphic>
          <a:graphicData uri="http://schemas.openxmlformats.org/drawingml/2006/table">
            <a:tbl>
              <a:tblPr/>
              <a:tblGrid>
                <a:gridCol w="3801960"/>
                <a:gridCol w="877680"/>
                <a:gridCol w="871560"/>
                <a:gridCol w="928800"/>
                <a:gridCol w="936720"/>
                <a:gridCol w="9349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aziendale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a lingua comunitari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rza lingua straniera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turistiche aziend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ografia turistica   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 Legislazione turistica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e e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econom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3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ETTORE TECNOLOGICO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GENERALI COMUNI AGLI INDIRIZZI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38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29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40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324000" y="1916280"/>
          <a:ext cx="8397720" cy="3873240"/>
        </p:xfrm>
        <a:graphic>
          <a:graphicData uri="http://schemas.openxmlformats.org/drawingml/2006/table">
            <a:tbl>
              <a:tblPr/>
              <a:tblGrid>
                <a:gridCol w="4051080"/>
                <a:gridCol w="839880"/>
                <a:gridCol w="839880"/>
                <a:gridCol w="836640"/>
                <a:gridCol w="849240"/>
                <a:gridCol w="981000"/>
              </a:tblGrid>
              <a:tr h="3682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e letteratura italiana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inglese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toria, Cittadinanza e Costituzione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atematica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Scienze della Terra e Biologia)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motorie e sportive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RC o 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alternativ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gener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6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a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br>
              <a:rPr sz="20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0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89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00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2"/>
          <p:cNvSpPr/>
          <p:nvPr/>
        </p:nvSpPr>
        <p:spPr>
          <a:xfrm>
            <a:off x="501480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3"/>
          <p:cNvSpPr/>
          <p:nvPr/>
        </p:nvSpPr>
        <p:spPr>
          <a:xfrm>
            <a:off x="652464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>
            <a:off x="501480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5"/>
          <p:cNvSpPr/>
          <p:nvPr/>
        </p:nvSpPr>
        <p:spPr>
          <a:xfrm>
            <a:off x="652464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179280" y="1413000"/>
            <a:ext cx="8785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lnSpc>
                <a:spcPct val="11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Meccanica, Meccatronica ed Energia:</a:t>
            </a:r>
            <a:br>
              <a:rPr sz="1200"/>
            </a:br>
            <a:br>
              <a:rPr sz="1200"/>
            </a:b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ha competenze specifiche nel campo dei materiali, nella loro scelta, nei loro trattamenti e  lavorazioni;  inoltre, h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mpetenze sulle macchine e sui dispositivi utilizzati nelle industrie manifatturiere, agrarie, dei trasporti e dei servizi ne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versi contesti econom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e attività produttive d’interesse, esprime le proprie competenze nella progettazione, costruzione e collaudo dei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spositivi e dei prodotti e nella realizzazione dei processi produttiv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la manutenzione preventiva e ordinaria e nell’esercizio di sistemi meccanici ed elettromeccanici comples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dimensionare, installare e gestire semplici impianti industri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 campo dei trasporti, può approfondire e specializzare le sue competenze in ordine alla costruzione e manutenzion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ordinaria e straordinaria, dei mezzi terrestri, navali e aere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le conoscenze di meccanica, di elettrotecnica, elettronica e dei sistemi informatici dedicati con le nozioni di base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fisica e chimica, economia e organizzazione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rviene nell’automazione industriale e nel controllo e conduzione dei processi, rispetto ai quali è in grado di contribuir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’innovazione, all’adeguamento tecnologico e organizzativo delle imprese, per il miglioramento della qualità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economicità dei prodotti; elabora cicli di lavorazione, analizzandone e valutandone i cos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relativamente alle tipologie di produzione, interviene nei processi di conversione, gestione ed utilizzo dell’energia e del loro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ntrollo, per ottimizzare il consumo energetico nel rispetto delle normative sulla tutela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operare autonomamente, nell’ambito delle normative vigenti, ai fini della sicurezza sul lavoro e della tute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pianificare la produzione e la certificazione dei sistemi progettati, descrivendo e documentando il lavor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volto, valutando i risultati conseguiti, redigendo istruzioni tecniche e manuali d’us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egnaposto numero diapositiva 2"/>
          <p:cNvSpPr/>
          <p:nvPr/>
        </p:nvSpPr>
        <p:spPr>
          <a:xfrm>
            <a:off x="658800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  (1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 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324000" y="5734080"/>
            <a:ext cx="8208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32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89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00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24"/>
          <p:cNvSpPr/>
          <p:nvPr/>
        </p:nvSpPr>
        <p:spPr>
          <a:xfrm>
            <a:off x="501480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25"/>
          <p:cNvSpPr/>
          <p:nvPr/>
        </p:nvSpPr>
        <p:spPr>
          <a:xfrm>
            <a:off x="6524640" y="72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26"/>
          <p:cNvSpPr/>
          <p:nvPr/>
        </p:nvSpPr>
        <p:spPr>
          <a:xfrm>
            <a:off x="501480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7"/>
          <p:cNvSpPr/>
          <p:nvPr/>
        </p:nvSpPr>
        <p:spPr>
          <a:xfrm>
            <a:off x="6524640" y="87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307"/>
          <p:cNvSpPr/>
          <p:nvPr/>
        </p:nvSpPr>
        <p:spPr>
          <a:xfrm>
            <a:off x="4675320" y="604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24000" y="1484280"/>
          <a:ext cx="8353440" cy="399276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5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425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436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2"/>
          <p:cNvSpPr/>
          <p:nvPr/>
        </p:nvSpPr>
        <p:spPr>
          <a:xfrm>
            <a:off x="324000" y="189000"/>
            <a:ext cx="82296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CCANICA, MECCATRONICA ED ENERGIA  (2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5"/>
          <p:cNvSpPr/>
          <p:nvPr/>
        </p:nvSpPr>
        <p:spPr>
          <a:xfrm>
            <a:off x="4397400" y="31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6"/>
          <p:cNvSpPr/>
          <p:nvPr/>
        </p:nvSpPr>
        <p:spPr>
          <a:xfrm>
            <a:off x="4397400" y="55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"/>
          <p:cNvGraphicFramePr/>
          <p:nvPr/>
        </p:nvGraphicFramePr>
        <p:xfrm>
          <a:off x="395280" y="1197000"/>
          <a:ext cx="8352000" cy="5181480"/>
        </p:xfrm>
        <a:graphic>
          <a:graphicData uri="http://schemas.openxmlformats.org/drawingml/2006/table">
            <a:tbl>
              <a:tblPr/>
              <a:tblGrid>
                <a:gridCol w="3456000"/>
                <a:gridCol w="1008000"/>
                <a:gridCol w="936720"/>
                <a:gridCol w="1008000"/>
                <a:gridCol w="936720"/>
                <a:gridCol w="100656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ECCA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, macchine ed energia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automazione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meccaniche di processo e prodotto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egno, progettazione e organizzazione industriale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NERGI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, macchine ed energia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automazione                        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meccaniche di processo e prodotto     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mpianti energetici, disegno e progettazione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</a:t>
            </a:r>
            <a:br>
              <a:rPr sz="28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48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07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18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15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0"/>
          <p:cNvSpPr/>
          <p:nvPr/>
        </p:nvSpPr>
        <p:spPr>
          <a:xfrm>
            <a:off x="501480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1"/>
          <p:cNvSpPr/>
          <p:nvPr/>
        </p:nvSpPr>
        <p:spPr>
          <a:xfrm>
            <a:off x="652464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324000" y="1268280"/>
            <a:ext cx="84452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dei Trasporti e della Logistic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tecniche specifiche e metodi di lavoro funzionali allo svolgimento delle attività inerenti la progettazion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la realizzazione, il mantenimento in efficienza dei mezzi e degli impianti relativi e l’organizzazione di servizi logis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declinazioni di settore scelte dai singoli istituti, riguardano 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iversificate articolazioni del traspor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una cultura sistemica ed è in grado di attivarsi in ciascuno dei segmenti operativi del settore in cui si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pecializza e di quelli collater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le conoscenze fondamentali relative alle tipologie, strutture e componenti dei mezzi, allo scopo di  garantire i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mantenimento delle condizioni di esercizio richieste dalle norme vigenti in materia di traspor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 in grado di operare autonomamente nel controllo, nelle regolazioni e riparazioni dei sistemi di bord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e nell’organizzazione dei serviz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applica le tecnologie per l’ammodernamento dei processi produttivi, rispetto ai quali è in grado di contribuir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’innovazione e all’adeguamento tecnologico e organizzativo dell’impres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mbito dell’area Logistica, è in grado di operare nel campo delle infrastrutture, delle modalità di gestione de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raffico e relativa assistenza, delle procedure di spostamento e trasporto, della conduzione del mezzo in rapporto a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ipologia d’interesse, della gestione dell’impresa di trasporti e della logistica nelle sue diverse componenti: corrier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vettori, operatori di nodo e intermediari logist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relativamente alle tipologie di intervento, agisce nell’applicazione delle normative nazionali, comunitarie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internazionali per la sicurezza dei mezzi, dei servizi e del lavoro nonché del trasporto di merci pericolo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esprimere le proprie competenze nella valutazione di impatto ambientale, nella salvaguardi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’ambiente e nell’utilizzazione razionale dell’energi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descrive e documenta il lavoro svolto, conosce ed utilizza strumenti di comunicazione efficace e team working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operare in contesti organizzati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74760" y="52812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NUOVO IMPIANTO ORGANIZZAT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26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8" name=""/>
          <p:cNvGraphicFramePr/>
          <p:nvPr/>
        </p:nvGraphicFramePr>
        <p:xfrm>
          <a:off x="250920" y="1844640"/>
          <a:ext cx="8642160" cy="4608720"/>
        </p:xfrm>
        <a:graphic>
          <a:graphicData uri="http://schemas.openxmlformats.org/drawingml/2006/table">
            <a:tbl>
              <a:tblPr/>
              <a:tblGrid>
                <a:gridCol w="4105080"/>
                <a:gridCol w="45370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ECONOM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ORE TECNOLO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05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indent="-266760">
                        <a:spcBef>
                          <a:spcPts val="312"/>
                        </a:spcBef>
                        <a:spcAft>
                          <a:spcPts val="312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mministrazione, Finanza e Marke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ur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spcBef>
                          <a:spcPts val="312"/>
                        </a:spcBef>
                        <a:spcAft>
                          <a:spcPts val="312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ccanica, Meccatronica ed Energ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rasporti  e Logis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ed Elettrotecn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 e Telecomunicazion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rafica e Comunic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a, Materiali e Biotecnolog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istema M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graria e Agroindust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 indent="-177840">
                        <a:spcBef>
                          <a:spcPts val="561"/>
                        </a:spcBef>
                        <a:spcAft>
                          <a:spcPts val="561"/>
                        </a:spcAft>
                        <a:buClr>
                          <a:srgbClr val="00007d"/>
                        </a:buClr>
                        <a:buSzPct val="75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, Ambiente e 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0"/>
          <p:cNvSpPr/>
          <p:nvPr/>
        </p:nvSpPr>
        <p:spPr>
          <a:xfrm>
            <a:off x="468360" y="1197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 Black"/>
              </a:rPr>
              <a:t>2 SETTORI - 11 INDIRIZ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927B-8B50-4E62-9909-6A6C87BA9D2E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26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 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4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1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07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418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15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0"/>
          <p:cNvSpPr/>
          <p:nvPr/>
        </p:nvSpPr>
        <p:spPr>
          <a:xfrm>
            <a:off x="501480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1"/>
          <p:cNvSpPr/>
          <p:nvPr/>
        </p:nvSpPr>
        <p:spPr>
          <a:xfrm>
            <a:off x="6524640" y="169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80"/>
          <p:cNvSpPr/>
          <p:nvPr/>
        </p:nvSpPr>
        <p:spPr>
          <a:xfrm>
            <a:off x="4873680" y="195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395280" y="1125360"/>
          <a:ext cx="8136000" cy="4846680"/>
        </p:xfrm>
        <a:graphic>
          <a:graphicData uri="http://schemas.openxmlformats.org/drawingml/2006/table">
            <a:tbl>
              <a:tblPr/>
              <a:tblGrid>
                <a:gridCol w="3429000"/>
                <a:gridCol w="771480"/>
                <a:gridCol w="893880"/>
                <a:gridCol w="954000"/>
                <a:gridCol w="738360"/>
                <a:gridCol w="280800"/>
                <a:gridCol w="10684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Chimica)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 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PORT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, Elettronica e Automazione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ritto ed econom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Rectangle 9"/>
          <p:cNvSpPr/>
          <p:nvPr/>
        </p:nvSpPr>
        <p:spPr>
          <a:xfrm>
            <a:off x="395280" y="6308640"/>
            <a:ext cx="820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RASPORTI E LOGISTICA 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r>
              <a:rPr b="0" lang="it-IT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324000" y="6210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*)  Se l’articolazione “Trasporti” è riferita agli insegnamenti relativi agli apparati e impianti marittimi, il monte ore previsto per “Scienza della navigazione, struttura e costruzione del mezzo” è di 99 ore nel secondo biennio e 132 nell’ultimo anno; il monte ore per “Meccanica e Macchine” è di 165 ore nel secondo biennio e 264 nell’ultimo anno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4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27"/>
          <p:cNvSpPr/>
          <p:nvPr/>
        </p:nvSpPr>
        <p:spPr>
          <a:xfrm>
            <a:off x="5014800" y="79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28"/>
          <p:cNvSpPr/>
          <p:nvPr/>
        </p:nvSpPr>
        <p:spPr>
          <a:xfrm>
            <a:off x="6524640" y="798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29"/>
          <p:cNvSpPr/>
          <p:nvPr/>
        </p:nvSpPr>
        <p:spPr>
          <a:xfrm>
            <a:off x="4898880" y="-258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0"/>
          <p:cNvSpPr/>
          <p:nvPr/>
        </p:nvSpPr>
        <p:spPr>
          <a:xfrm>
            <a:off x="4898880" y="-2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31"/>
          <p:cNvSpPr/>
          <p:nvPr/>
        </p:nvSpPr>
        <p:spPr>
          <a:xfrm>
            <a:off x="4898880" y="11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32"/>
          <p:cNvSpPr/>
          <p:nvPr/>
        </p:nvSpPr>
        <p:spPr>
          <a:xfrm>
            <a:off x="4898880" y="24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50920" y="1285920"/>
          <a:ext cx="8642160" cy="4962600"/>
        </p:xfrm>
        <a:graphic>
          <a:graphicData uri="http://schemas.openxmlformats.org/drawingml/2006/table">
            <a:tbl>
              <a:tblPr/>
              <a:tblGrid>
                <a:gridCol w="3889440"/>
                <a:gridCol w="1008000"/>
                <a:gridCol w="1008000"/>
                <a:gridCol w="863640"/>
                <a:gridCol w="865080"/>
                <a:gridCol w="365040"/>
                <a:gridCol w="642960"/>
              </a:tblGrid>
              <a:tr h="520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PORT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della Navigazione, struttura e costruzione del mezzo *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acchine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della Navigazione e struttura dei mezzi di trasporto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Meccanica e Macch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ogis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ELETTRONICA ED ELETTROTECNICA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5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395280" y="1052640"/>
            <a:ext cx="8229600" cy="51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Elettronica ed Elettrotecnic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ha competenze specifiche nel campo dei materiali e della tecnologia costruttiva dei sistemi elettronici 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macchine elettriche, della generazione, elaborazione e trasmissione dei segnali elettrici ed elettronici, dei sistem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er la generazione, conversione e trasporto dell’energia elettrica e dei relativi impianti di distribu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nei contesti produttivi d’interesse, esprime le proprie competenze nella progettazione, costruzione e collaudo de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stemi elettronici e degli impianti elettric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 in grado di programmare controllori e microprocessor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opera nell’organizzazione dei servizi e nell’esercizio di sistemi elettrici ed elettronici compless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in grado di sviluppare e utilizzare sistemi di acquisizione dati, dispositivi, circuiti, apparecchi e apparati elettronici;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conosce le tecniche di controllo e interfaccia  mediante software dedicat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integra conoscenze di elettrotecnica, di elettronica e di informatica per intervenire nell’automazione industriale e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 controllo dei processi produttivi, rispetto ai quali è in grado di contribuire all’innovazione e all’adeguament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cnologico delle imprese, relativamente alle tipologie di produ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interviene nei processi di conversione dell’energia elettrica, anche di fonte alternativa, e del loro controllo,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ttimizzare il consumo energetico e adeguare gli impianti e i dispositivi alle normative sulla sicurez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è in grado di esprimere le proprie competenze, nell’ambito delle normative vigenti, nel mantenimento d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curezza sul lavoro e nella tutela ambientale, nonché di intervenire nel miglioramento della qualità dei prodotti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’organizzazione produttiva delle aziende;</a:t>
            </a:r>
            <a:br>
              <a:rPr sz="12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è in grado di pianificare la produzione dei sistemi progettati; descrive e documenta i progetti esecutivi ed il lavor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volto, utilizza e redige manuali d’uso; conosce ed utilizza strumenti di comunicazione efficace e team working per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LETTRONICA ED ELETTROTECNICA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(1/2)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616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63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ELETTRONICA ED ELETTROTECNICA  (2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65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482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483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84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99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704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773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41"/>
          <p:cNvSpPr/>
          <p:nvPr/>
        </p:nvSpPr>
        <p:spPr>
          <a:xfrm>
            <a:off x="3098880" y="461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2"/>
          <p:cNvSpPr/>
          <p:nvPr/>
        </p:nvSpPr>
        <p:spPr>
          <a:xfrm>
            <a:off x="6597720" y="18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3"/>
          <p:cNvSpPr/>
          <p:nvPr/>
        </p:nvSpPr>
        <p:spPr>
          <a:xfrm>
            <a:off x="6597720" y="265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4"/>
          <p:cNvSpPr/>
          <p:nvPr/>
        </p:nvSpPr>
        <p:spPr>
          <a:xfrm>
            <a:off x="3506760" y="-30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5"/>
          <p:cNvSpPr/>
          <p:nvPr/>
        </p:nvSpPr>
        <p:spPr>
          <a:xfrm>
            <a:off x="6821640" y="10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46"/>
          <p:cNvSpPr/>
          <p:nvPr/>
        </p:nvSpPr>
        <p:spPr>
          <a:xfrm>
            <a:off x="6821640" y="1887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47"/>
          <p:cNvSpPr/>
          <p:nvPr/>
        </p:nvSpPr>
        <p:spPr>
          <a:xfrm>
            <a:off x="4486320" y="-3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48"/>
          <p:cNvSpPr/>
          <p:nvPr/>
        </p:nvSpPr>
        <p:spPr>
          <a:xfrm>
            <a:off x="4486320" y="57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62680" y="-3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324000" y="1413000"/>
          <a:ext cx="8353440" cy="4754520"/>
        </p:xfrm>
        <a:graphic>
          <a:graphicData uri="http://schemas.openxmlformats.org/drawingml/2006/table">
            <a:tbl>
              <a:tblPr/>
              <a:tblGrid>
                <a:gridCol w="4209840"/>
                <a:gridCol w="758880"/>
                <a:gridCol w="830160"/>
                <a:gridCol w="365400"/>
                <a:gridCol w="509400"/>
                <a:gridCol w="743040"/>
                <a:gridCol w="9367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A COMUNE ALLE ARTICOLAZIONI: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,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UTOMAZION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progettazione di sistemi elettrici ed elettro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D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TECN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  ed  Elettrotecnica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automatici    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UTOMAZION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lettronica  ed  Elettrotecnica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automatici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delle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'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NFORMATICA E TELECOMUNICAZIONI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0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32400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Informatica e Telecomunicazioni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i sistemi informatici, dell’elaborazione dell’informazione, delle applicazioni 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cnologie Web, delle reti e degli apparati di comunicazion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declinazioni che le singole scuole vorranno approfondire, s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volgono all’analisi, progettazione, installazione e gestione di sistemi informatici, basi di dati,  reti di sistemi di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elaborazione, sistemi multimediali  e apparati di trasmissione dei segn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orientate alla gestione del ciclo di vita delle applicazioni che, sempre a seconda della declina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he le singole scuole vorranno approfondire, possono rivolgersi al software: gestionale – orientato ai servizi – per 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istemi dedicati “incorporati”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gestione di progetti, operando nel quadro di normative nazionali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internazionali, concernenti la sicurezza in tutte le sue accezioni e la protezione delle informazioni (“privacy”)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è in grado di esprimere le proprie competenze, nell’ambito delle normative vigenti, ai fini della sicurezza sul lavoro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a tutela ambientale e di intervenire nel miglioramento della qualità dei prodotti  e nell’organizzazione produttiv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e impre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di produzione dei sistemi, dove applica capacità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unicare e interagire efficacemente, sia nella forma scritta che or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nalisi e realizzazione delle soluzioni ha un approccio razionale, concettuale e analitico,  orientato a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aggiungimento dell’obiettivo, che esercita in contesti di lavoro caratterizzati prevalentemente da una gestione in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team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un’elevata conoscenza dell’inglese tecnico specifico del settore per interloquire in un ambito professional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aratterizzato da forte internazionalizzazione; utilizza e redige manuali d’u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FORMATICA E TELECOMUNICAZIONI  (1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3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539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540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541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556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761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76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780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1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539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540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541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556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761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"/>
          <p:cNvSpPr/>
          <p:nvPr/>
        </p:nvSpPr>
        <p:spPr>
          <a:xfrm>
            <a:off x="468360" y="-171360"/>
            <a:ext cx="8229600" cy="17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FORMATICA E TELECOMUNICAZIONI  (2/2)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46"/>
          <p:cNvSpPr/>
          <p:nvPr/>
        </p:nvSpPr>
        <p:spPr>
          <a:xfrm>
            <a:off x="493560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47"/>
          <p:cNvSpPr/>
          <p:nvPr/>
        </p:nvSpPr>
        <p:spPr>
          <a:xfrm>
            <a:off x="4951440" y="-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48"/>
          <p:cNvSpPr/>
          <p:nvPr/>
        </p:nvSpPr>
        <p:spPr>
          <a:xfrm>
            <a:off x="675792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49"/>
          <p:cNvSpPr/>
          <p:nvPr/>
        </p:nvSpPr>
        <p:spPr>
          <a:xfrm>
            <a:off x="493560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50"/>
          <p:cNvSpPr/>
          <p:nvPr/>
        </p:nvSpPr>
        <p:spPr>
          <a:xfrm>
            <a:off x="4951440" y="-603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51"/>
          <p:cNvSpPr/>
          <p:nvPr/>
        </p:nvSpPr>
        <p:spPr>
          <a:xfrm>
            <a:off x="6757920" y="-103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24000" y="1052640"/>
          <a:ext cx="8642160" cy="5313240"/>
        </p:xfrm>
        <a:graphic>
          <a:graphicData uri="http://schemas.openxmlformats.org/drawingml/2006/table">
            <a:tbl>
              <a:tblPr/>
              <a:tblGrid>
                <a:gridCol w="4465440"/>
                <a:gridCol w="907920"/>
                <a:gridCol w="930600"/>
                <a:gridCol w="753840"/>
                <a:gridCol w="666720"/>
                <a:gridCol w="196920"/>
                <a:gridCol w="72072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E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istemi e reti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progettazione di sistemi informatici e di telecomunicazioni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progetto, organizzazione d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mpres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nforma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lecomunic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GRAFICA E COMUNICAZION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832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"/>
          <p:cNvSpPr/>
          <p:nvPr/>
        </p:nvSpPr>
        <p:spPr>
          <a:xfrm>
            <a:off x="395280" y="1916280"/>
            <a:ext cx="82296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Grafica e Comunicazione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lla comunicazione interpersonale e di massa , con particolare riferimento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ll’uso di tecnologie per produrl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conoscenze di informatica di base e di strumenti hardware e software grafici e multimediali, di sistemi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unicazione in rete, di sistemi audiovisivi, fotografici e di stamp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tecniche e sistemistiche che, a seconda delle esigenze del mercato del lavoro 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rrispondenti declinazioni, possono rivolgersi: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1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programmazione ed esecuzione delle operazioni di prestampa e alla gestione e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   all’organizzazione delle operazioni di stampa e post-stamp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2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di ipertesti e presentazioni multimedi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3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fotografica e audiovisiv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  <a:ea typeface="Arial"/>
              </a:rPr>
              <a:t>4.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realizzazione e gestione di sistemi software di comunicazione in re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sa gestire progetti, inserirsi in attività di azienda, operare nell’ambito delle norme di sicurez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GRAFICA E COMUNICAZIONE  (1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86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504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505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506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521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6" name=""/>
          <p:cNvGraphicFramePr/>
          <p:nvPr/>
        </p:nvGraphicFramePr>
        <p:xfrm>
          <a:off x="395280" y="1857240"/>
          <a:ext cx="8353440" cy="3992760"/>
        </p:xfrm>
        <a:graphic>
          <a:graphicData uri="http://schemas.openxmlformats.org/drawingml/2006/table">
            <a:tbl>
              <a:tblPr/>
              <a:tblGrid>
                <a:gridCol w="3254400"/>
                <a:gridCol w="1100160"/>
                <a:gridCol w="1006560"/>
                <a:gridCol w="1022400"/>
                <a:gridCol w="93312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907" name="Rectangle 9"/>
          <p:cNvSpPr/>
          <p:nvPr/>
        </p:nvSpPr>
        <p:spPr>
          <a:xfrm>
            <a:off x="395280" y="5929200"/>
            <a:ext cx="83534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4760" y="185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IDENTITÀ ISTITUTI TEC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218440" cy="5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Rafforzare l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ultura scientifica e tecnic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attravers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7715160" y="142920"/>
            <a:ext cx="1295640" cy="1129320"/>
            <a:chOff x="7715160" y="142920"/>
            <a:chExt cx="1295640" cy="1129320"/>
          </a:xfrm>
        </p:grpSpPr>
        <p:pic>
          <p:nvPicPr>
            <p:cNvPr id="13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31160" y="142920"/>
              <a:ext cx="762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9"/>
            <p:cNvSpPr/>
            <p:nvPr/>
          </p:nvSpPr>
          <p:spPr>
            <a:xfrm>
              <a:off x="7715160" y="9349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ttangolo 7"/>
          <p:cNvSpPr/>
          <p:nvPr/>
        </p:nvSpPr>
        <p:spPr>
          <a:xfrm>
            <a:off x="42782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52560" y="2637000"/>
          <a:ext cx="7237440" cy="3538440"/>
        </p:xfrm>
        <a:graphic>
          <a:graphicData uri="http://schemas.openxmlformats.org/drawingml/2006/table">
            <a:tbl>
              <a:tblPr/>
              <a:tblGrid>
                <a:gridCol w="1035000"/>
                <a:gridCol w="6202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EMAT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CIENZE E TECNOLO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800"/>
                      </a:br>
                      <a:r>
                        <a:rPr b="1" lang="it-IT" sz="2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LINGUA INGLESE</a:t>
                      </a:r>
                      <a:br>
                        <a:rPr sz="2800"/>
                      </a:b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(con possibilità di introdurre insegnamento</a:t>
                      </a:r>
                      <a:br>
                        <a:rPr sz="2000"/>
                      </a:br>
                      <a:r>
                        <a:rPr b="1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1 disciplina tecnica in lingua ingles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22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91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489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490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491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506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"/>
          <p:cNvSpPr/>
          <p:nvPr/>
        </p:nvSpPr>
        <p:spPr>
          <a:xfrm>
            <a:off x="17928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GRAFICA E COMUNICAZIONE  (2/2)</a:t>
            </a: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0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58"/>
          <p:cNvSpPr/>
          <p:nvPr/>
        </p:nvSpPr>
        <p:spPr>
          <a:xfrm>
            <a:off x="4935600" y="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59"/>
          <p:cNvSpPr/>
          <p:nvPr/>
        </p:nvSpPr>
        <p:spPr>
          <a:xfrm>
            <a:off x="4951440" y="474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60"/>
          <p:cNvSpPr/>
          <p:nvPr/>
        </p:nvSpPr>
        <p:spPr>
          <a:xfrm>
            <a:off x="6757920" y="46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7" name=""/>
          <p:cNvGraphicFramePr/>
          <p:nvPr/>
        </p:nvGraphicFramePr>
        <p:xfrm>
          <a:off x="250920" y="1773360"/>
          <a:ext cx="8353440" cy="3889080"/>
        </p:xfrm>
        <a:graphic>
          <a:graphicData uri="http://schemas.openxmlformats.org/drawingml/2006/table">
            <a:tbl>
              <a:tblPr/>
              <a:tblGrid>
                <a:gridCol w="3673440"/>
                <a:gridCol w="1058760"/>
                <a:gridCol w="957240"/>
                <a:gridCol w="936720"/>
                <a:gridCol w="839880"/>
                <a:gridCol w="182520"/>
                <a:gridCol w="704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oria della comunicazione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gettazione multimed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processi di produzione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Organizzazione e gestione dei processi produttivi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 tecnici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HIMICA, MATERIALI E BIOTECNOLOGIE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9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"/>
          <p:cNvSpPr/>
          <p:nvPr/>
        </p:nvSpPr>
        <p:spPr>
          <a:xfrm>
            <a:off x="395280" y="1197000"/>
            <a:ext cx="82296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in Chimica, Materiali e Biotecnologie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i materiali, delle analisi chimico-biologiche, nei processi di produzione, in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elazione alle esigenze delle realtà territoriali, negli ambiti chimico, merceologico, biologico, farmaceutico, tintorio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nciario, cartario, materie plastiche, metallurgico, minerario, ambientale, biotecnologico e microbiologico, n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nalisi chimico-biologiche e ambientali, relative al controllo igienico-sanitario e al controllo e monitoraggi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nel settore della prevenzione e della gestione di situazioni a rischio sanitario, all’interno del sistema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ociale e/o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- nei contesti produttivi d’interesse, esprime le proprie competenze nella gestione e nel controllo dei processi, n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gestione e manutenzione di impianti chimici, tecnologici e biotecnologici, partecipando alla risoluzione dell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roblematiche relative agli stessi; ha competenze per l’analisi e il controllo dei reflui, nel rispetto delle normativ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er la tutela ambient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integra competenze di chimica, di biologia e microbiologia, di impianti e di processi chimici e biotecnologici,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rganizzazione e automazione industriale, per contribuire all’innovazione dei processi e delle relative procedure d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gestione e di controllo, per il sistematico adeguamento tecnologico e organizzativo delle impres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noscenze specifiche in merito alla gestione della sicurezza degli ambienti di lavoro, del miglioramento d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qualità dei prodotti, dei processi e dei serviz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per la pianificazione, gestione e controllo delle attività di laboratorio di analisi e, nello sviluppo de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processo e del prodotto, è in grado di verificare la corrispondenza del prodotto alle specifiche dichiarat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applicando le procedure e i protocolli dell’area di competenza, controllarne il ciclo di produzione utilizzand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software dedicati sia alle tecniche di analisi di laboratorio sia al controllo e gestione degli impiant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1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01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063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07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2"/>
          <p:cNvSpPr/>
          <p:nvPr/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2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61"/>
          <p:cNvSpPr/>
          <p:nvPr/>
        </p:nvSpPr>
        <p:spPr>
          <a:xfrm>
            <a:off x="4913280" y="123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62"/>
          <p:cNvSpPr/>
          <p:nvPr/>
        </p:nvSpPr>
        <p:spPr>
          <a:xfrm>
            <a:off x="4929120" y="552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63"/>
          <p:cNvSpPr/>
          <p:nvPr/>
        </p:nvSpPr>
        <p:spPr>
          <a:xfrm>
            <a:off x="6632640" y="123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64"/>
          <p:cNvSpPr/>
          <p:nvPr/>
        </p:nvSpPr>
        <p:spPr>
          <a:xfrm>
            <a:off x="6632640" y="105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65"/>
          <p:cNvSpPr/>
          <p:nvPr/>
        </p:nvSpPr>
        <p:spPr>
          <a:xfrm>
            <a:off x="6632640" y="121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66"/>
          <p:cNvSpPr/>
          <p:nvPr/>
        </p:nvSpPr>
        <p:spPr>
          <a:xfrm>
            <a:off x="6632640" y="1819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67"/>
          <p:cNvSpPr/>
          <p:nvPr/>
        </p:nvSpPr>
        <p:spPr>
          <a:xfrm>
            <a:off x="6632640" y="2095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0" name=""/>
          <p:cNvGraphicFramePr/>
          <p:nvPr/>
        </p:nvGraphicFramePr>
        <p:xfrm>
          <a:off x="324000" y="1557360"/>
          <a:ext cx="8137440" cy="4192560"/>
        </p:xfrm>
        <a:graphic>
          <a:graphicData uri="http://schemas.openxmlformats.org/drawingml/2006/table">
            <a:tbl>
              <a:tblPr/>
              <a:tblGrid>
                <a:gridCol w="3244680"/>
                <a:gridCol w="1076400"/>
                <a:gridCol w="1012680"/>
                <a:gridCol w="866880"/>
                <a:gridCol w="928800"/>
                <a:gridCol w="1008000"/>
              </a:tblGrid>
              <a:tr h="27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MATERIAL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BIOTECNOLOGIE AMBIENTAL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Fisica ambientale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13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493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04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"/>
          <p:cNvSpPr/>
          <p:nvPr/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HIMICA, MATERIALI E BIOTECNOLOGIE  (3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7"/>
          <p:cNvSpPr/>
          <p:nvPr/>
        </p:nvSpPr>
        <p:spPr>
          <a:xfrm>
            <a:off x="4821120" y="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8"/>
          <p:cNvSpPr/>
          <p:nvPr/>
        </p:nvSpPr>
        <p:spPr>
          <a:xfrm>
            <a:off x="4836960" y="68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9"/>
          <p:cNvSpPr/>
          <p:nvPr/>
        </p:nvSpPr>
        <p:spPr>
          <a:xfrm>
            <a:off x="6540480" y="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60"/>
          <p:cNvSpPr/>
          <p:nvPr/>
        </p:nvSpPr>
        <p:spPr>
          <a:xfrm>
            <a:off x="6540480" y="1193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1"/>
          <p:cNvSpPr/>
          <p:nvPr/>
        </p:nvSpPr>
        <p:spPr>
          <a:xfrm>
            <a:off x="6540480" y="1355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2"/>
          <p:cNvSpPr/>
          <p:nvPr/>
        </p:nvSpPr>
        <p:spPr>
          <a:xfrm>
            <a:off x="4695840" y="47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3"/>
          <p:cNvSpPr/>
          <p:nvPr/>
        </p:nvSpPr>
        <p:spPr>
          <a:xfrm>
            <a:off x="4711680" y="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3" name=""/>
          <p:cNvGraphicFramePr/>
          <p:nvPr/>
        </p:nvGraphicFramePr>
        <p:xfrm>
          <a:off x="324000" y="1557360"/>
          <a:ext cx="8440560" cy="4986360"/>
        </p:xfrm>
        <a:graphic>
          <a:graphicData uri="http://schemas.openxmlformats.org/drawingml/2006/table">
            <a:tbl>
              <a:tblPr/>
              <a:tblGrid>
                <a:gridCol w="3182760"/>
                <a:gridCol w="1073160"/>
                <a:gridCol w="995400"/>
                <a:gridCol w="1058760"/>
                <a:gridCol w="901800"/>
                <a:gridCol w="12286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E BIOTECNOLOGIE SANITARIE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nalitica e stru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organica e bio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chimiche e biotecnologie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giene, Anatomia, Fisiologia, Pat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egislazione sani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ISTEMA MODA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20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2"/>
          <p:cNvSpPr/>
          <p:nvPr/>
        </p:nvSpPr>
        <p:spPr>
          <a:xfrm>
            <a:off x="428760" y="1557360"/>
            <a:ext cx="83581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400" spc="-1" strike="noStrike">
                <a:solidFill>
                  <a:srgbClr val="00007d"/>
                </a:solidFill>
                <a:latin typeface="Arial"/>
              </a:rPr>
              <a:t>Perito nell’Indirizzo Sistema Moda</a:t>
            </a: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400"/>
            </a:b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ha competenze specifiche nell’ambito delle diverse realtà ideativo-creative, progettuali, produttive e di marketing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   del settore tessile, abbigliamento, calzatura, accessori e 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nei diversi contesti d’impiego, con riferimento alle specifiche esigenze, è in grado di assumere ruoli e funzioni di ideazione, progettazione e produzione di filati, tessuti, confezioni, calzature e accessori, di organizzazione, gestione e controllo della qualità delle materie prime e dei prodotti finiti; 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relativamente alle diverse tipologie di processi produttivi, interviene nella gestione e nel controllo degli stessi per migliorare qualità e sicurezza dei prodotti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applica le normative sulla tutela dell’ambiente, sulla sicurezza dei luoghi di lavoro e degli impianti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integra la sua preparazione con competenze trasversali di filiera che gli consentono sensibilità e capacità di lettura delle problematiche dell’area sistema-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relativamente alle strategie aziendali, opera in termini di individuazione di strategie innovative di processo, di prodotto e di marketing; contribuisce all’innovazione creativa, produttiva e organizzativa delle aziende del settore moda;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 </a:t>
            </a:r>
            <a:br>
              <a:rPr sz="1400"/>
            </a:br>
            <a:r>
              <a:rPr b="0" lang="it-IT" sz="14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24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ISTEMA MODA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294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3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304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5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6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SISTEMA MODA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3"/>
          <p:cNvSpPr/>
          <p:nvPr/>
        </p:nvSpPr>
        <p:spPr>
          <a:xfrm>
            <a:off x="4913280" y="-747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4"/>
          <p:cNvSpPr/>
          <p:nvPr/>
        </p:nvSpPr>
        <p:spPr>
          <a:xfrm>
            <a:off x="4929120" y="-318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5"/>
          <p:cNvSpPr/>
          <p:nvPr/>
        </p:nvSpPr>
        <p:spPr>
          <a:xfrm>
            <a:off x="6632640" y="-747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6"/>
          <p:cNvSpPr/>
          <p:nvPr/>
        </p:nvSpPr>
        <p:spPr>
          <a:xfrm>
            <a:off x="6632640" y="185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7"/>
          <p:cNvSpPr/>
          <p:nvPr/>
        </p:nvSpPr>
        <p:spPr>
          <a:xfrm>
            <a:off x="6632640" y="900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8"/>
          <p:cNvSpPr/>
          <p:nvPr/>
        </p:nvSpPr>
        <p:spPr>
          <a:xfrm>
            <a:off x="6632640" y="1728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2" name=""/>
          <p:cNvGraphicFramePr/>
          <p:nvPr/>
        </p:nvGraphicFramePr>
        <p:xfrm>
          <a:off x="324000" y="1341360"/>
          <a:ext cx="8353440" cy="5011920"/>
        </p:xfrm>
        <a:graphic>
          <a:graphicData uri="http://schemas.openxmlformats.org/drawingml/2006/table">
            <a:tbl>
              <a:tblPr/>
              <a:tblGrid>
                <a:gridCol w="4719600"/>
                <a:gridCol w="752400"/>
                <a:gridCol w="647640"/>
                <a:gridCol w="792360"/>
                <a:gridCol w="687240"/>
                <a:gridCol w="75420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SSILE, ABBIGLIAMENTO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 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ALZATURE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himica applicata e nobilitazione dei materiali per 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 e marketing delle aziende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SSILE, ABBIGLIAMENTO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materiali e dei processi produttivi e organizzativi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deazione, progettazione e industrializzazione de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ALZATURE E MODA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dei materiali e dei processi produttivi e organizzativi della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Ideazione, progettazione e industrializzazione dei prodotti mo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GRARIA E AGROINDUSTRIA 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375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2"/>
          <p:cNvSpPr/>
          <p:nvPr/>
        </p:nvSpPr>
        <p:spPr>
          <a:xfrm>
            <a:off x="179280" y="1341360"/>
            <a:ext cx="87854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nell’Agraria ed Agroindustria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specifiche nel campo dell’organizzazione e della gestione delle attività produttive nei settori vegetale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nimale, con attenzione alla qualità dei prodotti ed al rispetto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e conoscenze che, a seconda delle articolazioni che le singole scuole vorranno approfondire, si rivolgono a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miglioramento dei prodotti e delle tecniche di trasformazione, alla valorizzazione dei prodotti, con attenzione a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trasparenza e alla tracciabilità, o alla gestione dell’ambiente e del territorio secondo le normative concernenti l’agricoltura;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ll’ambito delle articolazioni previste, esprime le proprie competenze nelle attività di miglioramento genetico dei prodott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ia vegetali che animali, sulla scorta di competenze nel settore delle biotecnologie agrarie in modo da contribuire a garantir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gli aspetti più significativi delle caratteristiche igieniche ed organolettiche o individua esigenze locali verso il miglioramento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e situazioni ambientali mediante controlli con opportuni indicatori, protezione dei suoli e delle strutture paesaggistiche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sostegno agli insediamenti e alla vita rural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 settore della trasformazione dei prodotti, attivando processi tecnologici e biotecnologici per ottenere qualità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economicità dei risultati, gestendo altresì una corretta utilizzazione dei reflui e dei residu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trolla  con metodi contabili ed economici le predette attività redigendo documenti contabili, preventivi e consuntiv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economici, rilevando indici di efficienza ed emettendo giudizi di convenienza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rocede ad operazioni di rilievo, di conservazione del catasto, ad interpretazione di carte tematiche, esprimendo le propri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competenze in attività di gestione del territorio; rileva condizioni di disagio ambientale e progetta interventi a prote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delle zone di rischi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nelle attività di promozione e commercializzazione dei prodotti agrari ed agroindustriali; esprime le proprie  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team working per operare in contesti organizzati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408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1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7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468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747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NUOVI MODELLI ORGANIZZA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43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250920" y="1700280"/>
          <a:ext cx="8642160" cy="4632120"/>
        </p:xfrm>
        <a:graphic>
          <a:graphicData uri="http://schemas.openxmlformats.org/drawingml/2006/table">
            <a:tbl>
              <a:tblPr/>
              <a:tblGrid>
                <a:gridCol w="3457440"/>
                <a:gridCol w="5184720"/>
              </a:tblGrid>
              <a:tr h="78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PARTIMEN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avorire la progettazione didatti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e l’integrazione disciplinare</a:t>
                      </a:r>
                      <a:r>
                        <a:rPr b="1" lang="it-IT" sz="2000" spc="-1" strike="noStrike">
                          <a:solidFill>
                            <a:srgbClr val="c10311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ITATO TECNICO SCIENTIF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omposizione paritetic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docent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di esperti del mondo del lavoro, delle professioni e della ricerca scientifica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tecnologica.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Funzioni consultive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i proposta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 organizzazione aree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indirizzo e utilizzazione degli spazi </a:t>
                      </a:r>
                      <a:br>
                        <a:rPr sz="2000"/>
                      </a:b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 autonomia e flessibilità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FICIO TECN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PER GLI ISTITUTI DEL SETTORE TECNOLOGIC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n il compito di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organizzare i laboratori</a:t>
                      </a:r>
                      <a:r>
                        <a:rPr b="0" lang="it-IT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in maniera funzionale, per il loro adeguamento alle innovazioni tecnologiche, alle misure necessarie per la sicurezza delle persone e dell’ambient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2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48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2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Line 73"/>
          <p:cNvSpPr/>
          <p:nvPr/>
        </p:nvSpPr>
        <p:spPr>
          <a:xfrm>
            <a:off x="4861080" y="-1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Line 74"/>
          <p:cNvSpPr/>
          <p:nvPr/>
        </p:nvSpPr>
        <p:spPr>
          <a:xfrm>
            <a:off x="4876920" y="29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75"/>
          <p:cNvSpPr/>
          <p:nvPr/>
        </p:nvSpPr>
        <p:spPr>
          <a:xfrm>
            <a:off x="6683400" y="-1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76"/>
          <p:cNvSpPr/>
          <p:nvPr/>
        </p:nvSpPr>
        <p:spPr>
          <a:xfrm>
            <a:off x="6683400" y="79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77"/>
          <p:cNvSpPr/>
          <p:nvPr/>
        </p:nvSpPr>
        <p:spPr>
          <a:xfrm>
            <a:off x="6683400" y="15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78"/>
          <p:cNvSpPr/>
          <p:nvPr/>
        </p:nvSpPr>
        <p:spPr>
          <a:xfrm>
            <a:off x="6683400" y="1785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6" name=""/>
          <p:cNvGraphicFramePr/>
          <p:nvPr/>
        </p:nvGraphicFramePr>
        <p:xfrm>
          <a:off x="395280" y="1557360"/>
          <a:ext cx="8280360" cy="4410000"/>
        </p:xfrm>
        <a:graphic>
          <a:graphicData uri="http://schemas.openxmlformats.org/drawingml/2006/table">
            <a:tbl>
              <a:tblPr/>
              <a:tblGrid>
                <a:gridCol w="3168720"/>
                <a:gridCol w="1079280"/>
                <a:gridCol w="1008360"/>
                <a:gridCol w="1081080"/>
                <a:gridCol w="1049040"/>
                <a:gridCol w="89388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20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SCIPLINE COMUNI ALLE ARTICOLAZIONI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E TRASFORMAZION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vege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Produzioni anim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“PRODUZIONI E TRASFORMAZIONI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formazione dei prodo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, estimo, marketing e legisl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nio ru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Biotecnologie agr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à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559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0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1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587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589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601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910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25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36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753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AGRARIA E AGROINDUSTRIA (3/3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73"/>
          <p:cNvSpPr/>
          <p:nvPr/>
        </p:nvSpPr>
        <p:spPr>
          <a:xfrm>
            <a:off x="4861080" y="-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74"/>
          <p:cNvSpPr/>
          <p:nvPr/>
        </p:nvSpPr>
        <p:spPr>
          <a:xfrm>
            <a:off x="4876920" y="168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75"/>
          <p:cNvSpPr/>
          <p:nvPr/>
        </p:nvSpPr>
        <p:spPr>
          <a:xfrm>
            <a:off x="6683400" y="-26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76"/>
          <p:cNvSpPr/>
          <p:nvPr/>
        </p:nvSpPr>
        <p:spPr>
          <a:xfrm>
            <a:off x="6683400" y="901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77"/>
          <p:cNvSpPr/>
          <p:nvPr/>
        </p:nvSpPr>
        <p:spPr>
          <a:xfrm>
            <a:off x="6683400" y="117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3" name=""/>
          <p:cNvGraphicFramePr/>
          <p:nvPr/>
        </p:nvGraphicFramePr>
        <p:xfrm>
          <a:off x="395280" y="1628640"/>
          <a:ext cx="8291520" cy="4172040"/>
        </p:xfrm>
        <a:graphic>
          <a:graphicData uri="http://schemas.openxmlformats.org/drawingml/2006/table">
            <a:tbl>
              <a:tblPr/>
              <a:tblGrid>
                <a:gridCol w="3772080"/>
                <a:gridCol w="755640"/>
                <a:gridCol w="225360"/>
                <a:gridCol w="936360"/>
                <a:gridCol w="935280"/>
                <a:gridCol w="865080"/>
                <a:gridCol w="801720"/>
              </a:tblGrid>
              <a:tr h="307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3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RTICOLAZIONE  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“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rasformazione dei prodo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nio rur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conomia, estimo, marketing e  legisl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Gestione dell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ambiente e del 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Biotecnologie agra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STRUZIONI, AMBIENTE E TERRITORIO</a:t>
            </a:r>
            <a:br>
              <a:rPr sz="2400"/>
            </a:b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PROF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637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8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511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Line 512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Line 513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Line 52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Line 7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Line 802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2"/>
          <p:cNvSpPr/>
          <p:nvPr/>
        </p:nvSpPr>
        <p:spPr>
          <a:xfrm>
            <a:off x="3240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Il </a:t>
            </a:r>
            <a:r>
              <a:rPr b="1" lang="it-IT" sz="1200" spc="-1" strike="noStrike">
                <a:solidFill>
                  <a:srgbClr val="00007d"/>
                </a:solidFill>
                <a:latin typeface="Arial"/>
              </a:rPr>
              <a:t>Perito delle Costruzioni, Ambiente e Territorio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1200"/>
            </a:b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ha competenze nel campo dei materiali, delle macchine e dei dispositivi utilizzati nelle industrie delle costruzioni,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'impiego degli strumenti di rilievo, nell'uso dei mezzi informatici per la rappresentazione grafica e per il calcolo,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nella valutazione tecnica ed economica dei beni privati e pubblici esistenti nel territorio e nell’utilizzo ottimale delle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sorse ambient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possiede capacità grafiche e progettuali in campo edilizio e nell’organizzazione del cantiere, nella gestione degl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impianti,  nel rilievo topografico, nella stima di terreni e fabbricati e delle altre componenti del territorio, nei diritti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eali che li riguardano, nell’amministrazione di immobili e nello svolgimento di operazioni catastali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nei contesti produttivi d’interesse, esprime le proprie competenze nella progettazione, valutazione e realizzazion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i organismi complessi mentre opera in autonomia nel caso di organismi di modesta entità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opera autonomamente nella gestione, nella manutenzione e nell’esercizio di organismi edilizi e nella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organizzazione di cantieri mobili;  relativamente ai fabbricati, interviene nei processi di conversione dell’energia e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del loro controllo; è in grado di prevedere, nell’ambito dell’edilizia eco compatibile, le soluzioni opportune per il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 risparmio energetico nel rispetto delle normative sulla tutela dell’ambien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la sua formazione sistemica gli consente di spaziare tra le sue conoscenze fino ad arrivare alla pianificazione ed 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 alla organizzazione di tutte le misure opportune in materia di salvaguardia della salute nei luoghi di vita e di lavoro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esprime le proprie competenze nella pianificazione delle attività aziendali, relaziona e documenta le attività svolte;</a:t>
            </a:r>
            <a:br>
              <a:rPr sz="1200"/>
            </a:b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- conosce ed utilizza strumenti di comunicazione efficace e </a:t>
            </a:r>
            <a:r>
              <a:rPr b="0" i="1" lang="it-IT" sz="1200" spc="-1" strike="noStrike">
                <a:solidFill>
                  <a:srgbClr val="00007d"/>
                </a:solidFill>
                <a:latin typeface="Arial"/>
              </a:rPr>
              <a:t>team working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 per operare in contesti organizz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5"/>
          <p:cNvSpPr/>
          <p:nvPr/>
        </p:nvSpPr>
        <p:spPr>
          <a:xfrm>
            <a:off x="8066160" y="2332080"/>
            <a:ext cx="29779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0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671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3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65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Line 66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Line 67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Line 68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Line 69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Line 70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Line 71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Line 529"/>
          <p:cNvSpPr/>
          <p:nvPr/>
        </p:nvSpPr>
        <p:spPr>
          <a:xfrm>
            <a:off x="4449600" y="-19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2"/>
          <p:cNvSpPr/>
          <p:nvPr/>
        </p:nvSpPr>
        <p:spPr>
          <a:xfrm>
            <a:off x="39528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STRUZIONI, AMBIENTE E TERRITORIO (1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1" name=""/>
          <p:cNvGraphicFramePr/>
          <p:nvPr/>
        </p:nvGraphicFramePr>
        <p:xfrm>
          <a:off x="324000" y="1413000"/>
          <a:ext cx="8353440" cy="3992400"/>
        </p:xfrm>
        <a:graphic>
          <a:graphicData uri="http://schemas.openxmlformats.org/drawingml/2006/table">
            <a:tbl>
              <a:tblPr/>
              <a:tblGrid>
                <a:gridCol w="3254400"/>
                <a:gridCol w="1099800"/>
                <a:gridCol w="1006560"/>
                <a:gridCol w="1022400"/>
                <a:gridCol w="933480"/>
                <a:gridCol w="10368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 (Fisica)   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 Laboratorio di Fis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integrat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(Chimica)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Chim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e tecniche di rappresentazione grafica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e tecniche di rappresentazione graf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Tecnologie informatiche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0" i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aboratorio di Tecnologie informatich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cienze e tecnologie applicate *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Complementi di matematic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732" name="Rectangle 9"/>
          <p:cNvSpPr/>
          <p:nvPr/>
        </p:nvSpPr>
        <p:spPr>
          <a:xfrm>
            <a:off x="324000" y="5589720"/>
            <a:ext cx="8351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*) </a:t>
            </a:r>
            <a:r>
              <a:rPr b="0" lang="it-IT" sz="1000" spc="-1" strike="noStrike">
                <a:solidFill>
                  <a:srgbClr val="00007d"/>
                </a:solidFill>
                <a:latin typeface="Arial"/>
              </a:rPr>
              <a:t>L’insegnamento denominato “Scienze e tecnologie applicate”, compreso fra gli insegnamenti di indirizzo del primo biennio, è riferito alle competenze relative alle discipline di indirizzo del secondo biennio e quinto anno. Per l’individuazione delle relative classi di concorso si rinvia all’articolo 8, comma 4, lettera a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Text Box 70"/>
          <p:cNvSpPr/>
          <p:nvPr/>
        </p:nvSpPr>
        <p:spPr>
          <a:xfrm>
            <a:off x="1047600" y="2475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Segnaposto piè di pagina 7"/>
          <p:cNvSpPr/>
          <p:nvPr/>
        </p:nvSpPr>
        <p:spPr>
          <a:xfrm>
            <a:off x="2808360" y="4554360"/>
            <a:ext cx="2241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Rectangle 6"/>
          <p:cNvSpPr/>
          <p:nvPr/>
        </p:nvSpPr>
        <p:spPr>
          <a:xfrm>
            <a:off x="8066160" y="330984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7"/>
          <p:cNvSpPr/>
          <p:nvPr/>
        </p:nvSpPr>
        <p:spPr>
          <a:xfrm>
            <a:off x="8066160" y="4275000"/>
            <a:ext cx="2977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Rectangle 8"/>
          <p:cNvSpPr/>
          <p:nvPr/>
        </p:nvSpPr>
        <p:spPr>
          <a:xfrm>
            <a:off x="839880" y="4414680"/>
            <a:ext cx="1847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Rectangle 9"/>
          <p:cNvSpPr/>
          <p:nvPr/>
        </p:nvSpPr>
        <p:spPr>
          <a:xfrm>
            <a:off x="712800" y="5532480"/>
            <a:ext cx="20541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Rectangle 10"/>
          <p:cNvSpPr/>
          <p:nvPr/>
        </p:nvSpPr>
        <p:spPr>
          <a:xfrm>
            <a:off x="662040" y="6662880"/>
            <a:ext cx="213372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Rectangle 11"/>
          <p:cNvSpPr/>
          <p:nvPr/>
        </p:nvSpPr>
        <p:spPr>
          <a:xfrm>
            <a:off x="3697200" y="6688080"/>
            <a:ext cx="2978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Rectangle 12"/>
          <p:cNvSpPr/>
          <p:nvPr/>
        </p:nvSpPr>
        <p:spPr>
          <a:xfrm>
            <a:off x="8066160" y="6688080"/>
            <a:ext cx="29779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3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744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5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6" name="Rectangle 2"/>
          <p:cNvSpPr/>
          <p:nvPr/>
        </p:nvSpPr>
        <p:spPr>
          <a:xfrm>
            <a:off x="755640" y="115920"/>
            <a:ext cx="60199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7"/>
          <p:cNvSpPr/>
          <p:nvPr/>
        </p:nvSpPr>
        <p:spPr>
          <a:xfrm>
            <a:off x="57405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8"/>
          <p:cNvSpPr/>
          <p:nvPr/>
        </p:nvSpPr>
        <p:spPr>
          <a:xfrm>
            <a:off x="5756400" y="2049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9"/>
          <p:cNvSpPr/>
          <p:nvPr/>
        </p:nvSpPr>
        <p:spPr>
          <a:xfrm>
            <a:off x="5819760" y="1849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20"/>
          <p:cNvSpPr/>
          <p:nvPr/>
        </p:nvSpPr>
        <p:spPr>
          <a:xfrm>
            <a:off x="369396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21"/>
          <p:cNvSpPr/>
          <p:nvPr/>
        </p:nvSpPr>
        <p:spPr>
          <a:xfrm>
            <a:off x="5600880" y="114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22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23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24"/>
          <p:cNvSpPr/>
          <p:nvPr/>
        </p:nvSpPr>
        <p:spPr>
          <a:xfrm>
            <a:off x="369576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25"/>
          <p:cNvSpPr/>
          <p:nvPr/>
        </p:nvSpPr>
        <p:spPr>
          <a:xfrm>
            <a:off x="5602320" y="-19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26"/>
          <p:cNvSpPr/>
          <p:nvPr/>
        </p:nvSpPr>
        <p:spPr>
          <a:xfrm>
            <a:off x="51814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27"/>
          <p:cNvSpPr/>
          <p:nvPr/>
        </p:nvSpPr>
        <p:spPr>
          <a:xfrm>
            <a:off x="7093080" y="-235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Line 28"/>
          <p:cNvSpPr/>
          <p:nvPr/>
        </p:nvSpPr>
        <p:spPr>
          <a:xfrm>
            <a:off x="7093080" y="2165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29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30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31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32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33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34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35"/>
          <p:cNvSpPr/>
          <p:nvPr/>
        </p:nvSpPr>
        <p:spPr>
          <a:xfrm>
            <a:off x="515448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36"/>
          <p:cNvSpPr/>
          <p:nvPr/>
        </p:nvSpPr>
        <p:spPr>
          <a:xfrm>
            <a:off x="515448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37"/>
          <p:cNvSpPr/>
          <p:nvPr/>
        </p:nvSpPr>
        <p:spPr>
          <a:xfrm>
            <a:off x="5186520" y="-69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38"/>
          <p:cNvSpPr/>
          <p:nvPr/>
        </p:nvSpPr>
        <p:spPr>
          <a:xfrm>
            <a:off x="6504120" y="-8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39"/>
          <p:cNvSpPr/>
          <p:nvPr/>
        </p:nvSpPr>
        <p:spPr>
          <a:xfrm>
            <a:off x="5218200" y="70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40"/>
          <p:cNvSpPr/>
          <p:nvPr/>
        </p:nvSpPr>
        <p:spPr>
          <a:xfrm>
            <a:off x="6504120" y="1309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41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42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43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44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45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46"/>
          <p:cNvSpPr/>
          <p:nvPr/>
        </p:nvSpPr>
        <p:spPr>
          <a:xfrm>
            <a:off x="515448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47"/>
          <p:cNvSpPr/>
          <p:nvPr/>
        </p:nvSpPr>
        <p:spPr>
          <a:xfrm>
            <a:off x="515448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48"/>
          <p:cNvSpPr/>
          <p:nvPr/>
        </p:nvSpPr>
        <p:spPr>
          <a:xfrm>
            <a:off x="5186520" y="-736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49"/>
          <p:cNvSpPr/>
          <p:nvPr/>
        </p:nvSpPr>
        <p:spPr>
          <a:xfrm>
            <a:off x="6504120" y="-936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50"/>
          <p:cNvSpPr/>
          <p:nvPr/>
        </p:nvSpPr>
        <p:spPr>
          <a:xfrm>
            <a:off x="5218200" y="663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51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52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53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54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Line 55"/>
          <p:cNvSpPr/>
          <p:nvPr/>
        </p:nvSpPr>
        <p:spPr>
          <a:xfrm>
            <a:off x="515448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Line 56"/>
          <p:cNvSpPr/>
          <p:nvPr/>
        </p:nvSpPr>
        <p:spPr>
          <a:xfrm>
            <a:off x="515448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Line 57"/>
          <p:cNvSpPr/>
          <p:nvPr/>
        </p:nvSpPr>
        <p:spPr>
          <a:xfrm>
            <a:off x="5186520" y="560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Line 58"/>
          <p:cNvSpPr/>
          <p:nvPr/>
        </p:nvSpPr>
        <p:spPr>
          <a:xfrm>
            <a:off x="6792840" y="360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Line 59"/>
          <p:cNvSpPr/>
          <p:nvPr/>
        </p:nvSpPr>
        <p:spPr>
          <a:xfrm>
            <a:off x="41068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Line 60"/>
          <p:cNvSpPr/>
          <p:nvPr/>
        </p:nvSpPr>
        <p:spPr>
          <a:xfrm>
            <a:off x="4846680" y="-863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Line 61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Line 62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Line 63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Line 64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Line 65"/>
          <p:cNvSpPr/>
          <p:nvPr/>
        </p:nvSpPr>
        <p:spPr>
          <a:xfrm>
            <a:off x="412740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Line 66"/>
          <p:cNvSpPr/>
          <p:nvPr/>
        </p:nvSpPr>
        <p:spPr>
          <a:xfrm>
            <a:off x="4143240" y="-20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67"/>
          <p:cNvSpPr/>
          <p:nvPr/>
        </p:nvSpPr>
        <p:spPr>
          <a:xfrm>
            <a:off x="6095880" y="-4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68"/>
          <p:cNvSpPr/>
          <p:nvPr/>
        </p:nvSpPr>
        <p:spPr>
          <a:xfrm>
            <a:off x="6095880" y="2819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Line 69"/>
          <p:cNvSpPr/>
          <p:nvPr/>
        </p:nvSpPr>
        <p:spPr>
          <a:xfrm>
            <a:off x="51465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Line 70"/>
          <p:cNvSpPr/>
          <p:nvPr/>
        </p:nvSpPr>
        <p:spPr>
          <a:xfrm>
            <a:off x="7058160" y="82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Line 71"/>
          <p:cNvSpPr/>
          <p:nvPr/>
        </p:nvSpPr>
        <p:spPr>
          <a:xfrm>
            <a:off x="7058160" y="2682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Line 529"/>
          <p:cNvSpPr/>
          <p:nvPr/>
        </p:nvSpPr>
        <p:spPr>
          <a:xfrm>
            <a:off x="4449600" y="-19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Rectangle 2"/>
          <p:cNvSpPr/>
          <p:nvPr/>
        </p:nvSpPr>
        <p:spPr>
          <a:xfrm>
            <a:off x="324000" y="0"/>
            <a:ext cx="822960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COSTRUZIONI, AMBIENTE E TERRITORIO (2/2)</a:t>
            </a:r>
            <a:r>
              <a:rPr b="1" lang="it-IT" sz="2400" spc="-1" strike="noStrike">
                <a:solidFill>
                  <a:srgbClr val="00007d"/>
                </a:solidFill>
                <a:latin typeface="Arial"/>
              </a:rPr>
              <a:t>:</a:t>
            </a:r>
            <a:br>
              <a:rPr sz="2400"/>
            </a:b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ATTIVITÀ E INSEGNAMENTI OBBLIGATORI DELL’INDIRIZ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Line 73"/>
          <p:cNvSpPr/>
          <p:nvPr/>
        </p:nvSpPr>
        <p:spPr>
          <a:xfrm>
            <a:off x="491328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Line 74"/>
          <p:cNvSpPr/>
          <p:nvPr/>
        </p:nvSpPr>
        <p:spPr>
          <a:xfrm>
            <a:off x="4929120" y="685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Line 75"/>
          <p:cNvSpPr/>
          <p:nvPr/>
        </p:nvSpPr>
        <p:spPr>
          <a:xfrm>
            <a:off x="663264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Line 76"/>
          <p:cNvSpPr/>
          <p:nvPr/>
        </p:nvSpPr>
        <p:spPr>
          <a:xfrm>
            <a:off x="6632640" y="141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Line 77"/>
          <p:cNvSpPr/>
          <p:nvPr/>
        </p:nvSpPr>
        <p:spPr>
          <a:xfrm>
            <a:off x="6632640" y="1695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Line 78"/>
          <p:cNvSpPr/>
          <p:nvPr/>
        </p:nvSpPr>
        <p:spPr>
          <a:xfrm>
            <a:off x="491328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Line 79"/>
          <p:cNvSpPr/>
          <p:nvPr/>
        </p:nvSpPr>
        <p:spPr>
          <a:xfrm>
            <a:off x="4929120" y="685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Line 80"/>
          <p:cNvSpPr/>
          <p:nvPr/>
        </p:nvSpPr>
        <p:spPr>
          <a:xfrm>
            <a:off x="6632640" y="257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Line 81"/>
          <p:cNvSpPr/>
          <p:nvPr/>
        </p:nvSpPr>
        <p:spPr>
          <a:xfrm>
            <a:off x="6632640" y="1419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Line 82"/>
          <p:cNvSpPr/>
          <p:nvPr/>
        </p:nvSpPr>
        <p:spPr>
          <a:xfrm>
            <a:off x="6632640" y="1695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4" name=""/>
          <p:cNvGraphicFramePr/>
          <p:nvPr/>
        </p:nvGraphicFramePr>
        <p:xfrm>
          <a:off x="468360" y="1844640"/>
          <a:ext cx="8209080" cy="3587760"/>
        </p:xfrm>
        <a:graphic>
          <a:graphicData uri="http://schemas.openxmlformats.org/drawingml/2006/table">
            <a:tbl>
              <a:tblPr/>
              <a:tblGrid>
                <a:gridCol w="3600360"/>
                <a:gridCol w="1084320"/>
                <a:gridCol w="825480"/>
                <a:gridCol w="1008000"/>
                <a:gridCol w="754200"/>
                <a:gridCol w="182520"/>
                <a:gridCol w="754200"/>
              </a:tblGrid>
              <a:tr h="307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DISCIP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° bien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° an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secondo biennio e quinto anno costituiscono un percorso formativo unita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1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2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3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4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5^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ettazione, costruzioni e impia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opedologia, Economia ed Est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pograf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stione del cantiere e sicurezza dell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’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mbiente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ore annue di attivit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e insegnamenti di indiri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5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di cui</a:t>
                      </a:r>
                      <a:r>
                        <a:rPr b="1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 LABOR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2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Totale complessivo 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3300"/>
                          </a:solidFill>
                          <a:latin typeface="Arial Narrow"/>
                          <a:ea typeface="Times New Roman"/>
                        </a:rPr>
                        <a:t>10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Attivit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à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 Narrow"/>
                          <a:ea typeface="Times New Roman"/>
                        </a:rPr>
                        <a:t> e insegnamenti facoltativi nel settore tecnolog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Lingua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 Narrow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2C99-5737-45F1-BEB3-055023B37C19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CasellaDiTesto 2"/>
          <p:cNvSpPr/>
          <p:nvPr/>
        </p:nvSpPr>
        <p:spPr>
          <a:xfrm>
            <a:off x="324000" y="260280"/>
            <a:ext cx="7704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6600"/>
                </a:solidFill>
                <a:latin typeface="Arial Narrow"/>
                <a:ea typeface="Calibri"/>
              </a:rPr>
              <a:t>SOGGETTA A VARIAZIONI A SEGUITO DEI PARERI ESPRESSI DAGLI ORGANI COMPET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7" name=""/>
          <p:cNvGraphicFramePr/>
          <p:nvPr/>
        </p:nvGraphicFramePr>
        <p:xfrm>
          <a:off x="324000" y="928800"/>
          <a:ext cx="8496000" cy="59068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COMMER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e perito commerci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programma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aziendale e corrispondente in lingue est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CONO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MINISTRAZION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NZ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MARKE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LE ATTIVITÀ SO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ico per le attività social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conomo dieti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rigente di comunit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IL TUR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turis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CONOM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UR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18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Rettangolo 11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0" name="Group 35"/>
          <p:cNvGrpSpPr/>
          <p:nvPr/>
        </p:nvGrpSpPr>
        <p:grpSpPr>
          <a:xfrm>
            <a:off x="8143920" y="71280"/>
            <a:ext cx="911160" cy="817920"/>
            <a:chOff x="8143920" y="71280"/>
            <a:chExt cx="911160" cy="817920"/>
          </a:xfrm>
        </p:grpSpPr>
        <p:pic>
          <p:nvPicPr>
            <p:cNvPr id="1821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29584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Text Box 37"/>
            <p:cNvSpPr/>
            <p:nvPr/>
          </p:nvSpPr>
          <p:spPr>
            <a:xfrm>
              <a:off x="814392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0ACC-7ED1-471F-88DC-BA0F78A91230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CasellaDiTesto 2"/>
          <p:cNvSpPr/>
          <p:nvPr/>
        </p:nvSpPr>
        <p:spPr>
          <a:xfrm>
            <a:off x="2847960" y="14292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5" name=""/>
          <p:cNvGraphicFramePr/>
          <p:nvPr/>
        </p:nvGraphicFramePr>
        <p:xfrm>
          <a:off x="324000" y="644400"/>
          <a:ext cx="8496000" cy="6191280"/>
        </p:xfrm>
        <a:graphic>
          <a:graphicData uri="http://schemas.openxmlformats.org/drawingml/2006/table">
            <a:tbl>
              <a:tblPr/>
              <a:tblGrid>
                <a:gridCol w="5035320"/>
                <a:gridCol w="3460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</a:t>
                      </a: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9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 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i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ccanic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rmotec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nergia nucle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Fisica industria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ott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etallurgi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terie plastich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 aeronautich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navalmecca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CCANICA, MECCATR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 ENERG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3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NAUT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ttori naval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zioni aeronautich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navalmeccan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SPORTI E LOGI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26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ttangolo 8"/>
          <p:cNvSpPr/>
          <p:nvPr/>
        </p:nvSpPr>
        <p:spPr>
          <a:xfrm>
            <a:off x="630000" y="1303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8" name="Group 35"/>
          <p:cNvGrpSpPr/>
          <p:nvPr/>
        </p:nvGrpSpPr>
        <p:grpSpPr>
          <a:xfrm>
            <a:off x="8286840" y="0"/>
            <a:ext cx="804600" cy="752760"/>
            <a:chOff x="8286840" y="0"/>
            <a:chExt cx="804600" cy="752760"/>
          </a:xfrm>
        </p:grpSpPr>
        <p:pic>
          <p:nvPicPr>
            <p:cNvPr id="1829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420760" y="0"/>
              <a:ext cx="473040" cy="47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0" name="Text Box 37"/>
            <p:cNvSpPr/>
            <p:nvPr/>
          </p:nvSpPr>
          <p:spPr>
            <a:xfrm>
              <a:off x="8286840" y="491400"/>
              <a:ext cx="804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F7BB-044A-44D9-B381-1B0B925E9922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CasellaDiTesto 2"/>
          <p:cNvSpPr/>
          <p:nvPr/>
        </p:nvSpPr>
        <p:spPr>
          <a:xfrm>
            <a:off x="2205000" y="374760"/>
            <a:ext cx="60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3" name=""/>
          <p:cNvGraphicFramePr/>
          <p:nvPr/>
        </p:nvGraphicFramePr>
        <p:xfrm>
          <a:off x="324000" y="928800"/>
          <a:ext cx="8534160" cy="583704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6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AERONA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Navigazione ae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ssistenza alla navigazione ae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RASPORTI E LOGI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82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NAU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apita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Macchin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struttori nav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e telecomunic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tecnica e automazi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LETTRO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D ELETTROTEC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34" name="Rettangolo 8"/>
          <p:cNvSpPr/>
          <p:nvPr/>
        </p:nvSpPr>
        <p:spPr>
          <a:xfrm>
            <a:off x="243000" y="5254560"/>
            <a:ext cx="86468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ttangolo 8"/>
          <p:cNvSpPr/>
          <p:nvPr/>
        </p:nvSpPr>
        <p:spPr>
          <a:xfrm>
            <a:off x="712440" y="586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6" name="Group 35"/>
          <p:cNvGrpSpPr/>
          <p:nvPr/>
        </p:nvGrpSpPr>
        <p:grpSpPr>
          <a:xfrm>
            <a:off x="8217000" y="71280"/>
            <a:ext cx="911160" cy="817920"/>
            <a:chOff x="8217000" y="71280"/>
            <a:chExt cx="911160" cy="817920"/>
          </a:xfrm>
        </p:grpSpPr>
        <p:pic>
          <p:nvPicPr>
            <p:cNvPr id="1837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Text Box 37"/>
            <p:cNvSpPr/>
            <p:nvPr/>
          </p:nvSpPr>
          <p:spPr>
            <a:xfrm>
              <a:off x="821700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EA73-3482-4E6B-B058-4B5A953F951D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CasellaDiTesto 2"/>
          <p:cNvSpPr/>
          <p:nvPr/>
        </p:nvSpPr>
        <p:spPr>
          <a:xfrm>
            <a:off x="2633760" y="290520"/>
            <a:ext cx="608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1" name=""/>
          <p:cNvGraphicFramePr/>
          <p:nvPr/>
        </p:nvGraphicFramePr>
        <p:xfrm>
          <a:off x="324000" y="928800"/>
          <a:ext cx="8534160" cy="583560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6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r>
                        <a:rPr b="0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TTRONICA 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lecomunicazio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forma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ORMATICA 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LECOMUNICAZI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COMMERC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Ragioniere programma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fotografic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rti graf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RAFICA E COMUNIC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42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3" name="Group 35"/>
          <p:cNvGrpSpPr/>
          <p:nvPr/>
        </p:nvGrpSpPr>
        <p:grpSpPr>
          <a:xfrm>
            <a:off x="8217000" y="71280"/>
            <a:ext cx="911160" cy="817920"/>
            <a:chOff x="8217000" y="71280"/>
            <a:chExt cx="911160" cy="817920"/>
          </a:xfrm>
        </p:grpSpPr>
        <p:pic>
          <p:nvPicPr>
            <p:cNvPr id="1844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7128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5" name="Text Box 37"/>
            <p:cNvSpPr/>
            <p:nvPr/>
          </p:nvSpPr>
          <p:spPr>
            <a:xfrm>
              <a:off x="8217000" y="62784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3E5B-DC21-4A85-8B80-2A13BC9AEAC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CasellaDiTesto 2"/>
          <p:cNvSpPr/>
          <p:nvPr/>
        </p:nvSpPr>
        <p:spPr>
          <a:xfrm>
            <a:off x="2633760" y="290520"/>
            <a:ext cx="60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8" name=""/>
          <p:cNvGraphicFramePr/>
          <p:nvPr/>
        </p:nvGraphicFramePr>
        <p:xfrm>
          <a:off x="324000" y="750960"/>
          <a:ext cx="8534160" cy="6092640"/>
        </p:xfrm>
        <a:graphic>
          <a:graphicData uri="http://schemas.openxmlformats.org/drawingml/2006/table">
            <a:tbl>
              <a:tblPr/>
              <a:tblGrid>
                <a:gridCol w="4890960"/>
                <a:gridCol w="36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2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</a:t>
                      </a:r>
                      <a:r>
                        <a:rPr b="1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lettronica </a:t>
                      </a: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himico conci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cart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tinto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ustria minerar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IMICA, MATERIAL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BIOTECNOLOG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6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PER LE ATTIVITÀ SOCIA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i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li biologico ambient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li biologico sanita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conomo-Dietis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ssi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confezione industri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produzione tessut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di tessu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STEMA M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</a:tbl>
          </a:graphicData>
        </a:graphic>
      </p:graphicFrame>
      <p:sp>
        <p:nvSpPr>
          <p:cNvPr id="1849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35"/>
          <p:cNvGrpSpPr/>
          <p:nvPr/>
        </p:nvGrpSpPr>
        <p:grpSpPr>
          <a:xfrm>
            <a:off x="8217000" y="0"/>
            <a:ext cx="911160" cy="817920"/>
            <a:chOff x="8217000" y="0"/>
            <a:chExt cx="911160" cy="817920"/>
          </a:xfrm>
        </p:grpSpPr>
        <p:pic>
          <p:nvPicPr>
            <p:cNvPr id="1851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Text Box 37"/>
            <p:cNvSpPr/>
            <p:nvPr/>
          </p:nvSpPr>
          <p:spPr>
            <a:xfrm>
              <a:off x="8217000" y="556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numero diapositiva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5920" y="475920"/>
            <a:ext cx="83628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LA STRUTTURA DEL PERCORSO</a:t>
            </a:r>
            <a:br>
              <a:rPr sz="3200"/>
            </a:b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QUINQUENNA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868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Il percorso è articolato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it-IT" sz="3200" spc="-1" strike="noStrike">
                <a:solidFill>
                  <a:srgbClr val="ff3300"/>
                </a:solidFill>
                <a:latin typeface="Arial"/>
              </a:rPr>
              <a:t>2 bienni e 1 quinto anno</a:t>
            </a:r>
            <a:br>
              <a:rPr sz="2400"/>
            </a:br>
            <a:r>
              <a:rPr b="0" lang="it-IT" sz="2400" spc="-1" strike="noStrike">
                <a:solidFill>
                  <a:srgbClr val="00007d"/>
                </a:solidFill>
                <a:latin typeface="Arial"/>
              </a:rPr>
              <a:t>(il secondo biennio e l’ultimo anno costituiscono l’articolazione di un complessivo trienn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Gli apprendimenti sono suddivisi 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un’area di insegnamento generale comune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it-IT" sz="2800" spc="-1" strike="noStrike">
                <a:solidFill>
                  <a:srgbClr val="ff3300"/>
                </a:solidFill>
                <a:latin typeface="Arial"/>
              </a:rPr>
              <a:t>aree di indirizzo specif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51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Rectangle 2"/>
          <p:cNvSpPr/>
          <p:nvPr/>
        </p:nvSpPr>
        <p:spPr>
          <a:xfrm>
            <a:off x="324000" y="765000"/>
            <a:ext cx="8543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E26F-543B-4D64-BD8C-2263215244BB}" type="slidenum">
              <a:rPr b="0" lang="it-IT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CasellaDiTesto 2"/>
          <p:cNvSpPr/>
          <p:nvPr/>
        </p:nvSpPr>
        <p:spPr>
          <a:xfrm>
            <a:off x="1531800" y="357120"/>
            <a:ext cx="60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5" name=""/>
          <p:cNvGraphicFramePr/>
          <p:nvPr/>
        </p:nvGraphicFramePr>
        <p:xfrm>
          <a:off x="324000" y="977760"/>
          <a:ext cx="8534160" cy="5737320"/>
        </p:xfrm>
        <a:graphic>
          <a:graphicData uri="http://schemas.openxmlformats.org/drawingml/2006/table">
            <a:tbl>
              <a:tblPr/>
              <a:tblGrid>
                <a:gridCol w="5057640"/>
                <a:gridCol w="3476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                                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ssi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confezione industrial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produzione tessu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Disegno di tessu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ISTEMA M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AGR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erito agr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Corso viticoltura e enolo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GRARIA E AGROINDUST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4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cnologie aliment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6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7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858" name="Picture 36" descr="miur_colorato_trasparente_piccolo"/>
            <p:cNvPicPr/>
            <p:nvPr/>
          </p:nvPicPr>
          <p:blipFill>
            <a:blip r:embed="rId4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9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Segnaposto numero diapositiva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CasellaDiTesto 2"/>
          <p:cNvSpPr/>
          <p:nvPr/>
        </p:nvSpPr>
        <p:spPr>
          <a:xfrm>
            <a:off x="2000160" y="500040"/>
            <a:ext cx="60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7d"/>
                </a:solidFill>
                <a:latin typeface="Arial"/>
                <a:ea typeface="Calibri"/>
              </a:rPr>
              <a:t>Tabella di confl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2" name=""/>
          <p:cNvGraphicFramePr/>
          <p:nvPr/>
        </p:nvGraphicFramePr>
        <p:xfrm>
          <a:off x="252360" y="1285920"/>
          <a:ext cx="8534520" cy="3322440"/>
        </p:xfrm>
        <a:graphic>
          <a:graphicData uri="http://schemas.openxmlformats.org/drawingml/2006/table">
            <a:tbl>
              <a:tblPr/>
              <a:tblGrid>
                <a:gridCol w="5058000"/>
                <a:gridCol w="3476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DEL PREVIGENTE ORDINAMENTO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CORSO  DI NUOVO ORDINAMENTO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TECNICO INDUSTRI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Edili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tt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ECNOLOG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rizzo</a:t>
                      </a:r>
                      <a:r>
                        <a:rPr b="0" lang="it-IT" sz="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STRUZIONI, AMB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 TERRI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0e3"/>
                    </a:solidFill>
                  </a:tcPr>
                </a:tc>
              </a:tr>
              <a:tr h="14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SzPct val="10295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 </a:t>
                      </a: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etto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STITUTO PER GEOME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dirizz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Geomet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perimentazioni coordinate a livello nazionale e autonome corrispondenti ai diplomi dei corsi di ordina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3" name="Rettangolo 8"/>
          <p:cNvSpPr/>
          <p:nvPr/>
        </p:nvSpPr>
        <p:spPr>
          <a:xfrm>
            <a:off x="71244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4" name="Group 35"/>
          <p:cNvGrpSpPr/>
          <p:nvPr/>
        </p:nvGrpSpPr>
        <p:grpSpPr>
          <a:xfrm>
            <a:off x="8217000" y="189000"/>
            <a:ext cx="911160" cy="817920"/>
            <a:chOff x="8217000" y="189000"/>
            <a:chExt cx="911160" cy="817920"/>
          </a:xfrm>
        </p:grpSpPr>
        <p:pic>
          <p:nvPicPr>
            <p:cNvPr id="1865" name="Picture 36" descr="miur_colorato_trasparente_piccolo"/>
            <p:cNvPicPr/>
            <p:nvPr/>
          </p:nvPicPr>
          <p:blipFill>
            <a:blip r:embed="rId3"/>
            <a:stretch/>
          </p:blipFill>
          <p:spPr>
            <a:xfrm>
              <a:off x="8368920" y="189000"/>
              <a:ext cx="53568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Text Box 37"/>
            <p:cNvSpPr/>
            <p:nvPr/>
          </p:nvSpPr>
          <p:spPr>
            <a:xfrm>
              <a:off x="8217000" y="745560"/>
              <a:ext cx="911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10311"/>
                </a:solidFill>
                <a:latin typeface="Arial"/>
              </a:rPr>
              <a:t>ORDINAMENTO E ORGAN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Gli ordinamenti dei percorsi di studio dei diversi ordini di scuola  (percorsi liceali, di istruzione tecnica e professionale) sono definiti dallo Stato con regolamenti governa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organizzazione delle scuole secondarie superiori sul territorio è stabilita, invece, dalle singole Regioni nell’esercizio delle loro esclusive competenze in materia di programmazione dell’offerta forma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7d"/>
                </a:solidFill>
                <a:latin typeface="Arial"/>
              </a:rPr>
              <a:t>(ad esempio, una Regione può stabilire che, per motivi logistici, possano essere compresenti percorsi liceali, percorsi di istruzione tecnica e professionale in un medesimo istituto secondario superiore oppure che i percorsi liceali siano realizzati solo nei licei e i percorsi di istruzione tecnica solo negli istituti tecnici e i percorsi di istruzione professionale solo negli istituti professionali per salvaguardare l’identità dei singoli ordinamen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4"/>
          <p:cNvSpPr/>
          <p:nvPr/>
        </p:nvSpPr>
        <p:spPr>
          <a:xfrm>
            <a:off x="1187280" y="333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Rectangle 9"/>
          <p:cNvSpPr/>
          <p:nvPr/>
        </p:nvSpPr>
        <p:spPr>
          <a:xfrm>
            <a:off x="686520" y="7128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6"/>
          <p:cNvSpPr/>
          <p:nvPr/>
        </p:nvSpPr>
        <p:spPr>
          <a:xfrm>
            <a:off x="8028000" y="260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2" name="Group 35"/>
          <p:cNvGrpSpPr/>
          <p:nvPr/>
        </p:nvGrpSpPr>
        <p:grpSpPr>
          <a:xfrm>
            <a:off x="8072280" y="142920"/>
            <a:ext cx="911520" cy="817920"/>
            <a:chOff x="8072280" y="142920"/>
            <a:chExt cx="911520" cy="817920"/>
          </a:xfrm>
        </p:grpSpPr>
        <p:pic>
          <p:nvPicPr>
            <p:cNvPr id="1873" name="Picture 36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224200" y="142920"/>
              <a:ext cx="53604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Text Box 37"/>
            <p:cNvSpPr/>
            <p:nvPr/>
          </p:nvSpPr>
          <p:spPr>
            <a:xfrm>
              <a:off x="8072280" y="69948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10311"/>
                </a:solidFill>
                <a:latin typeface="Arial"/>
              </a:rPr>
              <a:t>I lavori in c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21428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A seguito delle proposte formulate durante l’iter dello schema di regolamento qui presentato, sono allo studio ipotesi di emendamento del testo. Se ne richiamano di seguito alcu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inserimento di una articolazione negli istituti tecnici del settore economico ad indirizzo “amministrazione, finanza e marketing” per la “Marketing e relazioni internazionali” per una più organica confluenza degli istituti per periti aziendali e corrispondenti in lingue este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l’inserimento dell’articolazione “Viticoltura ed enologia” nell’indirizzo “Agraria e Agroindustria” negli istituti tecnici del settore tecnolog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E’ cominciato il lavoro di raccolta delle proposte delle scuole, delle associazioni professionali e disciplinari, delle parti sociali per la descrizione dei risultati di apprendimento in termini di competenze, abilità e conoscenze relativi a ciascuno degli indirizzi e delle articolazioni previste dallo schema di regolamento. I documenti prodotti saranno resi disponibili nelle prossime settimane sul sito dell’ANSAS (</a:t>
            </a:r>
            <a:r>
              <a:rPr b="0" lang="it-IT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indire.it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)</a:t>
            </a:r>
            <a:r>
              <a:rPr b="0" lang="it-IT" sz="1200" spc="-1" strike="noStrike">
                <a:solidFill>
                  <a:srgbClr val="00007d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4"/>
          <p:cNvSpPr/>
          <p:nvPr/>
        </p:nvSpPr>
        <p:spPr>
          <a:xfrm>
            <a:off x="8101080" y="404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8"/>
          <p:cNvSpPr/>
          <p:nvPr/>
        </p:nvSpPr>
        <p:spPr>
          <a:xfrm>
            <a:off x="971640" y="18900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Rectangle 9"/>
          <p:cNvSpPr/>
          <p:nvPr/>
        </p:nvSpPr>
        <p:spPr>
          <a:xfrm>
            <a:off x="686520" y="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0" name="Group 35"/>
          <p:cNvGrpSpPr/>
          <p:nvPr/>
        </p:nvGrpSpPr>
        <p:grpSpPr>
          <a:xfrm>
            <a:off x="8072280" y="71280"/>
            <a:ext cx="911520" cy="817920"/>
            <a:chOff x="8072280" y="71280"/>
            <a:chExt cx="911520" cy="817920"/>
          </a:xfrm>
        </p:grpSpPr>
        <p:pic>
          <p:nvPicPr>
            <p:cNvPr id="1881" name="Picture 36" descr="miur_colorato_trasparente_piccolo"/>
            <p:cNvPicPr/>
            <p:nvPr/>
          </p:nvPicPr>
          <p:blipFill>
            <a:blip r:embed="rId2"/>
            <a:stretch/>
          </p:blipFill>
          <p:spPr>
            <a:xfrm>
              <a:off x="8224200" y="71280"/>
              <a:ext cx="53604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2" name="Text Box 37"/>
            <p:cNvSpPr/>
            <p:nvPr/>
          </p:nvSpPr>
          <p:spPr>
            <a:xfrm>
              <a:off x="8072280" y="627840"/>
              <a:ext cx="911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MIU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egnaposto numero diapositiva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4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7d"/>
                </a:solidFill>
                <a:latin typeface="Arial"/>
              </a:rPr>
              <a:t>PIÙ AUTONOMIA PER LE S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28036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Quote di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AUTONOMIA e FLESSIBILIT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272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it-IT" sz="28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20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i autonomia</a:t>
            </a:r>
            <a:r>
              <a:rPr b="1" lang="it-IT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al primo biennio al quinto anno, in relazione all’orario complessivo delle lezioni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61272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30 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di flessibilità </a:t>
            </a:r>
            <a:r>
              <a:rPr b="0" lang="it-IT" sz="2800" spc="-1" strike="noStrike">
                <a:solidFill>
                  <a:srgbClr val="c10311"/>
                </a:solidFill>
                <a:latin typeface="Arial"/>
              </a:rPr>
              <a:t>(opzioni)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nel secondo biennio e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35 %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nel quinto anno</a:t>
            </a:r>
            <a:r>
              <a:rPr b="1" lang="it-IT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1" lang="it-IT" sz="2800" spc="-1" strike="noStrike" u="sng">
                <a:solidFill>
                  <a:srgbClr val="cc0000"/>
                </a:solidFill>
                <a:uFillTx/>
                <a:latin typeface="Arial"/>
              </a:rPr>
              <a:t>solo</a:t>
            </a:r>
            <a:r>
              <a:rPr b="1" lang="it-IT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7d"/>
                </a:solidFill>
                <a:latin typeface="Arial"/>
              </a:rPr>
              <a:t> in relazione alle </a:t>
            </a:r>
            <a:r>
              <a:rPr b="1" lang="it-IT" sz="2000" spc="-1" strike="noStrike">
                <a:solidFill>
                  <a:srgbClr val="c10311"/>
                </a:solidFill>
                <a:latin typeface="Arial"/>
              </a:rPr>
              <a:t>AREE di INDIRIZZO</a:t>
            </a:r>
            <a:r>
              <a:rPr b="0" lang="it-IT" sz="2000" spc="-1" strike="noStrike">
                <a:solidFill>
                  <a:srgbClr val="c10311"/>
                </a:solidFill>
                <a:latin typeface="Arial"/>
              </a:rPr>
              <a:t> </a:t>
            </a:r>
            <a:r>
              <a:rPr b="0" i="1" lang="it-IT" sz="2400" spc="-1" strike="noStrike">
                <a:solidFill>
                  <a:srgbClr val="00007d"/>
                </a:solidFill>
                <a:latin typeface="Arial"/>
              </a:rPr>
              <a:t>per rispondere a documentate richieste del territorio, del mondo del lavoro e delle professioni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7705800" y="142920"/>
            <a:ext cx="1295280" cy="1129320"/>
            <a:chOff x="7705800" y="142920"/>
            <a:chExt cx="1295280" cy="1129320"/>
          </a:xfrm>
        </p:grpSpPr>
        <p:pic>
          <p:nvPicPr>
            <p:cNvPr id="159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7921440" y="1429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9"/>
            <p:cNvSpPr/>
            <p:nvPr/>
          </p:nvSpPr>
          <p:spPr>
            <a:xfrm>
              <a:off x="7705800" y="93492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55964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0000"/>
                </a:solidFill>
                <a:latin typeface="Arial"/>
              </a:rPr>
              <a:t>Rapporti tra AUTONOMIA e FLESSI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4920" y="1673280"/>
            <a:ext cx="8218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AUT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e istituzioni scolastiche possono modificare il monte ore annuale delle discipline di insegnamento di ciascun anno scolastico per una quota non superiore al 20% per realizzare – in base al piano dell’offerta formativa e  nei limiti delle disponibilità di bilancio – attività e insegnamenti facoltativi, coerenti con il profilo educativo, culturale e professionale dello studente in relazione al percorso scel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’orario di ciascuna disciplina </a:t>
            </a:r>
            <a:r>
              <a:rPr b="1" lang="it-IT" sz="1600" spc="-1" strike="noStrike" u="sng">
                <a:solidFill>
                  <a:srgbClr val="00007d"/>
                </a:solidFill>
                <a:uFillTx/>
                <a:latin typeface="Arial"/>
              </a:rPr>
              <a:t>non</a:t>
            </a: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 può essere ridotto oltre il 2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Gli studenti sono tenuti alla frequenza delle attività e degli insegnamenti facoltativi prescelti. La valutazione dei risultati di apprendimento delle materie facoltative concorre alla valutazione compless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Le richieste sono formulate all’atto delle iscrizioni alle class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Al fine di ampliare e razionalizzare le scelte, gli istituti possono organizzarsi in rete e stipulare anche  contratti d’opera con esperti, entro i limiti e le risorse iscritte nel programma annuale di ciascuna istituzione scolas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FLESSIBI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7d"/>
                </a:solidFill>
                <a:latin typeface="Arial"/>
              </a:rPr>
              <a:t>Gli spazi di flessibilità consentono di articolare le aree di indirizzo in opzioni  non previste dal regolamento governativo. Gli studenti scelgono le opzioni a conclusione del primo bienn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68360" y="476280"/>
            <a:ext cx="755964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8244000" y="54936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8244000" y="549360"/>
            <a:ext cx="4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7848720" y="260280"/>
            <a:ext cx="1295280" cy="1129680"/>
            <a:chOff x="7848720" y="260280"/>
            <a:chExt cx="1295280" cy="1129680"/>
          </a:xfrm>
        </p:grpSpPr>
        <p:pic>
          <p:nvPicPr>
            <p:cNvPr id="168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64360" y="26028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 Box 9"/>
            <p:cNvSpPr/>
            <p:nvPr/>
          </p:nvSpPr>
          <p:spPr>
            <a:xfrm>
              <a:off x="7848720" y="105264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 Box 12"/>
          <p:cNvSpPr/>
          <p:nvPr/>
        </p:nvSpPr>
        <p:spPr>
          <a:xfrm>
            <a:off x="1116000" y="26028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076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cc0000"/>
                </a:solidFill>
                <a:latin typeface="Arial"/>
              </a:rPr>
              <a:t>LE 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885080" y="692280"/>
            <a:ext cx="93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7"/>
          <p:cNvGrpSpPr/>
          <p:nvPr/>
        </p:nvGrpSpPr>
        <p:grpSpPr>
          <a:xfrm>
            <a:off x="7848720" y="333360"/>
            <a:ext cx="1295280" cy="1129320"/>
            <a:chOff x="7848720" y="333360"/>
            <a:chExt cx="1295280" cy="1129320"/>
          </a:xfrm>
        </p:grpSpPr>
        <p:pic>
          <p:nvPicPr>
            <p:cNvPr id="175" name="Picture 8" descr="miur_colorato_trasparente_piccolo"/>
            <p:cNvPicPr/>
            <p:nvPr/>
          </p:nvPicPr>
          <p:blipFill>
            <a:blip r:embed="rId1"/>
            <a:stretch/>
          </p:blipFill>
          <p:spPr>
            <a:xfrm>
              <a:off x="8064360" y="33336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9"/>
            <p:cNvSpPr/>
            <p:nvPr/>
          </p:nvSpPr>
          <p:spPr>
            <a:xfrm>
              <a:off x="7848720" y="112536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  <a:ea typeface="ヒラギノ角ゴ ProN W3"/>
                </a:rPr>
                <a:t>MIU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628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Le OPZIONI  possono essere previste solo se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1)  coerenti con il profilo professionale dell’indirizzo di stud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2) comprese entro le quote di flessibilità del 30% (168 ore) e del 35% (196   or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3) contenute in un apposito elenco nazionale, aggiornato ogni 3 anni, che indica anche le classi di concorso dei docenti che possono essere utilizz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7d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7d"/>
                </a:solidFill>
                <a:latin typeface="Arial"/>
              </a:rPr>
              <a:t>Nel Diploma di perito, rilasciato a conclusione degli esami di Stato, sono certificate le competenze acquisite dallo studente anche in riferimento alle opzio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7d"/>
                </a:solidFill>
                <a:latin typeface="Arial"/>
              </a:rPr>
              <a:t>L’elenco nazionale delle OPZIONI sarà indicato in un decreto ministeriale di natura non regolamentare, periodicamente aggiornato a seguito del monitoraggio e della valutazione di sistema da parte del COMITATO NAZIONALE PER L’ISTRUZIONE TECNICA E PROFESS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1187280" y="189000"/>
            <a:ext cx="11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686520" y="10944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nuovi Istituti Tec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48:39Z</dcterms:created>
  <dc:creator>M.I.U.R.</dc:creator>
  <dc:description/>
  <dc:language>en-US</dc:language>
  <cp:lastModifiedBy>win</cp:lastModifiedBy>
  <dcterms:modified xsi:type="dcterms:W3CDTF">2009-11-10T12:00:46Z</dcterms:modified>
  <cp:revision>493</cp:revision>
  <dc:subject/>
  <dc:title>Diapositiva 1</dc:title>
</cp:coreProperties>
</file>