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2600" y="760320"/>
            <a:ext cx="2633400" cy="372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480"/>
            <a:ext cx="2948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480"/>
            <a:ext cx="294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B3A1-F040-42C6-9106-89C54E7747C0}" type="slidenum">
              <a:rPr b="0" lang="it-IT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49840" y="9429840"/>
            <a:ext cx="294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256-7CDA-42E9-B7FB-0FADC726BA07}" type="slidenum">
              <a:rPr b="0" lang="it-IT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087640" y="760320"/>
            <a:ext cx="2633760" cy="3726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DC4-4B2C-4BBF-A705-1501A71F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DD0-9252-402D-8991-BB51172F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DDB-B395-41E9-B6FB-F50A1FCC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863-9246-42E8-A1DE-7425FE78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E7D-E424-4C97-BA29-35BE97A8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6F7-B10C-4A78-9B67-71F6E9AE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07B-7000-4103-AEFC-1D35857B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316-D0CC-4977-8D89-62F69F3C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A80-6769-4041-B4B0-49ECECE6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9D2-76F2-49D5-AE01-EA4B53F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F4D-9071-40A7-BB36-398DE80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B72-7B70-478A-98FA-4D700897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2AD5-B6BD-4603-83B9-50AB8AECC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istruzione.it/web/hub/home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9" descr="finale 3 ok montagna tonda 300 dpi"/>
          <p:cNvPicPr/>
          <p:nvPr/>
        </p:nvPicPr>
        <p:blipFill>
          <a:blip r:embed="rId1"/>
          <a:srcRect l="0" t="0" r="6931" b="30958"/>
          <a:stretch/>
        </p:blipFill>
        <p:spPr>
          <a:xfrm>
            <a:off x="615960" y="2201760"/>
            <a:ext cx="3529080" cy="24465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17"/>
          <p:cNvGrpSpPr/>
          <p:nvPr/>
        </p:nvGrpSpPr>
        <p:grpSpPr>
          <a:xfrm>
            <a:off x="255600" y="257040"/>
            <a:ext cx="7489800" cy="10801440"/>
            <a:chOff x="255600" y="257040"/>
            <a:chExt cx="7489800" cy="10801440"/>
          </a:xfrm>
        </p:grpSpPr>
        <p:sp>
          <p:nvSpPr>
            <p:cNvPr id="50" name="Rectangle 4"/>
            <p:cNvSpPr/>
            <p:nvPr/>
          </p:nvSpPr>
          <p:spPr>
            <a:xfrm>
              <a:off x="255600" y="257040"/>
              <a:ext cx="7489800" cy="10801440"/>
            </a:xfrm>
            <a:prstGeom prst="rect">
              <a:avLst/>
            </a:prstGeom>
            <a:noFill/>
            <a:ln w="7632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86280"/>
                  <a:tab algn="l" pos="6172200"/>
                  <a:tab algn="l" pos="92584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" name="Line 64"/>
            <p:cNvSpPr/>
            <p:nvPr/>
          </p:nvSpPr>
          <p:spPr>
            <a:xfrm>
              <a:off x="5706000" y="6140160"/>
              <a:ext cx="0" cy="0"/>
            </a:xfrm>
            <a:prstGeom prst="line">
              <a:avLst/>
            </a:prstGeom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2" name="Text Box 156"/>
          <p:cNvSpPr/>
          <p:nvPr/>
        </p:nvSpPr>
        <p:spPr>
          <a:xfrm>
            <a:off x="1916280" y="1158840"/>
            <a:ext cx="41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6600" rIns="246600" tIns="123120" bIns="12312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entro le mura … Le Rassegne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 Onlu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dobe Garamond Pro"/>
              </a:rPr>
              <a:t>Arte  Cultura Musica Spettacolo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Text Box 176"/>
          <p:cNvSpPr/>
          <p:nvPr/>
        </p:nvSpPr>
        <p:spPr>
          <a:xfrm>
            <a:off x="8124840" y="1012500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Line 242"/>
          <p:cNvSpPr/>
          <p:nvPr/>
        </p:nvSpPr>
        <p:spPr>
          <a:xfrm>
            <a:off x="0" y="64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249"/>
          <p:cNvSpPr/>
          <p:nvPr/>
        </p:nvSpPr>
        <p:spPr>
          <a:xfrm>
            <a:off x="3489480" y="5983200"/>
            <a:ext cx="1839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233"/>
          <p:cNvSpPr/>
          <p:nvPr/>
        </p:nvSpPr>
        <p:spPr>
          <a:xfrm>
            <a:off x="584280" y="8854920"/>
            <a:ext cx="24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322"/>
          <p:cNvSpPr/>
          <p:nvPr/>
        </p:nvSpPr>
        <p:spPr>
          <a:xfrm>
            <a:off x="1797120" y="9642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Picture 45" descr="E:\logo Napoli in festa\marchio jpg ok\napoli in festa completo.jpg"/>
          <p:cNvPicPr/>
          <p:nvPr/>
        </p:nvPicPr>
        <p:blipFill>
          <a:blip r:embed="rId2"/>
          <a:srcRect l="1574" t="-1562" r="0" b="34219"/>
          <a:stretch/>
        </p:blipFill>
        <p:spPr>
          <a:xfrm>
            <a:off x="1046160" y="3641760"/>
            <a:ext cx="641016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00120" y="6881760"/>
            <a:ext cx="5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"/>
          <p:cNvSpPr/>
          <p:nvPr/>
        </p:nvSpPr>
        <p:spPr>
          <a:xfrm>
            <a:off x="5153040" y="70977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oltre i confini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76320" y="492120"/>
            <a:ext cx="1060200" cy="508680"/>
            <a:chOff x="976320" y="492120"/>
            <a:chExt cx="1060200" cy="508680"/>
          </a:xfrm>
        </p:grpSpPr>
        <p:pic>
          <p:nvPicPr>
            <p:cNvPr id="62" name="" descr="Ministero dell'Istruzione, dell'Università e della Ricerca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049400" y="492120"/>
              <a:ext cx="863280" cy="2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3"/>
            <p:cNvSpPr/>
            <p:nvPr/>
          </p:nvSpPr>
          <p:spPr>
            <a:xfrm>
              <a:off x="976320" y="708840"/>
              <a:ext cx="106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U. S. R.   Campania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IREZIONE GENERALE</a:t>
              </a:r>
              <a:endParaRPr b="0" lang="en-US" sz="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pic>
        <p:nvPicPr>
          <p:cNvPr id="64" name="" descr="Regione Campania Patrocinio"/>
          <p:cNvPicPr/>
          <p:nvPr/>
        </p:nvPicPr>
        <p:blipFill>
          <a:blip r:embed="rId5"/>
          <a:stretch/>
        </p:blipFill>
        <p:spPr>
          <a:xfrm>
            <a:off x="2921040" y="468360"/>
            <a:ext cx="477720" cy="4554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5799240" y="399960"/>
            <a:ext cx="1657080" cy="813960"/>
            <a:chOff x="5799240" y="399960"/>
            <a:chExt cx="1657080" cy="813960"/>
          </a:xfrm>
        </p:grpSpPr>
        <p:pic>
          <p:nvPicPr>
            <p:cNvPr id="66" name="" descr="Logo Comune di Napoli patrocinio"/>
            <p:cNvPicPr/>
            <p:nvPr/>
          </p:nvPicPr>
          <p:blipFill>
            <a:blip r:embed="rId6"/>
            <a:stretch/>
          </p:blipFill>
          <p:spPr>
            <a:xfrm>
              <a:off x="6291000" y="399960"/>
              <a:ext cx="64728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86"/>
            <p:cNvSpPr/>
            <p:nvPr/>
          </p:nvSpPr>
          <p:spPr>
            <a:xfrm>
              <a:off x="5799240" y="925560"/>
              <a:ext cx="1657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SSESSORATO</a:t>
              </a:r>
              <a:endParaRPr b="0" lang="en-US" sz="5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urismo-Grandi Eventi-Pari Opportunità</a:t>
              </a:r>
              <a:endParaRPr b="0" lang="en-US" sz="500" spc="-1" strike="noStrike">
                <a:solidFill>
                  <a:srgbClr val="000000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183200" y="484200"/>
            <a:ext cx="1330200" cy="620280"/>
            <a:chOff x="4183200" y="484200"/>
            <a:chExt cx="1330200" cy="620280"/>
          </a:xfrm>
        </p:grpSpPr>
        <p:pic>
          <p:nvPicPr>
            <p:cNvPr id="69" name="Picture 287" descr=""/>
            <p:cNvPicPr/>
            <p:nvPr/>
          </p:nvPicPr>
          <p:blipFill>
            <a:blip r:embed="rId7"/>
            <a:stretch/>
          </p:blipFill>
          <p:spPr>
            <a:xfrm>
              <a:off x="4676760" y="484200"/>
              <a:ext cx="3412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88"/>
            <p:cNvSpPr/>
            <p:nvPr/>
          </p:nvSpPr>
          <p:spPr>
            <a:xfrm>
              <a:off x="4183200" y="896400"/>
              <a:ext cx="1330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600" spc="-1" strike="noStrike">
                  <a:solidFill>
                    <a:srgbClr val="000000"/>
                  </a:solidFill>
                  <a:latin typeface="Arial"/>
                </a:rPr>
                <a:t>PROVINCIA DI  NAPOLI</a:t>
              </a:r>
              <a:endParaRPr b="0" lang="en-US" sz="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71" name="Text Box 156"/>
          <p:cNvSpPr/>
          <p:nvPr/>
        </p:nvSpPr>
        <p:spPr>
          <a:xfrm>
            <a:off x="1932120" y="7818480"/>
            <a:ext cx="41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6600" rIns="246600" tIns="123120" bIns="12312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Garamond Pr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ootlight MT Light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</a:rPr>
              <a:t> aprile -</a:t>
            </a:r>
            <a:r>
              <a:rPr b="1" lang="en-US" sz="1600" spc="-1" strike="noStrike">
                <a:solidFill>
                  <a:srgbClr val="000000"/>
                </a:solidFill>
                <a:latin typeface="Footlight MT Light"/>
              </a:rPr>
              <a:t>10 </a:t>
            </a:r>
            <a:r>
              <a:rPr b="1" lang="en-US" sz="1800" spc="-1" strike="noStrike">
                <a:solidFill>
                  <a:srgbClr val="000000"/>
                </a:solidFill>
                <a:latin typeface="Footlight MT Light"/>
              </a:rPr>
              <a:t>maggio </a:t>
            </a:r>
            <a:r>
              <a:rPr b="1" lang="en-US" sz="1600" spc="-1" strike="noStrike">
                <a:solidFill>
                  <a:srgbClr val="000000"/>
                </a:solidFill>
                <a:latin typeface="Footlight MT Light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Rectangle 134"/>
          <p:cNvSpPr/>
          <p:nvPr/>
        </p:nvSpPr>
        <p:spPr>
          <a:xfrm>
            <a:off x="39600" y="328680"/>
            <a:ext cx="171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it-IT" sz="800" spc="-1" strike="noStrike">
                <a:solidFill>
                  <a:srgbClr val="000066"/>
                </a:solidFill>
                <a:latin typeface="Adobe Garamond Pro"/>
              </a:rPr>
              <a:t>CON IL PATROCINIO DI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Rectangle 134"/>
          <p:cNvSpPr/>
          <p:nvPr/>
        </p:nvSpPr>
        <p:spPr>
          <a:xfrm>
            <a:off x="2416320" y="10796760"/>
            <a:ext cx="171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Adobe Garamond Pro"/>
              </a:rPr>
              <a:t>Infoline </a:t>
            </a:r>
            <a:r>
              <a:rPr b="1" lang="it-IT" sz="1000" spc="-1" strike="noStrike">
                <a:solidFill>
                  <a:srgbClr val="cc0000"/>
                </a:solidFill>
                <a:latin typeface="Adobe Garamond Pro"/>
              </a:rPr>
              <a:t> </a:t>
            </a:r>
            <a:r>
              <a:rPr b="1" lang="it-IT" sz="1000" spc="-1" strike="noStrike">
                <a:solidFill>
                  <a:srgbClr val="000066"/>
                </a:solidFill>
                <a:latin typeface="Adobe Garamond Pro"/>
              </a:rPr>
              <a:t>3474487373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55600" y="10771200"/>
            <a:ext cx="2736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dobe Garamond Pro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dobe Garamond Pro"/>
              </a:rPr>
              <a:t>Direzione Organizzativa</a:t>
            </a:r>
            <a:r>
              <a:rPr b="1" lang="en-US" sz="1200" spc="-1" strike="noStrike">
                <a:solidFill>
                  <a:srgbClr val="cc0000"/>
                </a:solidFill>
                <a:latin typeface="Adobe Garamond Pro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dobe Garamond Pro"/>
              </a:rPr>
              <a:t>Ivo Brienza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Rectangle 134"/>
          <p:cNvSpPr/>
          <p:nvPr/>
        </p:nvSpPr>
        <p:spPr>
          <a:xfrm>
            <a:off x="3116160" y="1735200"/>
            <a:ext cx="17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dobe Garamond Pro"/>
              </a:rPr>
              <a:t>Presenta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Text Box 309"/>
          <p:cNvSpPr/>
          <p:nvPr/>
        </p:nvSpPr>
        <p:spPr>
          <a:xfrm>
            <a:off x="1898640" y="103521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Footlight MT Light"/>
              </a:rPr>
              <a:t>Conducono</a:t>
            </a:r>
            <a:r>
              <a:rPr b="1" lang="it-IT" sz="1200" spc="-1" strike="noStrike">
                <a:solidFill>
                  <a:srgbClr val="000066"/>
                </a:solidFill>
                <a:latin typeface="Footlight MT Light"/>
              </a:rPr>
              <a:t> Francesco Cicchella &amp; Vincenzo de Honestis</a:t>
            </a:r>
            <a:r>
              <a:rPr b="1" lang="it-IT" sz="1200" spc="-1" strike="noStrike">
                <a:solidFill>
                  <a:srgbClr val="000000"/>
                </a:solidFill>
                <a:latin typeface="Footlight MT Ligh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322"/>
          <p:cNvSpPr/>
          <p:nvPr/>
        </p:nvSpPr>
        <p:spPr>
          <a:xfrm>
            <a:off x="1797120" y="11167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209"/>
          <p:cNvSpPr/>
          <p:nvPr/>
        </p:nvSpPr>
        <p:spPr>
          <a:xfrm>
            <a:off x="277920" y="887112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ootlight MT Light"/>
              </a:rPr>
              <a:t>Martedì 19 aprile  ore 11.00</a:t>
            </a:r>
            <a:r>
              <a:rPr b="0" lang="en-US" sz="9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ootlight MT Light"/>
              </a:rPr>
              <a:t>Teatro Istituto Alberghiero “V. Veneto”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ootlight MT Light"/>
              </a:rPr>
              <a:t>Via A. Labriola Lotto 11 K - Napoli</a:t>
            </a: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214"/>
          <p:cNvSpPr/>
          <p:nvPr/>
        </p:nvSpPr>
        <p:spPr>
          <a:xfrm>
            <a:off x="401760" y="8658360"/>
            <a:ext cx="213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Footlight MT Light"/>
              </a:rPr>
              <a:t>Artisti in </a:t>
            </a:r>
            <a:r>
              <a:rPr b="1" i="1" lang="en-US" sz="1200" spc="-1" strike="noStrike">
                <a:solidFill>
                  <a:srgbClr val="000066"/>
                </a:solidFill>
                <a:latin typeface="Footlight MT Light"/>
              </a:rPr>
              <a:t>Tour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18040" y="8672400"/>
            <a:ext cx="2654280" cy="650880"/>
            <a:chOff x="5018040" y="8672400"/>
            <a:chExt cx="2654280" cy="650880"/>
          </a:xfrm>
        </p:grpSpPr>
        <p:sp>
          <p:nvSpPr>
            <p:cNvPr id="81" name="Text Box 232"/>
            <p:cNvSpPr/>
            <p:nvPr/>
          </p:nvSpPr>
          <p:spPr>
            <a:xfrm>
              <a:off x="5260680" y="8874000"/>
              <a:ext cx="21607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Footlight MT Light"/>
                </a:rPr>
                <a:t>Martedì 10 maggio  ore 18.00</a:t>
              </a: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Footlight MT Light"/>
                </a:rPr>
                <a:t>Teatro Itis “G. Ferraris</a:t>
              </a:r>
              <a:r>
                <a:rPr b="1" lang="it-IT" sz="900" spc="-1" strike="noStrike">
                  <a:solidFill>
                    <a:srgbClr val="000000"/>
                  </a:solidFill>
                  <a:latin typeface="Footlight MT Light"/>
                </a:rPr>
                <a:t>”</a:t>
              </a: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Footlight MT Light"/>
                </a:rPr>
                <a:t>Via A. Labriola Lotto 2 G - Napoli</a:t>
              </a: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2" name="Text Box 234"/>
            <p:cNvSpPr/>
            <p:nvPr/>
          </p:nvSpPr>
          <p:spPr>
            <a:xfrm>
              <a:off x="5018040" y="8672400"/>
              <a:ext cx="26542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Footlight MT Light"/>
                </a:rPr>
                <a:t>Periferie in Festa</a:t>
              </a: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83" name="Text Box 234"/>
          <p:cNvSpPr/>
          <p:nvPr/>
        </p:nvSpPr>
        <p:spPr>
          <a:xfrm>
            <a:off x="3049560" y="8672400"/>
            <a:ext cx="18734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Footlight MT Light"/>
              </a:rPr>
              <a:t>Scherziamoci </a:t>
            </a:r>
            <a:r>
              <a:rPr b="1" i="1" lang="en-US" sz="1200" spc="-1" strike="noStrike">
                <a:solidFill>
                  <a:srgbClr val="000066"/>
                </a:solidFill>
                <a:latin typeface="Footlight MT Light"/>
              </a:rPr>
              <a:t> Su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232"/>
          <p:cNvSpPr/>
          <p:nvPr/>
        </p:nvSpPr>
        <p:spPr>
          <a:xfrm>
            <a:off x="2873520" y="8879040"/>
            <a:ext cx="249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ootlight MT Light"/>
              </a:rPr>
              <a:t>Martedì 3  maggio  ore 11.00</a:t>
            </a: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ootlight MT Light"/>
              </a:rPr>
              <a:t>Auditorium Polifunzionale di Scampia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ootlight MT Light"/>
              </a:rPr>
              <a:t>Viale della Resistenza - Napoli</a:t>
            </a: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297"/>
          <p:cNvSpPr/>
          <p:nvPr/>
        </p:nvSpPr>
        <p:spPr>
          <a:xfrm>
            <a:off x="357120" y="9801360"/>
            <a:ext cx="727236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Footlight MT Light"/>
              </a:rPr>
              <a:t>L’arte e lo Spazio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ootlight MT Light"/>
              </a:rPr>
              <a:t>19 aprile  -  10 maggio </a:t>
            </a: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ootlight MT Light"/>
              </a:rPr>
              <a:t>Incontro itinerante di Scrittura e Arti Figurative che seguirà tutti gli appuntamenti della Rassegna</a:t>
            </a: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"/>
          <p:cNvSpPr txBox="1"/>
          <p:nvPr/>
        </p:nvSpPr>
        <p:spPr>
          <a:xfrm rot="21132000">
            <a:off x="5952600" y="4793760"/>
            <a:ext cx="15004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solidFill>
                    <a:srgbClr val="a58dfd"/>
                  </a:solidFill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dobe Garamond Pro"/>
              </a:rPr>
              <a:t>OTTAVA EDIZIONE</a:t>
            </a:r>
            <a:endParaRPr b="1" lang="en-US" sz="1000" spc="1" strike="noStrike">
              <a:ln w="0">
                <a:solidFill>
                  <a:srgbClr val="a58dfd"/>
                </a:solidFill>
              </a:ln>
              <a:solidFill>
                <a:srgbClr val="3333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dobe Garamond Pro"/>
              <a:ea typeface="Adobe Garamond Pro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432320" y="10748880"/>
            <a:ext cx="324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dobe Garamond Pro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dobe Garamond Pro"/>
              </a:rPr>
              <a:t>QUESTA MANIFESTAZIONE È CONTRO IL SISTEMA DELLA CAMORRA</a:t>
            </a:r>
            <a:endParaRPr b="0" lang="en-US" sz="7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9:15:16Z</dcterms:created>
  <dc:creator>pippo</dc:creator>
  <dc:description/>
  <dc:language>en-US</dc:language>
  <cp:lastModifiedBy>Pc</cp:lastModifiedBy>
  <dcterms:modified xsi:type="dcterms:W3CDTF">2011-03-16T17:02:49Z</dcterms:modified>
  <cp:revision>204</cp:revision>
  <dc:subject/>
  <dc:title>Presentazione di PowerPoint</dc:title>
</cp:coreProperties>
</file>