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5A8-B952-478F-BFF9-195EF880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D52-CB1D-453B-ABB5-A3B1D262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C36-8BFA-4662-BC4C-52F93CF0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B65-23D2-4986-A18D-E2F81893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399-961C-4A40-AEC9-99DB5F24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65F-CBBC-4665-A2A0-AA76ED0C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871-A1D4-44B2-984D-69B79E0B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BCC-BFF6-48CB-9EAB-9CB524C5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171-DC96-43EC-A86D-2070F586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5A1-77FA-4EB2-B4DA-50868E76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1ED-B179-4CAF-B694-9C35BB2C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746-0686-42AE-843F-5646B26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2ADF-BA5A-490A-993E-60ECC4DB4C0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Programma sperimentale di intervento per l’inclusione sociale e il sostegno delle famiglie dei minori, in condizioni di disagio</a:t>
            </a:r>
            <a:br>
              <a:rPr sz="2000"/>
            </a:b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educativo – relazionale.</a:t>
            </a:r>
            <a:br>
              <a:rPr sz="2000"/>
            </a:b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“Mi perdo … ma non mi dis-perdo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une di Nap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essorato alle Politiche Sociali e Assessorato all’ Educ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 10  Municipalità  Cittad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fettura di Napoli – Ufficio Territoriale di Gove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fficio  Scolastico Regionale per la Camp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L NA 1 Cent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ibunale per i Minorenni di Nap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cura per i Minorenni presso il Tribunale per i Minorenni di Nap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nzia socio-educativa Comune di Napoli- Fondazione AVO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Gli istituti scolastici coinvolti nella sperimenta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700280"/>
          <a:ext cx="8229600" cy="4114800"/>
        </p:xfrm>
        <a:graphic>
          <a:graphicData uri="http://schemas.openxmlformats.org/drawingml/2006/table">
            <a:tbl>
              <a:tblPr/>
              <a:tblGrid>
                <a:gridCol w="1522440"/>
                <a:gridCol w="2160720"/>
                <a:gridCol w="2303280"/>
                <a:gridCol w="224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unicipal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s. 2008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s. 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s. 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Bovio-Colle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Bovio-Colle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45° CD Bonghi - plesso 4gior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45° CD Bonghi - plesso 4gior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44° Lombardo Rad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44° Lombardo Rad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8° CD Quar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° CD Vanvite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4° CD E.A.M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4° CD E.A.M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V. Da Feltre 62°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V. Da Feltre 62°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V. Da Feltre 62°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° CD Maria Claudia Ru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° CD Maria Claudia Ru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° CD Maria Claudia Ru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3° CD Don Mil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3° CD Don Mil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3° CD Don Mil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Gli istituti scolastici coinvolti nella sperimenta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484280"/>
          <a:ext cx="8229600" cy="4449960"/>
        </p:xfrm>
        <a:graphic>
          <a:graphicData uri="http://schemas.openxmlformats.org/drawingml/2006/table">
            <a:tbl>
              <a:tblPr/>
              <a:tblGrid>
                <a:gridCol w="1666800"/>
                <a:gridCol w="2160720"/>
                <a:gridCol w="2158920"/>
                <a:gridCol w="2243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unicipal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s. 2008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s. 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s. 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° CD Cara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° CD Cara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° CD Cara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1° CD Ori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1° CD Ori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1° CD Ori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5° CD Berlingi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5° CD Berlingi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2° CD D'Acqui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° CD Al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° CD Al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° CD Al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° CD Giovanni XX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° CD Giovanni XX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° CD Giovanni XX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43°CD S. Gaet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43°CD S. Gaet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43°CD S. Gaet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° CD Russoli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° CD Russoli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Brac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Brac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Russ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° CD Leopar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° CD Leopar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rganismi di Coordinamento Tecnico–Programmat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itato di Valutazione e d’Indirizz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ppresentanti Legali degli Enti sottoscritto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uttura Tec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une di Napo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igente del Servizio Politiche per i Minori L’Infanzia e L’Adolescen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igente del Servizio Programmazione Educativ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nicipalit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igentI attività sociali ed educative delle 10 Municipalit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nzia Socio Educa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zionario dell’U.O.C. Prevenzione dei diritti dell’infanzia – ricerca, informazione  e monitoraggio - Comune di Napol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ttore</a:t>
            </a: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lla Fondazione A.Vo.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fettur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igente Ufficio coesione soci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L Na1 Cent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ttore del dipartimento socio-sanita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cura per i Mino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 rappresenta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fficio Scolastico Region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e referenti Dispersione Scolas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bietti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gliorare la qualità della vita sia individuale, sia collettiva, dei cittadini in cresci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F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astare l’abbandono scolastico, rafforzando, nelle scuole, la prassi della prevenzione della dispersione scolastica, condizione indispensabile a favorire il successo scolastico e formativo degli alliev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fforzare il rapporto scuola-famiglia, finalizzandolo anche all’individuazione tempestiva e precoce dei casi di minori ritenuti a rischio di dispersione scolast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estinatari del progr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ievi che fanno registrare frequenti cambiamenti di scuol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atelli di soggetti inadempient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ggetti pluribocciat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ievi che fanno registrare ripetute assenze saltuari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ggetti già noti ai servizi sociali e sanitar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ievi che fanno registrare atteggiamenti e comportamenti inadeguati, compreso il bullis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Percorso Istituzion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cazione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gli Istituti comprensivi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artenenti a ciascuna Municipalità coinvolgibili nella sperimentazi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tivazione del Gruppo di Coordinamento Integrato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così compos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te scuola coinvolta per ogni Municipalit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te Centri Servizi Sociali Territoriali per ogni Municipalit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te G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tivazione mini-équipe integrata territoriale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così compos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egnante della scuola coinvol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istente soci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eratore attivato dal GPA;</a:t>
            </a: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asi del percorso oper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se 0 – accogli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 “Progetto Accoglienza” di ciascuna scuola, sarà utilizzato come momento chiave per l’individuazione dei casi “a rischio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se 1 – contat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à a partire dal primo giorno di scuola, per i minori ritenuti a rischio conclamato, verranno attivati i contatti iniziali con le famiglie e gli interventi essenziali da parte dei CSST. In questa fase, avviene altresì la prima compilazione del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cheda di rilevazione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partire dalle notizie già in posses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asi del percorso oper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se 2 – individuazione e segnalazione dei mino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080" indent="-3358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00000"/>
              </a:buClr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tro 45 giorni dall’inizio dell’Anno Scolastico, il Gruppo di Coordinamento Integrato esamina le segnalazioni, integra e completa la compilazione del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cheda di rilevazione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 la invia alla Procura Minorile per l’attivazione dei progetti interven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080" indent="-33588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c00000"/>
              </a:buClr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ll’ambito del Gruppo di Coordinamento Integrato, attraverso il GPA sono valutate le segnalazioni del referente Scuola e del referente dei CSST, stabilendo quali minori debbano essere segnalati alla Procura per l’inserimento nei Progetti Integrati Individualizza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080" indent="-33588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c00000"/>
              </a:buClr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 Gruppo di Coordinamento attiva la micro-equipe integrata per la definizione del PINT a cui dovrà aderire la famiglia, anche con l’intervento della Procur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080" indent="-33588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c00000"/>
              </a:buClr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 della proposta alla Procura,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cheda di rilevazione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a inviata – anche via fax – all’ Ufficio Dispersione Scolastica – Prevenzione del Disagio Socio - Educativo del Comune, al fine di autorizzare la disponibilità delle risor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asi del percorso oper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se 3 – contestazione inadempienza alle famig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32904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c00000"/>
              </a:buClr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Procura per i Minorenni ricevuta la proposta , valuterà l’opportunità  – nell’ambito delle proprie competenze e nell’esercizio dei propri poteri – di prendere ogni utile iniziativa finalizzata a favorire l’osservanza dell’adempimento dell’obbligo di frequenza scolastica da parte del minore, anche alla luce di quanto previsto dal piano d’interve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329040" algn="just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ccessivamente, la scheda di sintesi del PINT viene restituita al GP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se 4 – presa in carico e monitoragg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32904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c00000"/>
              </a:buClr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micro-équipe integrata prende in carico i singoli casi e li segue per tutto il percorso di reinserimento scolasti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32904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c00000"/>
              </a:buClr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 Gruppo di Coordinamento Integrato e la micro-équipe territoriale, assicureranno il monitoraggio periodico e continuativo sull’andamento del progetto individualizza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329040" algn="just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egia dell’intero percorso sarà a cura dell’AS responsabile del CSS di quel territorio.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Gli istituti scolastici coinvolti nella sperimenta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052640"/>
          <a:ext cx="8229600" cy="5160960"/>
        </p:xfrm>
        <a:graphic>
          <a:graphicData uri="http://schemas.openxmlformats.org/drawingml/2006/table">
            <a:tbl>
              <a:tblPr/>
              <a:tblGrid>
                <a:gridCol w="1522440"/>
                <a:gridCol w="2016000"/>
                <a:gridCol w="2160720"/>
                <a:gridCol w="253044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unicipal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s. 2008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s. 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.s. 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V. Emanuel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V. Emanuel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Della Va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Della Va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° CD De Ami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° CD De Ami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° CD Paisiello-Sc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° CD Fontanelle- plesso Petrar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Campo del Moricino - plesso Caduti via F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Campo del Moricino - plesso Caduti via F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Confaloni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Confaloni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Borsell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Borsell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unicipalità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° CD Angiu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° CD Angiu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 Ammaturo 81° CD-plesso S. Frances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° CD Ru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0:53:29Z</dcterms:created>
  <dc:creator>carnevale1</dc:creator>
  <dc:description/>
  <dc:language>en-US</dc:language>
  <cp:lastModifiedBy>M.I.U.R.</cp:lastModifiedBy>
  <dcterms:modified xsi:type="dcterms:W3CDTF">2011-06-03T06:57:32Z</dcterms:modified>
  <cp:revision>17</cp:revision>
  <dc:subject/>
  <dc:title>Programma Sperimentale d’intervento per l’inclusione sociale e il sostegno delle famiglie e dei minori in condizione di disagio educativo – relazionale “Mi perdo… ma non mi dis-perdo”</dc:title>
</cp:coreProperties>
</file>