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9D7-F032-452A-89FB-7D873601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09D7-261E-4844-8FCE-669E33D2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431-308D-4D03-9609-64FF3469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55E-8249-4EC9-982B-B0FD197F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EF7-1882-48DA-9EAC-FAD0ED65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1946-D99A-42A5-B298-2A2490DB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1801-8FC6-45E4-A1C5-C4ED0B72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8D7-1DAB-44AD-BD20-89BAE3CD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94A-3ECA-473A-9D50-60A32C11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E86-89E7-4F3F-B6B8-F30F75BA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BAFE-3E73-4A5C-8A05-CB46EBF7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685-938C-4364-87B0-7AAF8DFC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26BD-9F8D-4B8F-B940-9B4EF592AEF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5.pn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893080" y="260280"/>
            <a:ext cx="250920" cy="626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215640"/>
            <a:ext cx="60483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ulle Orme di … San France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00000" y="1197000"/>
            <a:ext cx="68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tinerario francesc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torico - religioso - artistico - letterario - natural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5805360"/>
            <a:ext cx="2808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Referente  ex IRRE UMBRIA Margherita Rossi Cittad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4581360"/>
            <a:ext cx="288144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Istituto Comprensivo collabor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Dirigente Scolastico:Rosella Aris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COMUNE di VALFABB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ALTRI 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95280" y="2421000"/>
            <a:ext cx="8280360" cy="2239920"/>
            <a:chOff x="395280" y="2421000"/>
            <a:chExt cx="8280360" cy="2239920"/>
          </a:xfrm>
        </p:grpSpPr>
        <p:sp>
          <p:nvSpPr>
            <p:cNvPr id="47" name=""/>
            <p:cNvSpPr/>
            <p:nvPr/>
          </p:nvSpPr>
          <p:spPr>
            <a:xfrm>
              <a:off x="1330200" y="422100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Assi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87640" y="429264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Valfabb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00040" y="42210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Gubb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Assisi panorama_rit" descr=""/>
            <p:cNvPicPr/>
            <p:nvPr/>
          </p:nvPicPr>
          <p:blipFill>
            <a:blip r:embed="rId2"/>
            <a:stretch/>
          </p:blipFill>
          <p:spPr>
            <a:xfrm>
              <a:off x="395280" y="2421000"/>
              <a:ext cx="2664000" cy="17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anoramaValfabbrica" descr=""/>
            <p:cNvPicPr/>
            <p:nvPr/>
          </p:nvPicPr>
          <p:blipFill>
            <a:blip r:embed="rId3"/>
            <a:stretch/>
          </p:blipFill>
          <p:spPr>
            <a:xfrm>
              <a:off x="3203640" y="2421000"/>
              <a:ext cx="266364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GubbioPanorama" descr=""/>
            <p:cNvPicPr/>
            <p:nvPr/>
          </p:nvPicPr>
          <p:blipFill>
            <a:blip r:embed="rId4"/>
            <a:stretch/>
          </p:blipFill>
          <p:spPr>
            <a:xfrm>
              <a:off x="6010200" y="2421000"/>
              <a:ext cx="266544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-36360" y="-27000"/>
            <a:ext cx="918036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san_francesco_da_assisi1_tag" descr=""/>
          <p:cNvPicPr/>
          <p:nvPr/>
        </p:nvPicPr>
        <p:blipFill>
          <a:blip r:embed="rId6"/>
          <a:stretch/>
        </p:blipFill>
        <p:spPr>
          <a:xfrm>
            <a:off x="7885080" y="-27000"/>
            <a:ext cx="1295280" cy="151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197000"/>
            <a:ext cx="250920" cy="5329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4030200"/>
            <a:ext cx="3132000" cy="24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Scuola – pol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Istituto Tecnico Industrial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Dirigente Scolastico:Cecilia Tabarrin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Docente referente:Laura Zampagl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COMUNE di GUBB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co_sulleormedi_big" descr=""/>
          <p:cNvPicPr/>
          <p:nvPr/>
        </p:nvPicPr>
        <p:blipFill>
          <a:blip r:embed="rId9"/>
          <a:stretch/>
        </p:blipFill>
        <p:spPr>
          <a:xfrm>
            <a:off x="0" y="0"/>
            <a:ext cx="1547640" cy="1440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4508640"/>
            <a:ext cx="29527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Scuola – polo:                                                                                   Liceo Classico ”Properzio”                                     Dirigente Scolastico: Rosella Curradi                                                              Docente referente: Alison Blun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COMUNE di ASSI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LTRE ISTITUZIONI  ED ENTI  PARTECIPANT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COLLABORAZIONI SPONSOR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E PATROCI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35280" y="1341000"/>
            <a:ext cx="550872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CONVENTO DI SAN FRANCESCO di ASS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COMUNITÀ MONTANA DELL’AL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CHIAS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COMUNITÀ MONTANA MONTE SUBA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C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Monotype Corsiva"/>
              </a:rPr>
              <a:t>ACCADEMIA PROPERZIAN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Monotype Corsiva"/>
              </a:rPr>
              <a:t>SUBA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Monotype Corsiva"/>
              </a:rPr>
              <a:t>LYONS DI ASS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Monotype Corsiva"/>
              </a:rPr>
              <a:t>ROTARY CLUB DI ASS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Monotype Corsiva"/>
              </a:rPr>
              <a:t>LYONS POST DI GUB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Monotype Corsiva"/>
              </a:rPr>
              <a:t>LIONS DI GUB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Monotype Corsiva"/>
              </a:rPr>
              <a:t>IRDAU , GUB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Monotype Corsiva"/>
              </a:rPr>
              <a:t>AGRITURIS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COLACEM, CEMENTERIE, GUBBIO, 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ABBAZIA DI VALLINGEGNO,Agriturismo, 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Monotype Corsiva"/>
              </a:rPr>
              <a:t>ANNA RITA VAGNARELLI, es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PROVINCIA DI PERUGIA, Patrocinio, </a:t>
            </a: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Assessorato a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Politiche del Lavoro e dell’Istruzione,Offerta formativa e Formazione integr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Servizi per l’Occupazione ed alle Imprese ed Internazionalizzazione delle stes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36360" y="-27000"/>
            <a:ext cx="9180360" cy="3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an_francesco_da_assisi1_tag" descr=""/>
          <p:cNvPicPr/>
          <p:nvPr/>
        </p:nvPicPr>
        <p:blipFill>
          <a:blip r:embed="rId2"/>
          <a:stretch/>
        </p:blipFill>
        <p:spPr>
          <a:xfrm>
            <a:off x="0" y="-27000"/>
            <a:ext cx="1209600" cy="158112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0" y="260280"/>
            <a:ext cx="9144000" cy="6597720"/>
            <a:chOff x="0" y="260280"/>
            <a:chExt cx="9144000" cy="6597720"/>
          </a:xfrm>
        </p:grpSpPr>
        <p:sp>
          <p:nvSpPr>
            <p:cNvPr id="65" name=""/>
            <p:cNvSpPr/>
            <p:nvPr/>
          </p:nvSpPr>
          <p:spPr>
            <a:xfrm>
              <a:off x="0" y="1557360"/>
              <a:ext cx="250920" cy="5040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6524640"/>
              <a:ext cx="9144000" cy="333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93080" y="260280"/>
              <a:ext cx="250920" cy="6264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95280" y="1557360"/>
            <a:ext cx="3816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ISTITUTO COMPREN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DI VALFABB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Dirigente scola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Rosella Aris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Classi IV E V della scuola pri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Docente referente: Rita  Orlan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ISTITUTO D’ARTE di GUB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Dirigente scola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Giovanni M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Docenti referen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Gabriela Ubaldina Bazzuc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Maria Vent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Classi coinvolte: III e I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Conribu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Accoglienza e proiezione di un DVD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Monotype Corsiva"/>
              </a:rPr>
              <a:t>ATTENTI AL LUPO: sull’icon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Monotype Corsiva"/>
              </a:rPr>
              <a:t>di San Francesco e il lupo a Gub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5:06:44Z</dcterms:created>
  <dc:creator>cittadinic</dc:creator>
  <dc:description/>
  <dc:language>en-US</dc:language>
  <cp:lastModifiedBy>rossi</cp:lastModifiedBy>
  <dcterms:modified xsi:type="dcterms:W3CDTF">2008-01-11T09:11:31Z</dcterms:modified>
  <cp:revision>589</cp:revision>
  <dc:subject/>
  <dc:title>Sulle orme di… San Francesco</dc:title>
</cp:coreProperties>
</file>