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974CC-DC9B-404F-B7A2-E44AD6060FD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277C2-F388-44D3-B0B6-5C486FC961B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7D59-77A5-431A-9A34-D6F81D518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4996-66C2-4E28-AB55-16AEAA240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4B0F-D98E-4C6D-9635-92C54D2AF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1F31-677B-4F72-B7E4-C5379EEB7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A6C3-250F-4911-8196-DA463B48C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8045-D267-4706-9964-317DC045B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9CCC-E858-4A08-ABF3-8BDB77D31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2A80-318D-4B84-9374-52245C41A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FCB0-4B15-44EE-B779-3D37AFF44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900E-40A5-463C-AD83-3856CC32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34F7-EF0F-422B-AB86-02848A44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6AA3-913D-43E3-A09F-4F79F232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8AA1E-22CC-4B9F-AA45-A8122E92965A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ttangolo 2"/>
          <p:cNvSpPr/>
          <p:nvPr/>
        </p:nvSpPr>
        <p:spPr>
          <a:xfrm>
            <a:off x="692280" y="5762520"/>
            <a:ext cx="775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ABSTRA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ES: Un percorso di </a:t>
            </a:r>
            <a:r>
              <a:rPr b="1" i="1" lang="it-IT" sz="1800" spc="-1" strike="noStrike">
                <a:solidFill>
                  <a:srgbClr val="000066"/>
                </a:solidFill>
                <a:latin typeface="Arial"/>
              </a:rPr>
              <a:t>media-education</a:t>
            </a: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 per una cittadinanza in rete sostenibile e consapev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CasellaDiTesto 2"/>
          <p:cNvSpPr/>
          <p:nvPr/>
        </p:nvSpPr>
        <p:spPr>
          <a:xfrm>
            <a:off x="2627280" y="3357720"/>
            <a:ext cx="27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VENTUALE IMMAGINE RAPPRESENT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CasellaDiTesto 4"/>
          <p:cNvSpPr/>
          <p:nvPr/>
        </p:nvSpPr>
        <p:spPr>
          <a:xfrm>
            <a:off x="611280" y="62064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OGO SCU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asellaDiTesto 5"/>
          <p:cNvSpPr/>
          <p:nvPr/>
        </p:nvSpPr>
        <p:spPr>
          <a:xfrm>
            <a:off x="6372360" y="620640"/>
            <a:ext cx="259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2060"/>
                </a:solidFill>
                <a:latin typeface="Arial"/>
              </a:rPr>
              <a:t>Festival nazionale SL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2060"/>
                </a:solidFill>
                <a:latin typeface="Arial"/>
              </a:rPr>
              <a:t>VENEZIA MEST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2060"/>
                </a:solidFill>
                <a:latin typeface="Arial"/>
              </a:rPr>
              <a:t>Novembre 20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asellaDiTesto 6"/>
          <p:cNvSpPr/>
          <p:nvPr/>
        </p:nvSpPr>
        <p:spPr>
          <a:xfrm>
            <a:off x="2771640" y="6206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OME SCU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egnaposto numero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0635B-F164-4D26-9918-BD97CBC4717B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asellaDiTesto 5"/>
          <p:cNvSpPr/>
          <p:nvPr/>
        </p:nvSpPr>
        <p:spPr>
          <a:xfrm>
            <a:off x="755640" y="37620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Indie Flower"/>
              </a:rPr>
              <a:t>1. Motivazione iniz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egnaposto numero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A6A9E-C2E3-4F0A-836C-BB6D014A519D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asellaDiTesto 5"/>
          <p:cNvSpPr/>
          <p:nvPr/>
        </p:nvSpPr>
        <p:spPr>
          <a:xfrm>
            <a:off x="179280" y="162000"/>
            <a:ext cx="864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Indie Flower"/>
              </a:rPr>
              <a:t>2. Identificazione del problema e obiettivi del proget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(A quali bisogni del territorio risponde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egnaposto numero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5102E-4740-4DCE-97DE-F9F6B71BD3B6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asellaDiTesto 5"/>
          <p:cNvSpPr/>
          <p:nvPr/>
        </p:nvSpPr>
        <p:spPr>
          <a:xfrm>
            <a:off x="900000" y="206280"/>
            <a:ext cx="727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Indie Flower"/>
              </a:rPr>
              <a:t>3. Strategia adott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(Come raggiungere l’obiettivo/gli obiettivi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egnaposto numero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6FF1A-5AE3-4F00-B1FA-B51E0D0C69C5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CasellaDiTesto 5"/>
          <p:cNvSpPr/>
          <p:nvPr/>
        </p:nvSpPr>
        <p:spPr>
          <a:xfrm>
            <a:off x="487440" y="103320"/>
            <a:ext cx="79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Indie Flower"/>
              </a:rPr>
              <a:t>4. Fasi di realizzazi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(Timeline: cosa, chi, quando?)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0"/>
          <p:cNvSpPr/>
          <p:nvPr/>
        </p:nvSpPr>
        <p:spPr>
          <a:xfrm>
            <a:off x="457200" y="979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egnaposto numero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903EF-D4FC-4B7A-BF5B-365FC3C7F4F1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asellaDiTesto 5"/>
          <p:cNvSpPr/>
          <p:nvPr/>
        </p:nvSpPr>
        <p:spPr>
          <a:xfrm>
            <a:off x="684360" y="339840"/>
            <a:ext cx="793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Indie Flower"/>
              </a:rPr>
              <a:t>5. Traguardi di competenz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Quali competenze disciplinari svilupp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egnaposto numero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D9A1E-8181-448A-93D4-4EF07A18AEEF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CasellaDiTesto 2"/>
          <p:cNvSpPr/>
          <p:nvPr/>
        </p:nvSpPr>
        <p:spPr>
          <a:xfrm>
            <a:off x="934920" y="260280"/>
            <a:ext cx="727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Indie Flower"/>
              </a:rPr>
              <a:t>6. Risultati raggiun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(Benefici sociali/risposte ai bisogni di partenz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egnaposto numero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E2EE0-0E8F-4F2F-B339-9DB3929F59B4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CasellaDiTesto 5"/>
          <p:cNvSpPr/>
          <p:nvPr/>
        </p:nvSpPr>
        <p:spPr>
          <a:xfrm>
            <a:off x="108000" y="206280"/>
            <a:ext cx="878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Indie Flower"/>
              </a:rPr>
              <a:t>7. Valutazi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(Che cosa valutiamo e con quali strumenti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egnaposto numero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FE5E0-2FD3-4FA6-8BE7-ECED4A99B233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CasellaDiTesto 5"/>
          <p:cNvSpPr/>
          <p:nvPr/>
        </p:nvSpPr>
        <p:spPr>
          <a:xfrm>
            <a:off x="250920" y="351000"/>
            <a:ext cx="856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Indie Flower"/>
              </a:rPr>
              <a:t>Eventuale video di presentazione del proget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(durata massima: 2 minuti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ttangolo 6"/>
          <p:cNvSpPr/>
          <p:nvPr/>
        </p:nvSpPr>
        <p:spPr>
          <a:xfrm>
            <a:off x="971640" y="155268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INK O ALTR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5T14:04:06Z</dcterms:created>
  <dc:creator>Tiziana_</dc:creator>
  <dc:description/>
  <dc:language>en-US</dc:language>
  <cp:lastModifiedBy>Staff-Prof</cp:lastModifiedBy>
  <dcterms:modified xsi:type="dcterms:W3CDTF">2021-04-23T09:40:29Z</dcterms:modified>
  <cp:revision>316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341040</vt:lpwstr>
  </property>
</Properties>
</file>