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EEB9-C592-445B-899A-98F522D4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08EB-D98B-4C91-82F4-D419EE8B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06F4-631E-4F5F-99BD-8A35DBD08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0001-85AE-4B80-906C-BF6A32D1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79B2-48BF-4DB6-B025-EB0347CF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54184-2B25-4745-8309-524301A0D7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B8B7B-ECAD-497A-98E8-D96E5D52BB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95B8C-FAFE-47A9-A751-4FFCDF092A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24D20-0891-4A38-8FC1-146F8791B7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0AD64-523C-4019-91B7-C385F0D6BC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EBB6-8854-4EAB-AFA5-2F4514C9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43ED3-6EF0-46C7-B78F-13FE88D243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78FCF-B529-4866-A34E-AAB5B50FC4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C7D18-0C06-4D45-B1B9-BAB963FCFA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62B95-4B63-4389-8CD2-C0010FCBB1F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623EF-16DF-425C-A88A-C9C0053B21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B6A0C-B6FB-468C-BDE3-0A70F8280D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ACADC-8F4B-4CB8-8761-A65BD9E15B1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C1B2-CB3E-45BE-9F2D-27751F30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5B12-4ACD-4123-A260-B0D10061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D8DB-31B4-4DF8-981B-0D572C88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8C9C-0899-49F0-9F9E-B1B9A40C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F215-FB0D-497E-8EBA-BC3C886C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89FC-7DF7-4B8C-8BB8-474D53DF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777F-937B-4F78-B05C-4ABE723EC8C5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bb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tangolo 6"/>
          <p:cNvSpPr/>
          <p:nvPr/>
        </p:nvSpPr>
        <p:spPr>
          <a:xfrm>
            <a:off x="351000" y="333360"/>
            <a:ext cx="2158920" cy="8985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ttangolo 7"/>
          <p:cNvSpPr/>
          <p:nvPr/>
        </p:nvSpPr>
        <p:spPr>
          <a:xfrm>
            <a:off x="351000" y="333360"/>
            <a:ext cx="8469000" cy="63356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patrizia.cacciari\Downloads\MIPAF-nuovo-Alma.png"/>
          <p:cNvPicPr/>
          <p:nvPr/>
        </p:nvPicPr>
        <p:blipFill>
          <a:blip r:embed="rId2"/>
          <a:stretch/>
        </p:blipFill>
        <p:spPr>
          <a:xfrm>
            <a:off x="3713040" y="487440"/>
            <a:ext cx="836640" cy="590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Users\patrizia.cacciari\Downloads\cuore.png"/>
          <p:cNvPicPr/>
          <p:nvPr/>
        </p:nvPicPr>
        <p:blipFill>
          <a:blip r:embed="rId3"/>
          <a:stretch/>
        </p:blipFill>
        <p:spPr>
          <a:xfrm>
            <a:off x="4662360" y="1773360"/>
            <a:ext cx="2987640" cy="2305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>
            <a:off x="2657520" y="476280"/>
            <a:ext cx="895320" cy="620640"/>
          </a:xfrm>
          <a:prstGeom prst="rect">
            <a:avLst/>
          </a:prstGeom>
          <a:ln w="0">
            <a:noFill/>
          </a:ln>
        </p:spPr>
      </p:pic>
      <p:sp>
        <p:nvSpPr>
          <p:cNvPr id="46" name="Rettangolo 11"/>
          <p:cNvSpPr/>
          <p:nvPr/>
        </p:nvSpPr>
        <p:spPr>
          <a:xfrm>
            <a:off x="2511360" y="331920"/>
            <a:ext cx="2158920" cy="8985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5"/>
          <a:stretch/>
        </p:blipFill>
        <p:spPr>
          <a:xfrm>
            <a:off x="557280" y="515880"/>
            <a:ext cx="1746360" cy="546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ttangolo 6"/>
          <p:cNvSpPr/>
          <p:nvPr/>
        </p:nvSpPr>
        <p:spPr>
          <a:xfrm>
            <a:off x="2627280" y="339840"/>
            <a:ext cx="6192720" cy="892080"/>
          </a:xfrm>
          <a:prstGeom prst="rect">
            <a:avLst/>
          </a:prstGeom>
          <a:solidFill>
            <a:srgbClr val="cbbba0"/>
          </a:solidFill>
          <a:ln w="25560">
            <a:solidFill>
              <a:srgbClr val="cbbb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ttangolo 7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cbbba0"/>
          </a:solidFill>
          <a:ln w="25560">
            <a:solidFill>
              <a:srgbClr val="cbbb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ttangolo 8"/>
          <p:cNvSpPr/>
          <p:nvPr/>
        </p:nvSpPr>
        <p:spPr>
          <a:xfrm>
            <a:off x="351000" y="333360"/>
            <a:ext cx="2158920" cy="8985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ttangolo 9"/>
          <p:cNvSpPr/>
          <p:nvPr/>
        </p:nvSpPr>
        <p:spPr>
          <a:xfrm>
            <a:off x="2662200" y="326880"/>
            <a:ext cx="4413240" cy="900360"/>
          </a:xfrm>
          <a:prstGeom prst="rect">
            <a:avLst/>
          </a:prstGeom>
          <a:noFill/>
          <a:ln w="3240">
            <a:solidFill>
              <a:srgbClr val="cbbb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ttangolo 10"/>
          <p:cNvSpPr/>
          <p:nvPr/>
        </p:nvSpPr>
        <p:spPr>
          <a:xfrm>
            <a:off x="351000" y="333360"/>
            <a:ext cx="8469000" cy="6335640"/>
          </a:xfrm>
          <a:prstGeom prst="rect">
            <a:avLst/>
          </a:prstGeom>
          <a:noFill/>
          <a:ln w="3240">
            <a:solidFill>
              <a:srgbClr val="cbbb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Connettore 1 11"/>
          <p:cNvSpPr/>
          <p:nvPr/>
        </p:nvSpPr>
        <p:spPr>
          <a:xfrm flipV="1">
            <a:off x="351000" y="1231560"/>
            <a:ext cx="8469000" cy="11160"/>
          </a:xfrm>
          <a:prstGeom prst="line">
            <a:avLst/>
          </a:prstGeom>
          <a:ln w="9360">
            <a:solidFill>
              <a:srgbClr val="cbbb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onnettore 1 12"/>
          <p:cNvSpPr/>
          <p:nvPr/>
        </p:nvSpPr>
        <p:spPr>
          <a:xfrm>
            <a:off x="2627280" y="339840"/>
            <a:ext cx="0" cy="909360"/>
          </a:xfrm>
          <a:prstGeom prst="line">
            <a:avLst/>
          </a:prstGeom>
          <a:ln w="9360">
            <a:solidFill>
              <a:srgbClr val="cbbb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349200" y="6127920"/>
            <a:ext cx="1908360" cy="62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patrizia.cacciari\Downloads\cuore.png"/>
          <p:cNvPicPr/>
          <p:nvPr/>
        </p:nvPicPr>
        <p:blipFill>
          <a:blip r:embed="rId3"/>
          <a:stretch/>
        </p:blipFill>
        <p:spPr>
          <a:xfrm>
            <a:off x="7812000" y="477720"/>
            <a:ext cx="777960" cy="600120"/>
          </a:xfrm>
          <a:prstGeom prst="rect">
            <a:avLst/>
          </a:prstGeom>
          <a:ln w="0">
            <a:noFill/>
          </a:ln>
        </p:spPr>
      </p:pic>
      <p:pic>
        <p:nvPicPr>
          <p:cNvPr id="95" name="Immagine 17" descr=""/>
          <p:cNvPicPr/>
          <p:nvPr/>
        </p:nvPicPr>
        <p:blipFill>
          <a:blip r:embed="rId4"/>
          <a:stretch/>
        </p:blipFill>
        <p:spPr>
          <a:xfrm>
            <a:off x="2660760" y="6262560"/>
            <a:ext cx="1908000" cy="400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5"/>
          <a:stretch/>
        </p:blipFill>
        <p:spPr>
          <a:xfrm>
            <a:off x="557280" y="515880"/>
            <a:ext cx="1746360" cy="54612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17"/>
          <p:cNvSpPr/>
          <p:nvPr/>
        </p:nvSpPr>
        <p:spPr>
          <a:xfrm>
            <a:off x="4859280" y="6289560"/>
            <a:ext cx="14400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OGO CCIA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4"/>
          </p:nvPr>
        </p:nvSpPr>
        <p:spPr>
          <a:xfrm>
            <a:off x="6689880" y="6288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84E4-85D9-48DD-AD6F-DC954C87856F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CasellaDiTesto 6"/>
          <p:cNvSpPr/>
          <p:nvPr/>
        </p:nvSpPr>
        <p:spPr>
          <a:xfrm>
            <a:off x="2411280" y="476280"/>
            <a:ext cx="41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bbba0"/>
                </a:solidFill>
                <a:latin typeface="Calibri"/>
              </a:rPr>
              <a:t>Programma di educazione alimentare finanziato dall’Unione Europea e realizzato dal Ministero delle politiche agricole alimentari e foresta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bbba0"/>
                </a:solidFill>
                <a:latin typeface="Calibri"/>
              </a:rPr>
              <a:t>in collaborazione c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7" descr="C:\Users\patrizia.cacciari\Desktop\marchi png\min salute.png"/>
          <p:cNvPicPr/>
          <p:nvPr/>
        </p:nvPicPr>
        <p:blipFill>
          <a:blip r:embed="rId2"/>
          <a:stretch/>
        </p:blipFill>
        <p:spPr>
          <a:xfrm>
            <a:off x="2529000" y="2289240"/>
            <a:ext cx="1384200" cy="647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C:\Users\patrizia.cacciari\Desktop\marchi png\miur.png"/>
          <p:cNvPicPr/>
          <p:nvPr/>
        </p:nvPicPr>
        <p:blipFill>
          <a:blip r:embed="rId3"/>
          <a:stretch/>
        </p:blipFill>
        <p:spPr>
          <a:xfrm>
            <a:off x="4437000" y="2289240"/>
            <a:ext cx="1997280" cy="860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C:\Users\patrizia.cacciari\Desktop\marchi png\conf regioni.png"/>
          <p:cNvPicPr/>
          <p:nvPr/>
        </p:nvPicPr>
        <p:blipFill>
          <a:blip r:embed="rId4"/>
          <a:stretch/>
        </p:blipFill>
        <p:spPr>
          <a:xfrm>
            <a:off x="2590920" y="3449520"/>
            <a:ext cx="1439640" cy="590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C:\Users\patrizia.cacciari\Desktop\marchi png\crea.png"/>
          <p:cNvPicPr/>
          <p:nvPr/>
        </p:nvPicPr>
        <p:blipFill>
          <a:blip r:embed="rId5"/>
          <a:stretch/>
        </p:blipFill>
        <p:spPr>
          <a:xfrm>
            <a:off x="4933800" y="3490920"/>
            <a:ext cx="1003320" cy="549360"/>
          </a:xfrm>
          <a:prstGeom prst="rect">
            <a:avLst/>
          </a:prstGeom>
          <a:ln w="0">
            <a:noFill/>
          </a:ln>
        </p:spPr>
      </p:pic>
      <p:sp>
        <p:nvSpPr>
          <p:cNvPr id="142" name="CasellaDiTesto 11"/>
          <p:cNvSpPr/>
          <p:nvPr/>
        </p:nvSpPr>
        <p:spPr>
          <a:xfrm>
            <a:off x="4564080" y="4930920"/>
            <a:ext cx="1870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LOGO CCI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Immagine 12" descr=""/>
          <p:cNvPicPr/>
          <p:nvPr/>
        </p:nvPicPr>
        <p:blipFill>
          <a:blip r:embed="rId6"/>
          <a:stretch/>
        </p:blipFill>
        <p:spPr>
          <a:xfrm>
            <a:off x="2530440" y="4941720"/>
            <a:ext cx="1500120" cy="3160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CasellaDiTesto 4"/>
          <p:cNvSpPr/>
          <p:nvPr/>
        </p:nvSpPr>
        <p:spPr>
          <a:xfrm>
            <a:off x="5143680" y="2357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a452a"/>
                </a:solidFill>
                <a:latin typeface="Arial Rounded MT Bold"/>
              </a:rPr>
              <a:t>Il primo am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a452a"/>
                </a:solidFill>
                <a:latin typeface="Arial Rounded MT Bold"/>
              </a:rPr>
              <a:t>non si scorda m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asellaDiTesto 1"/>
          <p:cNvSpPr/>
          <p:nvPr/>
        </p:nvSpPr>
        <p:spPr>
          <a:xfrm>
            <a:off x="571680" y="1357200"/>
            <a:ext cx="30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ttangolo 3"/>
          <p:cNvSpPr/>
          <p:nvPr/>
        </p:nvSpPr>
        <p:spPr>
          <a:xfrm>
            <a:off x="347760" y="5692680"/>
            <a:ext cx="2568600" cy="976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ttangolo 4"/>
          <p:cNvSpPr/>
          <p:nvPr/>
        </p:nvSpPr>
        <p:spPr>
          <a:xfrm>
            <a:off x="2916360" y="5692680"/>
            <a:ext cx="5903640" cy="954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CasellaDiTesto 14"/>
          <p:cNvSpPr/>
          <p:nvPr/>
        </p:nvSpPr>
        <p:spPr>
          <a:xfrm>
            <a:off x="2930400" y="5757840"/>
            <a:ext cx="280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Calibri"/>
              </a:rPr>
              <a:t>Il Programma «Latte nelle scuole» è finanziato dall’Unione Europea e realizzato dal Ministero delle politiche agricole alimentari e forestali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Calibri"/>
              </a:rPr>
              <a:t>in collaborazione con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Immagine 5" descr=""/>
          <p:cNvPicPr/>
          <p:nvPr/>
        </p:nvPicPr>
        <p:blipFill>
          <a:blip r:embed="rId1"/>
          <a:stretch/>
        </p:blipFill>
        <p:spPr>
          <a:xfrm>
            <a:off x="5715000" y="5929200"/>
            <a:ext cx="1428840" cy="300240"/>
          </a:xfrm>
          <a:prstGeom prst="rect">
            <a:avLst/>
          </a:prstGeom>
          <a:ln w="0">
            <a:noFill/>
          </a:ln>
        </p:spPr>
      </p:pic>
      <p:pic>
        <p:nvPicPr>
          <p:cNvPr id="188" name="Immagine 9" descr=""/>
          <p:cNvPicPr/>
          <p:nvPr/>
        </p:nvPicPr>
        <p:blipFill>
          <a:blip r:embed="rId2"/>
          <a:stretch/>
        </p:blipFill>
        <p:spPr>
          <a:xfrm>
            <a:off x="7262640" y="5786280"/>
            <a:ext cx="1500480" cy="412920"/>
          </a:xfrm>
          <a:prstGeom prst="rect">
            <a:avLst/>
          </a:prstGeom>
          <a:ln w="0">
            <a:noFill/>
          </a:ln>
        </p:spPr>
      </p:pic>
      <p:pic>
        <p:nvPicPr>
          <p:cNvPr id="189" name="Immagine 11" descr="C:\Users\utente\Desktop\logo.png"/>
          <p:cNvPicPr/>
          <p:nvPr/>
        </p:nvPicPr>
        <p:blipFill>
          <a:blip r:embed="rId3"/>
          <a:stretch/>
        </p:blipFill>
        <p:spPr>
          <a:xfrm>
            <a:off x="7259760" y="6229440"/>
            <a:ext cx="1503360" cy="417600"/>
          </a:xfrm>
          <a:prstGeom prst="rect">
            <a:avLst/>
          </a:prstGeom>
          <a:ln w="0">
            <a:noFill/>
          </a:ln>
        </p:spPr>
      </p:pic>
      <p:sp>
        <p:nvSpPr>
          <p:cNvPr id="190" name="CasellaDiTesto 1"/>
          <p:cNvSpPr/>
          <p:nvPr/>
        </p:nvSpPr>
        <p:spPr>
          <a:xfrm>
            <a:off x="428760" y="1143000"/>
            <a:ext cx="41734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Arial Rounded MT Bold"/>
                <a:ea typeface="Andalus"/>
              </a:rPr>
              <a:t>La Camera di Commercio di Napoli, con la sua Azienda Speciale SI Impresa, promuove in Campania il Programma nazionale «Latte nelle Scuole» con percorsi di corretta educazione alimentar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Arial Rounded MT Bold"/>
                <a:ea typeface="Andalus"/>
              </a:rPr>
              <a:t>Scuole, Famiglie, Istituzioni ed esperti sono invitati al Convegno  «Salute e benessere: si parte dal  latte» 22 maggio 2018 ore 10.00, in cui saranno presentati anche  i “Latte Days”, giornate di approfondimento con laboratori didattici e degustazioni guidate per gli alunni delle Scuole primari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ttangolo 1"/>
          <p:cNvSpPr/>
          <p:nvPr/>
        </p:nvSpPr>
        <p:spPr>
          <a:xfrm>
            <a:off x="398520" y="5730840"/>
            <a:ext cx="2467080" cy="9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  <a:ea typeface="Andalus"/>
              </a:rPr>
              <a:t>Convegno </a:t>
            </a:r>
            <a:r>
              <a:rPr b="1" lang="it-IT" sz="1100" spc="-1" strike="noStrike">
                <a:solidFill>
                  <a:srgbClr val="ffffff"/>
                </a:solidFill>
                <a:latin typeface="Calibri"/>
                <a:ea typeface="Andalus"/>
              </a:rPr>
              <a:t> «Salute e benessere: si parte dal  latte» 22 maggio 2018 ore 10,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Camera di Commercio di Napol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Piazza Bovio, 32 Napol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7T15:10:15Z</dcterms:created>
  <dc:creator>Patrizia Cacciari</dc:creator>
  <dc:description/>
  <dc:language>en-US</dc:language>
  <cp:lastModifiedBy>Gaviglia</cp:lastModifiedBy>
  <cp:lastPrinted>2018-05-15T13:23:32Z</cp:lastPrinted>
  <dcterms:modified xsi:type="dcterms:W3CDTF">2018-05-17T07:35:59Z</dcterms:modified>
  <cp:revision>38</cp:revision>
  <dc:subject/>
  <dc:title>Presentazione standard di PowerPoint</dc:title>
</cp:coreProperties>
</file>