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4B00-53A9-4966-95D1-06BAD388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5DEE-7EBC-4471-8D7A-DDEE191B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599C-E352-403E-8ABF-22B3D0A0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C308-6ED6-4035-8CD3-763A058E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29B1-07B5-43DB-8327-E5A1E8A0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4950-9169-4E2F-89EE-A843144D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D5C4-E73F-4E91-8947-7DA2986A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81BA-914C-42ED-9E19-79D0FF2B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168B-DA16-4191-82D1-C5B61C3C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C9B1-1CCD-4956-BC8B-B063C728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E569-7A2A-46A3-88D9-AD188F85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FCCC-6D6E-4DA6-AF7C-6C19194F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4B43-C98D-415B-A49E-365A237B984E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struzione.it/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3840" cy="17301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  <a:effectLst>
            <a:outerShdw dist="153753" dir="2700000" blurRad="0" rotWithShape="0">
              <a:srgbClr val="254061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baseline="6000">
                <a:solidFill>
                  <a:srgbClr val="17375e"/>
                </a:solidFill>
                <a:latin typeface="Comic Sans MS"/>
                <a:ea typeface="Arial"/>
              </a:rPr>
              <a:t>ESAMI DI STATO CONCLUSIVI DEI CORSI DI STUDIO D’ISTRUZIONE SECONDARIA DI II GR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i="1" lang="it-IT" sz="3200" spc="-1" strike="noStrike">
                <a:solidFill>
                  <a:srgbClr val="0070c0"/>
                </a:solidFill>
                <a:latin typeface="Calibri"/>
              </a:rPr>
              <a:t>a.s. 2011/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82036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 u="sng">
                <a:solidFill>
                  <a:srgbClr val="10253f"/>
                </a:solidFill>
                <a:uFillTx/>
                <a:latin typeface="Calibri"/>
              </a:rPr>
              <a:t>Esami di Stato – Passi per una corretta compilazio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Content Placeholder 2"/>
          <p:cNvSpPr/>
          <p:nvPr/>
        </p:nvSpPr>
        <p:spPr>
          <a:xfrm>
            <a:off x="468360" y="1197000"/>
            <a:ext cx="83516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Ricorda ora di selezionare il Comune di per la nomina di ufficio: quello d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Servizio </a:t>
            </a: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o </a:t>
            </a: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Residen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Infine, seleziona la tipologia di doman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Presidente o Commissario</a:t>
            </a: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Commiss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val 9"/>
          <p:cNvSpPr/>
          <p:nvPr/>
        </p:nvSpPr>
        <p:spPr>
          <a:xfrm>
            <a:off x="8244000" y="4221000"/>
            <a:ext cx="288720" cy="360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val 10"/>
          <p:cNvSpPr/>
          <p:nvPr/>
        </p:nvSpPr>
        <p:spPr>
          <a:xfrm>
            <a:off x="4932360" y="4221000"/>
            <a:ext cx="287280" cy="360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val 11"/>
          <p:cNvSpPr/>
          <p:nvPr/>
        </p:nvSpPr>
        <p:spPr>
          <a:xfrm>
            <a:off x="1979640" y="2276640"/>
            <a:ext cx="288720" cy="360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7885080" y="2276640"/>
            <a:ext cx="287280" cy="360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13"/>
          <p:cNvGrpSpPr/>
          <p:nvPr/>
        </p:nvGrpSpPr>
        <p:grpSpPr>
          <a:xfrm>
            <a:off x="179280" y="5805360"/>
            <a:ext cx="8713800" cy="963720"/>
            <a:chOff x="179280" y="5805360"/>
            <a:chExt cx="8713800" cy="963720"/>
          </a:xfrm>
        </p:grpSpPr>
        <p:pic>
          <p:nvPicPr>
            <p:cNvPr id="103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5949360"/>
              <a:ext cx="727992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3" descr=""/>
            <p:cNvPicPr/>
            <p:nvPr/>
          </p:nvPicPr>
          <p:blipFill>
            <a:blip r:embed="rId2"/>
            <a:stretch/>
          </p:blipFill>
          <p:spPr>
            <a:xfrm>
              <a:off x="7464600" y="5805360"/>
              <a:ext cx="1428480" cy="963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82036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 u="sng">
                <a:solidFill>
                  <a:srgbClr val="10253f"/>
                </a:solidFill>
                <a:uFillTx/>
                <a:latin typeface="Calibri"/>
              </a:rPr>
              <a:t>Esami di Stato – INOLTRO della domand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280" y="119700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it-IT" sz="3200" spc="-1" strike="noStrike">
                <a:solidFill>
                  <a:srgbClr val="c00000"/>
                </a:solidFill>
                <a:latin typeface="Calibri"/>
              </a:rPr>
              <a:t>ATTENZIONE</a:t>
            </a: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7375e"/>
                </a:solidFill>
                <a:latin typeface="Calibri"/>
              </a:rPr>
              <a:t>Se hai terminato e controllato tutti i dati inseriti, devi ora INOLTRARE la domanda selezionando il tasto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17375e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17375e"/>
                </a:solidFill>
                <a:latin typeface="Calibri"/>
              </a:rPr>
              <a:t>Ti verrà quindi chiesto il codice personale: digitalo nell’apposito campo e premi il tasto INOLT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Group 7"/>
          <p:cNvGrpSpPr/>
          <p:nvPr/>
        </p:nvGrpSpPr>
        <p:grpSpPr>
          <a:xfrm>
            <a:off x="179280" y="5805360"/>
            <a:ext cx="8713800" cy="963720"/>
            <a:chOff x="179280" y="5805360"/>
            <a:chExt cx="8713800" cy="963720"/>
          </a:xfrm>
        </p:grpSpPr>
        <p:pic>
          <p:nvPicPr>
            <p:cNvPr id="108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5949360"/>
              <a:ext cx="727992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3" descr=""/>
            <p:cNvPicPr/>
            <p:nvPr/>
          </p:nvPicPr>
          <p:blipFill>
            <a:blip r:embed="rId2"/>
            <a:stretch/>
          </p:blipFill>
          <p:spPr>
            <a:xfrm>
              <a:off x="7464600" y="5805360"/>
              <a:ext cx="1428480" cy="96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TextBox 10"/>
          <p:cNvGrpSpPr/>
          <p:nvPr/>
        </p:nvGrpSpPr>
        <p:grpSpPr>
          <a:xfrm>
            <a:off x="4121280" y="3548160"/>
            <a:ext cx="1541160" cy="395280"/>
            <a:chOff x="4121280" y="3548160"/>
            <a:chExt cx="1541160" cy="395280"/>
          </a:xfrm>
        </p:grpSpPr>
        <p:pic>
          <p:nvPicPr>
            <p:cNvPr id="111" name="TextBox 10" descr=""/>
            <p:cNvPicPr/>
            <p:nvPr/>
          </p:nvPicPr>
          <p:blipFill>
            <a:blip r:embed="rId3"/>
            <a:stretch/>
          </p:blipFill>
          <p:spPr>
            <a:xfrm>
              <a:off x="4121280" y="3548160"/>
              <a:ext cx="15411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140360" y="356400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       </a:t>
              </a: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Inoltr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 u="sng">
                <a:solidFill>
                  <a:srgbClr val="10253f"/>
                </a:solidFill>
                <a:uFillTx/>
                <a:latin typeface="Calibri"/>
              </a:rPr>
              <a:t>Esami di Stato – Guida alla compilaz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179280" y="5805360"/>
            <a:ext cx="8713800" cy="963720"/>
            <a:chOff x="179280" y="5805360"/>
            <a:chExt cx="8713800" cy="963720"/>
          </a:xfrm>
        </p:grpSpPr>
        <p:pic>
          <p:nvPicPr>
            <p:cNvPr id="115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5949360"/>
              <a:ext cx="727992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3" descr=""/>
            <p:cNvPicPr/>
            <p:nvPr/>
          </p:nvPicPr>
          <p:blipFill>
            <a:blip r:embed="rId2"/>
            <a:stretch/>
          </p:blipFill>
          <p:spPr>
            <a:xfrm>
              <a:off x="7464600" y="5805360"/>
              <a:ext cx="1428480" cy="96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Per ulteriori dettagli ti raccomandiamo di leggere attentamente la Guida Operativa disponibile alla voce Istruzioni per la Compilaz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3"/>
          <a:stretch/>
        </p:blipFill>
        <p:spPr>
          <a:xfrm>
            <a:off x="1042920" y="3730680"/>
            <a:ext cx="70660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 u="sng">
                <a:solidFill>
                  <a:srgbClr val="10253f"/>
                </a:solidFill>
                <a:uFillTx/>
                <a:latin typeface="Calibri"/>
              </a:rPr>
              <a:t>Esami di Stato – Circolare e tempis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599840"/>
            <a:ext cx="821844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Circolare Ministeriale n. 15 del 31.01.20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Nell’allegato 5  si fa riferimento all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presentazione delle schede di partecipazio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(Modello ES-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179280" y="5805360"/>
            <a:ext cx="8713800" cy="963720"/>
            <a:chOff x="179280" y="5805360"/>
            <a:chExt cx="8713800" cy="963720"/>
          </a:xfrm>
        </p:grpSpPr>
        <p:pic>
          <p:nvPicPr>
            <p:cNvPr id="46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5949360"/>
              <a:ext cx="727992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3" descr=""/>
            <p:cNvPicPr/>
            <p:nvPr/>
          </p:nvPicPr>
          <p:blipFill>
            <a:blip r:embed="rId2"/>
            <a:stretch/>
          </p:blipFill>
          <p:spPr>
            <a:xfrm>
              <a:off x="7464600" y="5805360"/>
              <a:ext cx="1428480" cy="96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TextBox 9"/>
          <p:cNvSpPr/>
          <p:nvPr/>
        </p:nvSpPr>
        <p:spPr>
          <a:xfrm>
            <a:off x="758880" y="4851360"/>
            <a:ext cx="75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953735"/>
                </a:solidFill>
                <a:latin typeface="Calibri"/>
              </a:rPr>
              <a:t>Dal 15/02/2012  al   09/03/2012 ore 18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 u="sng">
                <a:solidFill>
                  <a:srgbClr val="10253f"/>
                </a:solidFill>
                <a:uFillTx/>
                <a:latin typeface="Calibri"/>
              </a:rPr>
              <a:t>Esami di Stato – POLIS “Istanze On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Dal Sito </a:t>
            </a:r>
            <a:r>
              <a:rPr b="0" lang="it-IT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istruzione.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Entra nella sezione Istruz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Selezi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Digita le credenziali per l’access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2987640" y="2781360"/>
            <a:ext cx="2683080" cy="93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6443640" y="3075120"/>
            <a:ext cx="2340000" cy="2298600"/>
          </a:xfrm>
          <a:prstGeom prst="rect">
            <a:avLst/>
          </a:prstGeom>
          <a:ln w="9360">
            <a:solidFill>
              <a:srgbClr val="4f81bd">
                <a:alpha val="73000"/>
              </a:srgbClr>
            </a:solidFill>
            <a:miter/>
          </a:ln>
          <a:effectLst>
            <a:outerShdw dist="50765" dir="21551241" blurRad="0" rotWithShape="0">
              <a:srgbClr val="1f497d"/>
            </a:outerShdw>
          </a:effectLst>
        </p:spPr>
      </p:pic>
      <p:grpSp>
        <p:nvGrpSpPr>
          <p:cNvPr id="53" name="Group 8"/>
          <p:cNvGrpSpPr/>
          <p:nvPr/>
        </p:nvGrpSpPr>
        <p:grpSpPr>
          <a:xfrm>
            <a:off x="179280" y="5805360"/>
            <a:ext cx="8713800" cy="963720"/>
            <a:chOff x="179280" y="5805360"/>
            <a:chExt cx="8713800" cy="963720"/>
          </a:xfrm>
        </p:grpSpPr>
        <p:pic>
          <p:nvPicPr>
            <p:cNvPr id="54" name="Picture 2" descr=""/>
            <p:cNvPicPr/>
            <p:nvPr/>
          </p:nvPicPr>
          <p:blipFill>
            <a:blip r:embed="rId4"/>
            <a:stretch/>
          </p:blipFill>
          <p:spPr>
            <a:xfrm>
              <a:off x="179280" y="5949360"/>
              <a:ext cx="727992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3" descr=""/>
            <p:cNvPicPr/>
            <p:nvPr/>
          </p:nvPicPr>
          <p:blipFill>
            <a:blip r:embed="rId5"/>
            <a:stretch/>
          </p:blipFill>
          <p:spPr>
            <a:xfrm>
              <a:off x="7464600" y="5805360"/>
              <a:ext cx="1428480" cy="963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 u="sng">
                <a:solidFill>
                  <a:srgbClr val="10253f"/>
                </a:solidFill>
                <a:uFillTx/>
                <a:latin typeface="Calibri"/>
              </a:rPr>
              <a:t>Esami di Stato – POLIS “Istanze On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Verranno visualizzate le Istanze al momento attive: seleziona quella relativa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Esami di Stato – Modello ES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12720" y="3429000"/>
            <a:ext cx="7920000" cy="1763640"/>
          </a:xfrm>
          <a:prstGeom prst="rect">
            <a:avLst/>
          </a:prstGeom>
          <a:ln w="9360">
            <a:solidFill>
              <a:srgbClr val="4f81bd"/>
            </a:solidFill>
            <a:miter/>
          </a:ln>
          <a:effectLst>
            <a:outerShdw dist="50887" dir="21356596" blurRad="0" rotWithShape="0">
              <a:srgbClr val="1f497d"/>
            </a:outerShdw>
          </a:effectLst>
        </p:spPr>
      </p:pic>
      <p:grpSp>
        <p:nvGrpSpPr>
          <p:cNvPr id="59" name="Group 7"/>
          <p:cNvGrpSpPr/>
          <p:nvPr/>
        </p:nvGrpSpPr>
        <p:grpSpPr>
          <a:xfrm>
            <a:off x="179280" y="5805360"/>
            <a:ext cx="8713800" cy="963720"/>
            <a:chOff x="179280" y="5805360"/>
            <a:chExt cx="8713800" cy="963720"/>
          </a:xfrm>
        </p:grpSpPr>
        <p:pic>
          <p:nvPicPr>
            <p:cNvPr id="60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5949360"/>
              <a:ext cx="727992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3" descr=""/>
            <p:cNvPicPr/>
            <p:nvPr/>
          </p:nvPicPr>
          <p:blipFill>
            <a:blip r:embed="rId3"/>
            <a:stretch/>
          </p:blipFill>
          <p:spPr>
            <a:xfrm>
              <a:off x="7464600" y="5805360"/>
              <a:ext cx="1428480" cy="963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24000" y="1268280"/>
            <a:ext cx="8496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Una volta iniziata la compilazione, devi indic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La Provincia destinataria della domanda che sarà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7375e"/>
                </a:solidFill>
                <a:latin typeface="Calibri"/>
              </a:rPr>
              <a:t>di servizio se sei in servizio nell’anno scolastico in cor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7375e"/>
                </a:solidFill>
                <a:latin typeface="Calibri"/>
              </a:rPr>
              <a:t>Di residenza se non sei in servizio nell’anno scolastico in cor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000" y="-27360"/>
            <a:ext cx="88916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 u="sng">
                <a:solidFill>
                  <a:srgbClr val="10253f"/>
                </a:solidFill>
                <a:uFillTx/>
                <a:latin typeface="Calibri"/>
              </a:rPr>
              <a:t>Esami di Stato – Passi per una corretta compilazi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oup 6"/>
          <p:cNvGrpSpPr/>
          <p:nvPr/>
        </p:nvGrpSpPr>
        <p:grpSpPr>
          <a:xfrm>
            <a:off x="179280" y="5805360"/>
            <a:ext cx="8713800" cy="963720"/>
            <a:chOff x="179280" y="5805360"/>
            <a:chExt cx="8713800" cy="963720"/>
          </a:xfrm>
        </p:grpSpPr>
        <p:pic>
          <p:nvPicPr>
            <p:cNvPr id="65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5949360"/>
              <a:ext cx="727992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3" descr=""/>
            <p:cNvPicPr/>
            <p:nvPr/>
          </p:nvPicPr>
          <p:blipFill>
            <a:blip r:embed="rId2"/>
            <a:stretch/>
          </p:blipFill>
          <p:spPr>
            <a:xfrm>
              <a:off x="7464600" y="5805360"/>
              <a:ext cx="1428480" cy="963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82036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 u="sng">
                <a:solidFill>
                  <a:srgbClr val="10253f"/>
                </a:solidFill>
                <a:uFillTx/>
                <a:latin typeface="Calibri"/>
              </a:rPr>
              <a:t>Esami di Stato – Passi per una corretta compilazio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197000"/>
            <a:ext cx="9144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2. Sezione dati Anagrafici e di Recap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7375e"/>
                </a:solidFill>
                <a:latin typeface="Calibri"/>
              </a:rPr>
              <a:t>I dati anagrafici sono quelli presenti sul Fascicolo Elettronico presente sul Sistema Informativo Dell’Istruzione (SID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7375e"/>
                </a:solidFill>
                <a:latin typeface="Calibri"/>
              </a:rPr>
              <a:t>I dati di recapito sono quelli forniti dall’utente all’atto della registrazione a POL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ctr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c00000"/>
                </a:solidFill>
                <a:uFillTx/>
                <a:latin typeface="Calibri"/>
              </a:rPr>
              <a:t>I DATI IN QUESTA SEZIONE NON SONO IVI MODIFICABI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 algn="ctr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17375e"/>
                </a:solidFill>
                <a:latin typeface="Calibri"/>
              </a:rPr>
              <a:t>Per correggerli devi rivolgerti alla scuola (dati Fascicolo), aggiornarli in POLIS (per i secondi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 6"/>
          <p:cNvGrpSpPr/>
          <p:nvPr/>
        </p:nvGrpSpPr>
        <p:grpSpPr>
          <a:xfrm>
            <a:off x="179280" y="5805360"/>
            <a:ext cx="8713800" cy="963720"/>
            <a:chOff x="179280" y="5805360"/>
            <a:chExt cx="8713800" cy="963720"/>
          </a:xfrm>
        </p:grpSpPr>
        <p:pic>
          <p:nvPicPr>
            <p:cNvPr id="70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5949360"/>
              <a:ext cx="727992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3" descr=""/>
            <p:cNvPicPr/>
            <p:nvPr/>
          </p:nvPicPr>
          <p:blipFill>
            <a:blip r:embed="rId2"/>
            <a:stretch/>
          </p:blipFill>
          <p:spPr>
            <a:xfrm>
              <a:off x="7464600" y="5805360"/>
              <a:ext cx="1428480" cy="963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82036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 u="sng">
                <a:solidFill>
                  <a:srgbClr val="10253f"/>
                </a:solidFill>
                <a:uFillTx/>
                <a:latin typeface="Calibri"/>
              </a:rPr>
              <a:t>Esami di Stato – Passi per una corretta compilazio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39640" y="1196640"/>
            <a:ext cx="8353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3. Stato Giurid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it-IT" sz="2800" spc="-1" strike="noStrike">
                <a:solidFill>
                  <a:srgbClr val="17375e"/>
                </a:solidFill>
                <a:latin typeface="Calibri"/>
              </a:rPr>
              <a:t>Scegli il corretto Stato Giuridico tra quelli proposti in elenco a partire dai dati del ruolo presenti sul tuo Fascicolo Elettronico del Sistema Informativo Dell’Istruzione (SID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826920" y="4292640"/>
            <a:ext cx="7817040" cy="57636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10"/>
          <p:cNvGrpSpPr/>
          <p:nvPr/>
        </p:nvGrpSpPr>
        <p:grpSpPr>
          <a:xfrm>
            <a:off x="179280" y="5805360"/>
            <a:ext cx="8713800" cy="963720"/>
            <a:chOff x="179280" y="5805360"/>
            <a:chExt cx="8713800" cy="963720"/>
          </a:xfrm>
        </p:grpSpPr>
        <p:pic>
          <p:nvPicPr>
            <p:cNvPr id="76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5949360"/>
              <a:ext cx="727992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3" descr=""/>
            <p:cNvPicPr/>
            <p:nvPr/>
          </p:nvPicPr>
          <p:blipFill>
            <a:blip r:embed="rId3"/>
            <a:stretch/>
          </p:blipFill>
          <p:spPr>
            <a:xfrm>
              <a:off x="7464600" y="5805360"/>
              <a:ext cx="1428480" cy="963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82036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 u="sng">
                <a:solidFill>
                  <a:srgbClr val="10253f"/>
                </a:solidFill>
                <a:uFillTx/>
                <a:latin typeface="Calibri"/>
              </a:rPr>
              <a:t>Esami di Stato – Passi per una corretta compilazio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9280" y="119700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it-IT" sz="3200" spc="-1" strike="noStrike">
                <a:solidFill>
                  <a:srgbClr val="17375e"/>
                </a:solidFill>
                <a:latin typeface="Calibri"/>
              </a:rPr>
              <a:t>4. Dati del Serviz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it-IT" sz="2300" spc="-1" strike="noStrike">
                <a:solidFill>
                  <a:srgbClr val="17375e"/>
                </a:solidFill>
                <a:latin typeface="Calibri"/>
              </a:rPr>
              <a:t>Inserisci i tuoi dati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575"/>
              </a:spcBef>
              <a:buClr>
                <a:srgbClr val="17375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17375e"/>
                </a:solidFill>
                <a:latin typeface="Calibri"/>
              </a:rPr>
              <a:t>Materia di Insegnamento (facoltativa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575"/>
              </a:spcBef>
              <a:buClr>
                <a:srgbClr val="17375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17375e"/>
                </a:solidFill>
                <a:latin typeface="Calibri"/>
              </a:rPr>
              <a:t>Se insegni in classi terminali la materia di nomin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575"/>
              </a:spcBef>
              <a:buClr>
                <a:srgbClr val="17375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17375e"/>
                </a:solidFill>
                <a:latin typeface="Calibri"/>
              </a:rPr>
              <a:t>Il possesso dell’abilitazion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575"/>
              </a:spcBef>
              <a:buClr>
                <a:srgbClr val="17375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17375e"/>
                </a:solidFill>
                <a:latin typeface="Calibri"/>
              </a:rPr>
              <a:t>Il possesso della laurea quadriennale o specialistic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575"/>
              </a:spcBef>
              <a:buClr>
                <a:srgbClr val="17375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17375e"/>
                </a:solidFill>
                <a:latin typeface="Calibri"/>
              </a:rPr>
              <a:t>Tutti gli altri dati sono modificabili: attenzione, quelli contrassegnati da asterisco (*) sono OBBLIGATORI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5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179280" y="5805360"/>
            <a:ext cx="8713800" cy="963720"/>
            <a:chOff x="179280" y="5805360"/>
            <a:chExt cx="8713800" cy="963720"/>
          </a:xfrm>
        </p:grpSpPr>
        <p:pic>
          <p:nvPicPr>
            <p:cNvPr id="81" name="Picture 2" descr=""/>
            <p:cNvPicPr/>
            <p:nvPr/>
          </p:nvPicPr>
          <p:blipFill>
            <a:blip r:embed="rId1"/>
            <a:stretch/>
          </p:blipFill>
          <p:spPr>
            <a:xfrm>
              <a:off x="179280" y="5949360"/>
              <a:ext cx="727992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3" descr=""/>
            <p:cNvPicPr/>
            <p:nvPr/>
          </p:nvPicPr>
          <p:blipFill>
            <a:blip r:embed="rId2"/>
            <a:stretch/>
          </p:blipFill>
          <p:spPr>
            <a:xfrm>
              <a:off x="7464600" y="5805360"/>
              <a:ext cx="1428480" cy="963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Content Placeholder 2"/>
          <p:cNvGrpSpPr/>
          <p:nvPr/>
        </p:nvGrpSpPr>
        <p:grpSpPr>
          <a:xfrm>
            <a:off x="523800" y="1176480"/>
            <a:ext cx="8382240" cy="4352760"/>
            <a:chOff x="523800" y="1176480"/>
            <a:chExt cx="8382240" cy="4352760"/>
          </a:xfrm>
        </p:grpSpPr>
        <p:pic>
          <p:nvPicPr>
            <p:cNvPr id="84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523800" y="1176480"/>
              <a:ext cx="8382240" cy="43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39640" y="1197000"/>
              <a:ext cx="8353440" cy="43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14440" indent="-51444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17375e"/>
                  </a:solidFill>
                  <a:latin typeface="Calibri"/>
                </a:rPr>
                <a:t>Sedi di Preferenza: seleziona la provincia nella regione di servizio/residenza e poi premi il tasto  </a:t>
              </a:r>
              <a:r>
                <a:rPr b="0" lang="it-IT" sz="3200" spc="-1" strike="noStrike">
                  <a:solidFill>
                    <a:srgbClr val="17375e"/>
                  </a:solidFill>
                  <a:latin typeface="Calibri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200" spc="-1" strike="noStrike">
                  <a:solidFill>
                    <a:srgbClr val="17375e"/>
                  </a:solidFill>
                  <a:latin typeface="Calibri"/>
                </a:rPr>
                <a:t>Ti verranno elencate le unità territoriali: seleziona le sedi desiderate e poi premi il tasto  </a:t>
              </a:r>
              <a:r>
                <a:rPr b="0" lang="it-IT" sz="3200" spc="-1" strike="noStrike">
                  <a:solidFill>
                    <a:srgbClr val="17375e"/>
                  </a:solidFill>
                  <a:latin typeface="Calibri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914400" indent="-514440">
                <a:lnSpc>
                  <a:spcPct val="100000"/>
                </a:lnSpc>
                <a:spcBef>
                  <a:spcPts val="700"/>
                </a:spcBef>
                <a:buClr>
                  <a:srgbClr val="17375e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914400" indent="-51444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274680"/>
            <a:ext cx="882036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 u="sng">
                <a:solidFill>
                  <a:srgbClr val="10253f"/>
                </a:solidFill>
                <a:uFillTx/>
                <a:latin typeface="Calibri"/>
              </a:rPr>
              <a:t>Esami di Stato – Passi per una corretta compilazio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Group 9"/>
          <p:cNvGrpSpPr/>
          <p:nvPr/>
        </p:nvGrpSpPr>
        <p:grpSpPr>
          <a:xfrm>
            <a:off x="179280" y="5805360"/>
            <a:ext cx="8713800" cy="963720"/>
            <a:chOff x="179280" y="5805360"/>
            <a:chExt cx="8713800" cy="963720"/>
          </a:xfrm>
        </p:grpSpPr>
        <p:pic>
          <p:nvPicPr>
            <p:cNvPr id="88" name="Picture 2" descr=""/>
            <p:cNvPicPr/>
            <p:nvPr/>
          </p:nvPicPr>
          <p:blipFill>
            <a:blip r:embed="rId2"/>
            <a:stretch/>
          </p:blipFill>
          <p:spPr>
            <a:xfrm>
              <a:off x="179280" y="5949360"/>
              <a:ext cx="727992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3" descr=""/>
            <p:cNvPicPr/>
            <p:nvPr/>
          </p:nvPicPr>
          <p:blipFill>
            <a:blip r:embed="rId3"/>
            <a:stretch/>
          </p:blipFill>
          <p:spPr>
            <a:xfrm>
              <a:off x="7464600" y="5805360"/>
              <a:ext cx="1428480" cy="96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TextBox 12"/>
          <p:cNvGrpSpPr/>
          <p:nvPr/>
        </p:nvGrpSpPr>
        <p:grpSpPr>
          <a:xfrm>
            <a:off x="2176560" y="2322360"/>
            <a:ext cx="1109520" cy="397080"/>
            <a:chOff x="2176560" y="2322360"/>
            <a:chExt cx="1109520" cy="397080"/>
          </a:xfrm>
        </p:grpSpPr>
        <p:pic>
          <p:nvPicPr>
            <p:cNvPr id="91" name="TextBox 12" descr=""/>
            <p:cNvPicPr/>
            <p:nvPr/>
          </p:nvPicPr>
          <p:blipFill>
            <a:blip r:embed="rId4"/>
            <a:stretch/>
          </p:blipFill>
          <p:spPr>
            <a:xfrm>
              <a:off x="2176560" y="2322360"/>
              <a:ext cx="110952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195640" y="234000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Inserisc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TextBox 14"/>
          <p:cNvGrpSpPr/>
          <p:nvPr/>
        </p:nvGrpSpPr>
        <p:grpSpPr>
          <a:xfrm>
            <a:off x="2176560" y="4419720"/>
            <a:ext cx="1109520" cy="396720"/>
            <a:chOff x="2176560" y="4419720"/>
            <a:chExt cx="1109520" cy="396720"/>
          </a:xfrm>
        </p:grpSpPr>
        <p:pic>
          <p:nvPicPr>
            <p:cNvPr id="94" name="TextBox 14" descr=""/>
            <p:cNvPicPr/>
            <p:nvPr/>
          </p:nvPicPr>
          <p:blipFill>
            <a:blip r:embed="rId5"/>
            <a:stretch/>
          </p:blipFill>
          <p:spPr>
            <a:xfrm>
              <a:off x="2176560" y="4419720"/>
              <a:ext cx="110952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195640" y="443700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it-IT" sz="1800" spc="-1" strike="noStrike">
                  <a:solidFill>
                    <a:srgbClr val="000000"/>
                  </a:solidFill>
                  <a:latin typeface="Calibri"/>
                </a:rPr>
                <a:t>Avanti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4:07:41Z</dcterms:created>
  <dc:creator>Russo, Clelia</dc:creator>
  <dc:description/>
  <dc:language>en-US</dc:language>
  <cp:lastModifiedBy>Russo, Clelia</cp:lastModifiedBy>
  <dcterms:modified xsi:type="dcterms:W3CDTF">2012-02-13T17:39:25Z</dcterms:modified>
  <cp:revision>54</cp:revision>
  <dc:subject/>
  <dc:title>Esami di Stato conclusivi dei corsi di studio d’Istruzione secondaria di II grado</dc:title>
</cp:coreProperties>
</file>