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028E-A5E9-46C2-A4C3-C5F9C2F49D7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868C-C722-410F-8FFB-6364F3EE8E8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7199E427-CDF9-4F72-BEBD-198FA988D7DF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FB729B7D-156E-486E-9D58-BCDCE67378AC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96D4E9BE-C665-46D8-A580-BD42B45DB0FF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6808C252-EE00-4FAD-901A-03EA390BEA10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DB575FFB-6A3E-40A0-BEFD-D15F2E91F232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4331738B-8F5B-4D1D-BCD6-A1850AED7855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22F8147F-9C88-4C5A-9B63-50C47E075E48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9AF45840-FF78-4986-80FC-E0C841487304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7B09CB2F-D275-48BD-ACFC-684235B2C5BC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834E42DE-2021-4053-A776-C9D66BFC0502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EC3F783B-88FD-429D-A317-26CD619C29BA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B8D1B107-78C9-4C1B-B5F4-9F6BE483E43A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7EECD606-2C3D-43C6-8219-F0FCF3DD8C98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67F3667F-F524-4238-85A4-A0F47A17E61B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A3ED-AC26-48D4-AC4E-E9C66565D89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B9F4-7EEC-4E46-8AB1-0774626488F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19F1-B1E0-492A-BA73-323295569BF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584E-E15C-4BD2-878D-480ADC9AC56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BCFA-6671-451F-9B9F-71FCEF7463F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C532-E624-4E19-A9BC-9965E88F4B2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391063F1-0BC1-4B10-B70F-019472BBA81B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63C71898-9C9C-45CC-B904-C05C69625ED2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ED2C7EA1-973A-4CAB-84BD-C12FDACFD32D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3097E803-5A11-44C1-AB1E-BEE5CF38012A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3F3D-CEAA-4C26-ACBD-3CD7A802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C186-52C1-4B62-876B-C5900BDB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CE0E-BB7B-48BE-BD91-0E2B4833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80EE-EEDD-4CBF-8DD3-5A2A65CC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452F-DB77-4DE9-BAAC-8FBF664A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C4B2-D804-4F7A-BC53-8640FD1F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EE17-D146-41DA-94B8-228E3872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5DD6-36B7-471D-9CDF-4C6B7AB3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E562-EA5E-4EE3-88B0-2128A34C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B7F0-4EC4-450E-BD1D-A6CA0EE7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E49D-C4DB-4924-9B28-DA44B4D6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5AAF-1C01-4DE1-BAE2-0336EBE9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74BC-40B3-435A-9E20-2A7AB73023B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valsi.it/snv0910/restituzione/export_excel_V.php?code=RMIC80300B&amp;CC=412044720501&amp;anno=V" TargetMode="External"/><Relationship Id="rId3" Type="http://schemas.openxmlformats.org/officeDocument/2006/relationships/hyperlink" Target="http://www.invalsi.it/snv0910/restituzione/4_restituzione_V.php?code=RMIC80300B&amp;CC=412044720501&amp;anno=V&amp;genera=globale&amp;upd=upd" TargetMode="External"/><Relationship Id="rId4" Type="http://schemas.openxmlformats.org/officeDocument/2006/relationships/hyperlink" Target="http://www.invalsi.it/snv0910/restituzione/export_excel_V.php?code=RMIC80300B&amp;CC=412044720501&amp;anno=V" TargetMode="External"/><Relationship Id="rId5" Type="http://schemas.openxmlformats.org/officeDocument/2006/relationships/hyperlink" Target="http://www.invalsi.it/snv0910/restituzione/4_restituzione_V.php?code=RMIC80300B&amp;CC=412044720503&amp;anno=V&amp;genera=globale&amp;upd=upd" TargetMode="External"/><Relationship Id="rId6" Type="http://schemas.openxmlformats.org/officeDocument/2006/relationships/hyperlink" Target="http://www.invalsi.it/snv1011/scadenzario/index.php" TargetMode="External"/><Relationship Id="rId7" Type="http://schemas.openxmlformats.org/officeDocument/2006/relationships/hyperlink" Target="http://www.invalsi.it/" TargetMode="External"/><Relationship Id="rId8" Type="http://schemas.openxmlformats.org/officeDocument/2006/relationships/hyperlink" Target="http://www.invalsi.it/" TargetMode="External"/><Relationship Id="rId9" Type="http://schemas.openxmlformats.org/officeDocument/2006/relationships/hyperlink" Target="http://www.invalsi.it/snv0910/restituzione/4_restituzione_V.php?code=RMIC80300B&amp;CC=412044720501&amp;anno=V&amp;genera=globale&amp;upd=upd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Scadenzario%20Servizio%20Nazionale%20di%20Valutazione%202010.doc" TargetMode="External"/><Relationship Id="rId3" Type="http://schemas.openxmlformats.org/officeDocument/2006/relationships/hyperlink" Target="http://www.invalsi.it/snv1011/scadenziario/index.php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Scadenzario%20Servizio%20Nazionale%20di%20Valutazione%202010.doc" TargetMode="External"/><Relationship Id="rId2" Type="http://schemas.openxmlformats.org/officeDocument/2006/relationships/hyperlink" Target="file:///Scadenzario%20Servizio%20Nazionale%20di%20Valutazione%202010.doc" TargetMode="External"/><Relationship Id="rId3" Type="http://schemas.openxmlformats.org/officeDocument/2006/relationships/hyperlink" Target="file:///Tipologie%20delle%20prove%20per%20le%20classi%20seconde%20delle.doc" TargetMode="External"/><Relationship Id="rId4" Type="http://schemas.openxmlformats.org/officeDocument/2006/relationships/hyperlink" Target="http://www.invalsi.it/snv1011/" TargetMode="External"/><Relationship Id="rId5" Type="http://schemas.openxmlformats.org/officeDocument/2006/relationships/hyperlink" Target="file:///STRUMENTI%20CONSENTITI%20PER%20LO%20SVOLGIMENTO.doc" TargetMode="External"/><Relationship Id="rId6" Type="http://schemas.openxmlformats.org/officeDocument/2006/relationships/hyperlink" Target="file:///tempi_prove.doc" TargetMode="External"/><Relationship Id="rId7" Type="http://schemas.openxmlformats.org/officeDocument/2006/relationships/hyperlink" Target="file:///organizzazione%20somministrazione%20prove%20SNV.doc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Scadenzario%20Servizio%20Nazionale%20di%20Valutazione%202010.doc" TargetMode="External"/><Relationship Id="rId2" Type="http://schemas.openxmlformats.org/officeDocument/2006/relationships/hyperlink" Target="http://www.invalsi.it/snv1011/scadenziario/index.php" TargetMode="External"/><Relationship Id="rId3" Type="http://schemas.openxmlformats.org/officeDocument/2006/relationships/hyperlink" Target="http://www.invalsi.it/snv1011/scadenziario/index.php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Scadenzario%20Servizio%20Nazionale%20di%20Valutazione%202010.doc" TargetMode="External"/><Relationship Id="rId3" Type="http://schemas.openxmlformats.org/officeDocument/2006/relationships/hyperlink" Target="http://www.invalsi.it/snv1011/scadenziario/index.php" TargetMode="External"/><Relationship Id="rId4" Type="http://schemas.openxmlformats.org/officeDocument/2006/relationships/hyperlink" Target="file:///Scadenzario%20Servizio%20Nazionale%20di%20Valutazione%202010.doc" TargetMode="External"/><Relationship Id="rId5" Type="http://schemas.openxmlformats.org/officeDocument/2006/relationships/hyperlink" Target="http://www.invalsi.it/snv1011/scadenziario/index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Scadenzario%20Servizio%20Nazionale%20di%20Valutazione%202010.doc" TargetMode="External"/><Relationship Id="rId3" Type="http://schemas.openxmlformats.org/officeDocument/2006/relationships/hyperlink" Target="http://www.invalsi.it/snv1011/scadenziario/index.php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1071720" y="2786040"/>
            <a:ext cx="7129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Book Antiqua"/>
              </a:rPr>
              <a:t>La somministrazio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Book Antiqua"/>
              </a:rPr>
              <a:t>delle pro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 - 14 aprile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B25C-7481-40A7-B5E7-2DA52333E0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826920" y="26028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Book Antiqua"/>
              </a:rPr>
              <a:t>La restituzione dei risultati gene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127" name="CasellaDiTesto 11"/>
          <p:cNvSpPr/>
          <p:nvPr/>
        </p:nvSpPr>
        <p:spPr>
          <a:xfrm>
            <a:off x="1285920" y="3357720"/>
            <a:ext cx="720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buClr>
                <a:srgbClr val="006699"/>
              </a:buClr>
              <a:buFont typeface="Arial"/>
              <a:buChar char="►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Report nazionale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con analisi dei risultati sia a livello di prova che di singola dom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6699"/>
              </a:buClr>
              <a:buFont typeface="Arial"/>
              <a:buChar char="►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Report regionali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con analisi dei risultati sia a livello di prova che di singola dom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6699"/>
              </a:buClr>
              <a:buFont typeface="Arial"/>
              <a:buChar char="►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Approfondimenti specifici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(anche sulla base di richieste ed indicazioni del mondo della scuo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714240" y="158436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Sulla base dei dati delle classi campione l’INVALSI restituisce i seguenti rappor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 - 14 aprile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3C41-9600-4C39-8209-FC3ABD34B4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826920" y="26028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Book Antiqua"/>
              </a:rPr>
              <a:t>La restituzione dei risultati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136" name="CasellaDiTesto 11"/>
          <p:cNvSpPr/>
          <p:nvPr/>
        </p:nvSpPr>
        <p:spPr>
          <a:xfrm>
            <a:off x="1143000" y="3143160"/>
            <a:ext cx="720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buClr>
                <a:srgbClr val="006699"/>
              </a:buClr>
              <a:buFont typeface="Arial"/>
              <a:buChar char="►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Comparazioni con gli esiti del Paese o della regione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: confronto degli esiti di classe e di scuola con quelli dell’intero Paese o della regione di apparten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6699"/>
              </a:buClr>
              <a:buFont typeface="Arial"/>
              <a:buChar char="►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Comparazioni interne alla scuola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: confronto degli esiti conseguiti da ciascuna classe con l’obiettivo di promuovere azioni di consolidamento e miglior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6699"/>
              </a:buClr>
              <a:buFont typeface="Arial"/>
              <a:buChar char="►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Confronti rispetto ai contenuti delle prove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: analisi dei risultati di classe e di scuola su contenuti specifici delle pr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714240" y="1071720"/>
            <a:ext cx="8001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A partire dalle prime settimane dell’anno scolastico successivo a quello della rilevazione (ottobre), l’INVALSI restituisce a ogni scuola in forma </a:t>
            </a:r>
            <a:r>
              <a:rPr b="1" lang="it-IT" sz="2000" spc="-1" strike="noStrike" u="sng">
                <a:solidFill>
                  <a:srgbClr val="006699"/>
                </a:solidFill>
                <a:uFillTx/>
                <a:latin typeface="Book Antiqua"/>
              </a:rPr>
              <a:t>ESCLUSIVA</a:t>
            </a: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 e </a:t>
            </a:r>
            <a:r>
              <a:rPr b="1" lang="it-IT" sz="2000" spc="-1" strike="noStrike" u="sng">
                <a:solidFill>
                  <a:srgbClr val="006699"/>
                </a:solidFill>
                <a:uFillTx/>
                <a:latin typeface="Book Antiqua"/>
              </a:rPr>
              <a:t>RISERVATA</a:t>
            </a: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 gli esiti degli allievi della scuola che hanno sostenuto le prove SNV. I dati di scuola consentono a ciascuna Istituzione scolastica di effettu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 - 14 aprile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7A45-8788-4EC2-811C-C1017CDAF9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755640" y="4046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Book Antiqua"/>
              </a:rPr>
              <a:t>I dati di scuola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908000" y="1628640"/>
          <a:ext cx="5685120" cy="1508400"/>
        </p:xfrm>
        <a:graphic>
          <a:graphicData uri="http://schemas.openxmlformats.org/drawingml/2006/table">
            <a:tbl>
              <a:tblPr/>
              <a:tblGrid>
                <a:gridCol w="5685120"/>
              </a:tblGrid>
              <a:tr h="150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ituto scolastico: XXIC803XXX </a:t>
                      </a:r>
                      <a:br>
                        <a:rPr sz="1400"/>
                      </a:b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ominazione: GIUSEPPE MAZZINI</a:t>
                      </a:r>
                      <a:br>
                        <a:rPr sz="900"/>
                      </a:br>
                      <a:br>
                        <a:rPr sz="900"/>
                      </a:br>
                      <a:br>
                        <a:rPr sz="1400"/>
                      </a:br>
                      <a:r>
                        <a:rPr b="1" lang="it-IT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  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 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ownload dei grafici relativi a </a:t>
                      </a:r>
                      <a:r>
                        <a:rPr b="0" lang="it-IT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XX</a:t>
                      </a:r>
                      <a:r>
                        <a:rPr b="0" lang="it-IT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IC803XXX _x000b_</a:t>
                      </a:r>
                      <a:br>
                        <a:rPr sz="1400"/>
                      </a:br>
                      <a:r>
                        <a:rPr b="0" lang="it-IT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  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 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/>
                        </a:rPr>
                        <a:t>ownload guida alla lettura dei grafici</a:t>
                      </a:r>
                      <a:r>
                        <a:rPr b="0" lang="it-IT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d2dee4"/>
                      </a:solidFill>
                    </a:lnL>
                    <a:lnR w="4320">
                      <a:solidFill>
                        <a:srgbClr val="d2dee4"/>
                      </a:solidFill>
                    </a:lnR>
                    <a:lnT w="4320">
                      <a:solidFill>
                        <a:srgbClr val="d2dee4"/>
                      </a:solidFill>
                    </a:lnT>
                    <a:lnB w="4320">
                      <a:solidFill>
                        <a:srgbClr val="d2dee4"/>
                      </a:solidFill>
                    </a:lnB>
                    <a:solidFill>
                      <a:srgbClr val="d2dee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2411280" y="3573360"/>
          <a:ext cx="4896000" cy="914400"/>
        </p:xfrm>
        <a:graphic>
          <a:graphicData uri="http://schemas.openxmlformats.org/drawingml/2006/table">
            <a:tbl>
              <a:tblPr/>
              <a:tblGrid>
                <a:gridCol w="3770280"/>
                <a:gridCol w="112572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ituzione dati livello II primaria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d2dee4"/>
                      </a:solidFill>
                    </a:lnL>
                    <a:lnR w="4320">
                      <a:solidFill>
                        <a:srgbClr val="d2dee4"/>
                      </a:solidFill>
                    </a:lnR>
                    <a:lnT w="4320">
                      <a:solidFill>
                        <a:srgbClr val="d2dee4"/>
                      </a:solidFill>
                    </a:lnT>
                    <a:lnB w="432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d2dee4"/>
                      </a:solidFill>
                    </a:lnL>
                    <a:lnR w="4320">
                      <a:solidFill>
                        <a:srgbClr val="d2dee4"/>
                      </a:solidFill>
                    </a:lnR>
                    <a:lnT w="4320">
                      <a:solidFill>
                        <a:srgbClr val="d2dee4"/>
                      </a:solidFill>
                    </a:lnT>
                    <a:lnB w="4320">
                      <a:solidFill>
                        <a:srgbClr val="d2dee4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ituzione dati livello V primaria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d2dee4"/>
                      </a:solidFill>
                    </a:lnL>
                    <a:lnR w="4320">
                      <a:solidFill>
                        <a:srgbClr val="d2dee4"/>
                      </a:solidFill>
                    </a:lnR>
                    <a:lnT w="4320">
                      <a:solidFill>
                        <a:srgbClr val="d2dee4"/>
                      </a:solidFill>
                    </a:lnT>
                    <a:lnB w="432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d2dee4"/>
                      </a:solidFill>
                    </a:lnL>
                    <a:lnR w="4320">
                      <a:solidFill>
                        <a:srgbClr val="d2dee4"/>
                      </a:solidFill>
                    </a:lnR>
                    <a:lnT w="4320">
                      <a:solidFill>
                        <a:srgbClr val="d2dee4"/>
                      </a:solidFill>
                    </a:lnT>
                    <a:lnB w="4320">
                      <a:solidFill>
                        <a:srgbClr val="d2dee4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ituzione dati livello I secondaria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d2dee4"/>
                      </a:solidFill>
                    </a:lnL>
                    <a:lnR w="4320">
                      <a:solidFill>
                        <a:srgbClr val="d2dee4"/>
                      </a:solidFill>
                    </a:lnR>
                    <a:lnT w="4320">
                      <a:solidFill>
                        <a:srgbClr val="d2dee4"/>
                      </a:solidFill>
                    </a:lnT>
                    <a:lnB w="432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d2dee4"/>
                      </a:solidFill>
                    </a:lnL>
                    <a:lnR w="4320">
                      <a:solidFill>
                        <a:srgbClr val="d2dee4"/>
                      </a:solidFill>
                    </a:lnR>
                    <a:lnT w="4320">
                      <a:solidFill>
                        <a:srgbClr val="d2dee4"/>
                      </a:solidFill>
                    </a:lnT>
                    <a:lnB w="4320">
                      <a:solidFill>
                        <a:srgbClr val="d2dee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Rectangle 202"/>
          <p:cNvSpPr/>
          <p:nvPr/>
        </p:nvSpPr>
        <p:spPr>
          <a:xfrm>
            <a:off x="2369520" y="4939920"/>
            <a:ext cx="4946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ivello V primaria - scegli codice classe: </a:t>
            </a:r>
            <a:r>
              <a:rPr b="0" lang="it-IT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412044720501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ivello V primaria - scegli codice classe: 4120447205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ivello V primaria - scegli codice classe: 412044720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 - 14 aprile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DB59-5166-498C-8692-5654407D0B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9"/>
          <p:cNvSpPr/>
          <p:nvPr/>
        </p:nvSpPr>
        <p:spPr>
          <a:xfrm>
            <a:off x="755640" y="4046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Book Antiqua"/>
              </a:rPr>
              <a:t>I dati di scuola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6"/>
          <p:cNvSpPr/>
          <p:nvPr/>
        </p:nvSpPr>
        <p:spPr>
          <a:xfrm>
            <a:off x="1643040" y="2513160"/>
            <a:ext cx="59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Glob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per Nazionalit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per Regolarità (del percor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per S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per Dettaglio Ris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asellaDiTesto 9"/>
          <p:cNvSpPr/>
          <p:nvPr/>
        </p:nvSpPr>
        <p:spPr>
          <a:xfrm>
            <a:off x="928800" y="182412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Book Antiqua"/>
              </a:rPr>
              <a:t>Livello di articolazione dei risulta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 - 14 aprile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0484-12C9-49C6-9477-1A845DAA4F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9"/>
          <p:cNvSpPr/>
          <p:nvPr/>
        </p:nvSpPr>
        <p:spPr>
          <a:xfrm>
            <a:off x="755640" y="4046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Book Antiqua"/>
              </a:rPr>
              <a:t>I dati di scuola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38080" y="1219320"/>
          <a:ext cx="7920000" cy="1944720"/>
        </p:xfrm>
        <a:graphic>
          <a:graphicData uri="http://schemas.openxmlformats.org/drawingml/2006/table">
            <a:tbl>
              <a:tblPr/>
              <a:tblGrid>
                <a:gridCol w="1228680"/>
                <a:gridCol w="649440"/>
                <a:gridCol w="863640"/>
                <a:gridCol w="865080"/>
                <a:gridCol w="973080"/>
                <a:gridCol w="604800"/>
                <a:gridCol w="574920"/>
                <a:gridCol w="576360"/>
                <a:gridCol w="504720"/>
                <a:gridCol w="504720"/>
                <a:gridCol w="574560"/>
              </a:tblGrid>
              <a:tr h="360360">
                <a:tc gridSpan="11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ella dei dati - Visualizzazione GLOB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biti e argom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a% Cl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a% Scu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a% Nazio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</a:tr>
              <a:tr h="358560">
                <a:tc gridSpan="11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ALIA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solidFill>
                      <a:srgbClr val="d2de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o narr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2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" name="Picture 2" descr=""/>
          <p:cNvPicPr/>
          <p:nvPr/>
        </p:nvPicPr>
        <p:blipFill>
          <a:blip r:embed="rId2"/>
          <a:srcRect l="21555" t="12842" r="5846" b="69093"/>
          <a:stretch/>
        </p:blipFill>
        <p:spPr>
          <a:xfrm>
            <a:off x="609480" y="4210200"/>
            <a:ext cx="8274240" cy="1504800"/>
          </a:xfrm>
          <a:prstGeom prst="rect">
            <a:avLst/>
          </a:prstGeom>
          <a:ln w="0">
            <a:noFill/>
          </a:ln>
        </p:spPr>
      </p:pic>
      <p:sp>
        <p:nvSpPr>
          <p:cNvPr id="166" name="Freccia in su 10"/>
          <p:cNvSpPr/>
          <p:nvPr/>
        </p:nvSpPr>
        <p:spPr>
          <a:xfrm flipH="1">
            <a:off x="6247800" y="2895480"/>
            <a:ext cx="106200" cy="228600"/>
          </a:xfrm>
          <a:prstGeom prst="upArrow">
            <a:avLst>
              <a:gd name="adj1" fmla="val 50000"/>
              <a:gd name="adj2" fmla="val 50226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 - 14 aprile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EB21-65FC-40BC-A360-7905116BD7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4984920" y="164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184320" y="312948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"/>
          <p:cNvSpPr/>
          <p:nvPr/>
        </p:nvSpPr>
        <p:spPr>
          <a:xfrm>
            <a:off x="1447920" y="2216160"/>
            <a:ext cx="5715000" cy="3413160"/>
          </a:xfrm>
          <a:custGeom>
            <a:avLst/>
            <a:gdLst>
              <a:gd name="textAreaLeft" fmla="*/ 0 w 5715000"/>
              <a:gd name="textAreaRight" fmla="*/ 5715360 w 5715000"/>
              <a:gd name="textAreaTop" fmla="*/ 0 h 3413160"/>
              <a:gd name="textAreaBottom" fmla="*/ 3413520 h 3413160"/>
            </a:gdLst>
            <a:ahLst/>
            <a:rect l="textAreaLeft" t="textAreaTop" r="textAreaRight" b="textAreaBottom"/>
            <a:pathLst>
              <a:path w="4272" h="2150">
                <a:moveTo>
                  <a:pt x="0" y="2150"/>
                </a:moveTo>
                <a:cubicBezTo>
                  <a:pt x="71" y="2136"/>
                  <a:pt x="292" y="2095"/>
                  <a:pt x="425" y="2066"/>
                </a:cubicBezTo>
                <a:cubicBezTo>
                  <a:pt x="558" y="2037"/>
                  <a:pt x="684" y="2028"/>
                  <a:pt x="800" y="1975"/>
                </a:cubicBezTo>
                <a:cubicBezTo>
                  <a:pt x="916" y="1922"/>
                  <a:pt x="995" y="1876"/>
                  <a:pt x="1120" y="1746"/>
                </a:cubicBezTo>
                <a:cubicBezTo>
                  <a:pt x="1245" y="1616"/>
                  <a:pt x="1431" y="1401"/>
                  <a:pt x="1550" y="1195"/>
                </a:cubicBezTo>
                <a:cubicBezTo>
                  <a:pt x="1669" y="989"/>
                  <a:pt x="1716" y="706"/>
                  <a:pt x="1833" y="509"/>
                </a:cubicBezTo>
                <a:cubicBezTo>
                  <a:pt x="1950" y="312"/>
                  <a:pt x="2115" y="30"/>
                  <a:pt x="2254" y="15"/>
                </a:cubicBezTo>
                <a:cubicBezTo>
                  <a:pt x="2393" y="0"/>
                  <a:pt x="2548" y="266"/>
                  <a:pt x="2665" y="417"/>
                </a:cubicBezTo>
                <a:cubicBezTo>
                  <a:pt x="2782" y="568"/>
                  <a:pt x="2842" y="725"/>
                  <a:pt x="2958" y="920"/>
                </a:cubicBezTo>
                <a:cubicBezTo>
                  <a:pt x="3074" y="1115"/>
                  <a:pt x="3253" y="1419"/>
                  <a:pt x="3360" y="1588"/>
                </a:cubicBezTo>
                <a:cubicBezTo>
                  <a:pt x="3467" y="1757"/>
                  <a:pt x="3496" y="1853"/>
                  <a:pt x="3598" y="1935"/>
                </a:cubicBezTo>
                <a:cubicBezTo>
                  <a:pt x="3700" y="2017"/>
                  <a:pt x="3861" y="2053"/>
                  <a:pt x="3973" y="2081"/>
                </a:cubicBezTo>
                <a:cubicBezTo>
                  <a:pt x="4085" y="2109"/>
                  <a:pt x="4210" y="2098"/>
                  <a:pt x="4272" y="210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762120" y="564984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8"/>
          <p:cNvSpPr/>
          <p:nvPr/>
        </p:nvSpPr>
        <p:spPr>
          <a:xfrm>
            <a:off x="1481040" y="4562640"/>
            <a:ext cx="1787760" cy="1064880"/>
          </a:xfrm>
          <a:custGeom>
            <a:avLst/>
            <a:gdLst>
              <a:gd name="textAreaLeft" fmla="*/ 0 w 1787760"/>
              <a:gd name="textAreaRight" fmla="*/ 1715040 w 1787760"/>
              <a:gd name="textAreaTop" fmla="*/ 0 h 1064880"/>
              <a:gd name="textAreaBottom" fmla="*/ 1090440 h 1064880"/>
            </a:gdLst>
            <a:ahLst/>
            <a:rect l="textAreaLeft" t="textAreaTop" r="textAreaRight" b="textAreaBottom"/>
            <a:pathLst>
              <a:path w="1126" h="671">
                <a:moveTo>
                  <a:pt x="0" y="666"/>
                </a:moveTo>
                <a:lnTo>
                  <a:pt x="275" y="591"/>
                </a:lnTo>
                <a:lnTo>
                  <a:pt x="684" y="486"/>
                </a:lnTo>
                <a:lnTo>
                  <a:pt x="966" y="234"/>
                </a:lnTo>
                <a:lnTo>
                  <a:pt x="1125" y="0"/>
                </a:lnTo>
                <a:lnTo>
                  <a:pt x="1126" y="671"/>
                </a:lnTo>
                <a:lnTo>
                  <a:pt x="0" y="66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20"/>
          <p:cNvSpPr/>
          <p:nvPr/>
        </p:nvSpPr>
        <p:spPr>
          <a:xfrm>
            <a:off x="4433760" y="2246400"/>
            <a:ext cx="1141560" cy="3368520"/>
          </a:xfrm>
          <a:custGeom>
            <a:avLst/>
            <a:gdLst>
              <a:gd name="textAreaLeft" fmla="*/ 0 w 1141560"/>
              <a:gd name="textAreaRight" fmla="*/ 1295640 w 1141560"/>
              <a:gd name="textAreaTop" fmla="*/ 0 h 3368520"/>
              <a:gd name="textAreaBottom" fmla="*/ 3429000 h 3368520"/>
            </a:gdLst>
            <a:ahLst/>
            <a:rect l="textAreaLeft" t="textAreaTop" r="textAreaRight" b="textAreaBottom"/>
            <a:pathLst>
              <a:path w="719" h="2122">
                <a:moveTo>
                  <a:pt x="0" y="2122"/>
                </a:moveTo>
                <a:lnTo>
                  <a:pt x="189" y="2122"/>
                </a:lnTo>
                <a:lnTo>
                  <a:pt x="718" y="2122"/>
                </a:lnTo>
                <a:lnTo>
                  <a:pt x="719" y="1150"/>
                </a:lnTo>
                <a:lnTo>
                  <a:pt x="410" y="444"/>
                </a:lnTo>
                <a:lnTo>
                  <a:pt x="473" y="556"/>
                </a:lnTo>
                <a:lnTo>
                  <a:pt x="252" y="203"/>
                </a:lnTo>
                <a:lnTo>
                  <a:pt x="134" y="55"/>
                </a:lnTo>
                <a:lnTo>
                  <a:pt x="0" y="0"/>
                </a:lnTo>
                <a:lnTo>
                  <a:pt x="0" y="165"/>
                </a:lnTo>
                <a:lnTo>
                  <a:pt x="8" y="473"/>
                </a:lnTo>
                <a:lnTo>
                  <a:pt x="0" y="2122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21"/>
          <p:cNvSpPr/>
          <p:nvPr/>
        </p:nvSpPr>
        <p:spPr>
          <a:xfrm>
            <a:off x="5573880" y="4037040"/>
            <a:ext cx="1625400" cy="1606680"/>
          </a:xfrm>
          <a:custGeom>
            <a:avLst/>
            <a:gdLst>
              <a:gd name="textAreaLeft" fmla="*/ 0 w 1625400"/>
              <a:gd name="textAreaRight" fmla="*/ 1600200 w 1625400"/>
              <a:gd name="textAreaTop" fmla="*/ 0 h 1606680"/>
              <a:gd name="textAreaBottom" fmla="*/ 1600560 h 1606680"/>
            </a:gdLst>
            <a:ahLst/>
            <a:rect l="textAreaLeft" t="textAreaTop" r="textAreaRight" b="textAreaBottom"/>
            <a:pathLst>
              <a:path w="1024" h="1012">
                <a:moveTo>
                  <a:pt x="8" y="994"/>
                </a:moveTo>
                <a:lnTo>
                  <a:pt x="347" y="1002"/>
                </a:lnTo>
                <a:lnTo>
                  <a:pt x="529" y="979"/>
                </a:lnTo>
                <a:lnTo>
                  <a:pt x="1024" y="1012"/>
                </a:lnTo>
                <a:lnTo>
                  <a:pt x="976" y="963"/>
                </a:lnTo>
                <a:lnTo>
                  <a:pt x="727" y="955"/>
                </a:lnTo>
                <a:lnTo>
                  <a:pt x="544" y="867"/>
                </a:lnTo>
                <a:lnTo>
                  <a:pt x="358" y="682"/>
                </a:lnTo>
                <a:lnTo>
                  <a:pt x="256" y="480"/>
                </a:lnTo>
                <a:lnTo>
                  <a:pt x="95" y="197"/>
                </a:lnTo>
                <a:lnTo>
                  <a:pt x="0" y="0"/>
                </a:lnTo>
                <a:lnTo>
                  <a:pt x="8" y="994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9"/>
          <p:cNvSpPr/>
          <p:nvPr/>
        </p:nvSpPr>
        <p:spPr>
          <a:xfrm>
            <a:off x="3281400" y="2185920"/>
            <a:ext cx="1187280" cy="3429000"/>
          </a:xfrm>
          <a:custGeom>
            <a:avLst/>
            <a:gdLst>
              <a:gd name="textAreaLeft" fmla="*/ 0 w 1187280"/>
              <a:gd name="textAreaRight" fmla="*/ 15877440 w 1187280"/>
              <a:gd name="textAreaTop" fmla="*/ 0 h 3429000"/>
              <a:gd name="textAreaBottom" fmla="*/ 15876360 h 3429000"/>
            </a:gdLst>
            <a:ahLst/>
            <a:rect l="textAreaLeft" t="textAreaTop" r="textAreaRight" b="textAreaBottom"/>
            <a:pathLst>
              <a:path w="748" h="2160">
                <a:moveTo>
                  <a:pt x="718" y="2160"/>
                </a:moveTo>
                <a:lnTo>
                  <a:pt x="726" y="1303"/>
                </a:lnTo>
                <a:lnTo>
                  <a:pt x="718" y="177"/>
                </a:lnTo>
                <a:cubicBezTo>
                  <a:pt x="718" y="0"/>
                  <a:pt x="726" y="159"/>
                  <a:pt x="726" y="240"/>
                </a:cubicBezTo>
                <a:cubicBezTo>
                  <a:pt x="726" y="321"/>
                  <a:pt x="717" y="629"/>
                  <a:pt x="718" y="666"/>
                </a:cubicBezTo>
                <a:cubicBezTo>
                  <a:pt x="719" y="703"/>
                  <a:pt x="733" y="346"/>
                  <a:pt x="734" y="464"/>
                </a:cubicBezTo>
                <a:cubicBezTo>
                  <a:pt x="735" y="582"/>
                  <a:pt x="729" y="1408"/>
                  <a:pt x="726" y="1376"/>
                </a:cubicBezTo>
                <a:cubicBezTo>
                  <a:pt x="723" y="1344"/>
                  <a:pt x="718" y="493"/>
                  <a:pt x="718" y="274"/>
                </a:cubicBezTo>
                <a:cubicBezTo>
                  <a:pt x="718" y="55"/>
                  <a:pt x="746" y="82"/>
                  <a:pt x="726" y="61"/>
                </a:cubicBezTo>
                <a:cubicBezTo>
                  <a:pt x="706" y="40"/>
                  <a:pt x="600" y="148"/>
                  <a:pt x="600" y="148"/>
                </a:cubicBezTo>
                <a:cubicBezTo>
                  <a:pt x="600" y="148"/>
                  <a:pt x="704" y="73"/>
                  <a:pt x="726" y="61"/>
                </a:cubicBezTo>
                <a:cubicBezTo>
                  <a:pt x="748" y="49"/>
                  <a:pt x="746" y="70"/>
                  <a:pt x="734" y="77"/>
                </a:cubicBezTo>
                <a:cubicBezTo>
                  <a:pt x="722" y="84"/>
                  <a:pt x="701" y="55"/>
                  <a:pt x="655" y="101"/>
                </a:cubicBezTo>
                <a:cubicBezTo>
                  <a:pt x="609" y="147"/>
                  <a:pt x="514" y="254"/>
                  <a:pt x="458" y="353"/>
                </a:cubicBezTo>
                <a:cubicBezTo>
                  <a:pt x="402" y="452"/>
                  <a:pt x="360" y="586"/>
                  <a:pt x="318" y="694"/>
                </a:cubicBezTo>
                <a:cubicBezTo>
                  <a:pt x="276" y="802"/>
                  <a:pt x="242" y="895"/>
                  <a:pt x="208" y="1001"/>
                </a:cubicBezTo>
                <a:lnTo>
                  <a:pt x="109" y="1330"/>
                </a:lnTo>
                <a:lnTo>
                  <a:pt x="0" y="1484"/>
                </a:lnTo>
                <a:lnTo>
                  <a:pt x="0" y="2160"/>
                </a:lnTo>
                <a:lnTo>
                  <a:pt x="718" y="21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igura a mano libera 26"/>
          <p:cNvSpPr/>
          <p:nvPr/>
        </p:nvSpPr>
        <p:spPr>
          <a:xfrm>
            <a:off x="1481040" y="5354640"/>
            <a:ext cx="1081080" cy="289080"/>
          </a:xfrm>
          <a:custGeom>
            <a:avLst/>
            <a:gdLst>
              <a:gd name="textAreaLeft" fmla="*/ 0 w 1081080"/>
              <a:gd name="textAreaRight" fmla="*/ 1081080 w 108108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681" h="182">
                <a:moveTo>
                  <a:pt x="663" y="0"/>
                </a:moveTo>
                <a:lnTo>
                  <a:pt x="681" y="164"/>
                </a:lnTo>
                <a:lnTo>
                  <a:pt x="0" y="182"/>
                </a:lnTo>
                <a:lnTo>
                  <a:pt x="392" y="70"/>
                </a:lnTo>
                <a:lnTo>
                  <a:pt x="663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igura a mano libera 27"/>
          <p:cNvSpPr/>
          <p:nvPr/>
        </p:nvSpPr>
        <p:spPr>
          <a:xfrm>
            <a:off x="6237360" y="5264280"/>
            <a:ext cx="1004760" cy="376200"/>
          </a:xfrm>
          <a:custGeom>
            <a:avLst/>
            <a:gdLst>
              <a:gd name="textAreaLeft" fmla="*/ 0 w 1004760"/>
              <a:gd name="textAreaRight" fmla="*/ 1005120 w 100476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633" h="237">
                <a:moveTo>
                  <a:pt x="0" y="0"/>
                </a:moveTo>
                <a:lnTo>
                  <a:pt x="9" y="229"/>
                </a:lnTo>
                <a:lnTo>
                  <a:pt x="431" y="221"/>
                </a:lnTo>
                <a:lnTo>
                  <a:pt x="545" y="198"/>
                </a:lnTo>
                <a:lnTo>
                  <a:pt x="616" y="221"/>
                </a:lnTo>
                <a:lnTo>
                  <a:pt x="633" y="237"/>
                </a:lnTo>
                <a:lnTo>
                  <a:pt x="189" y="132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0"/>
          <p:cNvSpPr/>
          <p:nvPr/>
        </p:nvSpPr>
        <p:spPr>
          <a:xfrm>
            <a:off x="2514600" y="1827360"/>
            <a:ext cx="0" cy="389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1"/>
          <p:cNvSpPr/>
          <p:nvPr/>
        </p:nvSpPr>
        <p:spPr>
          <a:xfrm>
            <a:off x="3281400" y="182736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2"/>
          <p:cNvSpPr/>
          <p:nvPr/>
        </p:nvSpPr>
        <p:spPr>
          <a:xfrm>
            <a:off x="4433760" y="1851120"/>
            <a:ext cx="0" cy="395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3"/>
          <p:cNvSpPr/>
          <p:nvPr/>
        </p:nvSpPr>
        <p:spPr>
          <a:xfrm>
            <a:off x="5513400" y="1827360"/>
            <a:ext cx="7308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4"/>
          <p:cNvSpPr/>
          <p:nvPr/>
        </p:nvSpPr>
        <p:spPr>
          <a:xfrm>
            <a:off x="6234120" y="182736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5"/>
          <p:cNvSpPr/>
          <p:nvPr/>
        </p:nvSpPr>
        <p:spPr>
          <a:xfrm>
            <a:off x="7242120" y="182736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6"/>
          <p:cNvSpPr/>
          <p:nvPr/>
        </p:nvSpPr>
        <p:spPr>
          <a:xfrm>
            <a:off x="2130480" y="5715000"/>
            <a:ext cx="78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° dec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0° 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7"/>
          <p:cNvSpPr/>
          <p:nvPr/>
        </p:nvSpPr>
        <p:spPr>
          <a:xfrm>
            <a:off x="2848320" y="5715000"/>
            <a:ext cx="87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° quar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5° 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8"/>
          <p:cNvSpPr/>
          <p:nvPr/>
        </p:nvSpPr>
        <p:spPr>
          <a:xfrm>
            <a:off x="1821240" y="4489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9"/>
          <p:cNvSpPr/>
          <p:nvPr/>
        </p:nvSpPr>
        <p:spPr>
          <a:xfrm>
            <a:off x="2705400" y="3554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0"/>
          <p:cNvSpPr/>
          <p:nvPr/>
        </p:nvSpPr>
        <p:spPr>
          <a:xfrm>
            <a:off x="3426120" y="24750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1"/>
          <p:cNvSpPr/>
          <p:nvPr/>
        </p:nvSpPr>
        <p:spPr>
          <a:xfrm>
            <a:off x="5010480" y="24750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2"/>
          <p:cNvSpPr/>
          <p:nvPr/>
        </p:nvSpPr>
        <p:spPr>
          <a:xfrm>
            <a:off x="5729760" y="36990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3"/>
          <p:cNvSpPr/>
          <p:nvPr/>
        </p:nvSpPr>
        <p:spPr>
          <a:xfrm>
            <a:off x="6450480" y="46353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4"/>
          <p:cNvSpPr/>
          <p:nvPr/>
        </p:nvSpPr>
        <p:spPr>
          <a:xfrm>
            <a:off x="4072320" y="5715000"/>
            <a:ext cx="76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ed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50° 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5"/>
          <p:cNvSpPr/>
          <p:nvPr/>
        </p:nvSpPr>
        <p:spPr>
          <a:xfrm>
            <a:off x="2111040" y="54007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6"/>
          <p:cNvSpPr/>
          <p:nvPr/>
        </p:nvSpPr>
        <p:spPr>
          <a:xfrm>
            <a:off x="2706480" y="52117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7"/>
          <p:cNvSpPr/>
          <p:nvPr/>
        </p:nvSpPr>
        <p:spPr>
          <a:xfrm>
            <a:off x="3643200" y="47070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8"/>
          <p:cNvSpPr/>
          <p:nvPr/>
        </p:nvSpPr>
        <p:spPr>
          <a:xfrm>
            <a:off x="4722480" y="47070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9"/>
          <p:cNvSpPr/>
          <p:nvPr/>
        </p:nvSpPr>
        <p:spPr>
          <a:xfrm>
            <a:off x="5659200" y="52117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0"/>
          <p:cNvSpPr/>
          <p:nvPr/>
        </p:nvSpPr>
        <p:spPr>
          <a:xfrm>
            <a:off x="6235560" y="54277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1"/>
          <p:cNvSpPr/>
          <p:nvPr/>
        </p:nvSpPr>
        <p:spPr>
          <a:xfrm>
            <a:off x="5008680" y="5715000"/>
            <a:ext cx="87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3° quar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75° 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2"/>
          <p:cNvSpPr/>
          <p:nvPr/>
        </p:nvSpPr>
        <p:spPr>
          <a:xfrm>
            <a:off x="5945760" y="5715000"/>
            <a:ext cx="76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9° dec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90° 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83"/>
          <p:cNvSpPr/>
          <p:nvPr/>
        </p:nvSpPr>
        <p:spPr>
          <a:xfrm flipH="1">
            <a:off x="1461960" y="1143000"/>
            <a:ext cx="22320" cy="450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755640" y="4046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Book Antiqua"/>
              </a:rPr>
              <a:t>I dati di scuola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1461960" y="183996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 - 14 aprile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DC0B-638C-43DE-88C3-2EC012C412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"/>
          <p:cNvGraphicFramePr/>
          <p:nvPr/>
        </p:nvGraphicFramePr>
        <p:xfrm>
          <a:off x="826920" y="2565360"/>
          <a:ext cx="8136000" cy="1432080"/>
        </p:xfrm>
        <a:graphic>
          <a:graphicData uri="http://schemas.openxmlformats.org/drawingml/2006/table">
            <a:tbl>
              <a:tblPr/>
              <a:tblGrid>
                <a:gridCol w="2060640"/>
                <a:gridCol w="914400"/>
                <a:gridCol w="912960"/>
                <a:gridCol w="936720"/>
                <a:gridCol w="934920"/>
                <a:gridCol w="1008000"/>
                <a:gridCol w="1368360"/>
              </a:tblGrid>
              <a:tr h="3070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ella dei dati - Visualizzazione per DETTAGLIO RISPOSTE - tabell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biti e argom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CATA </a:t>
                      </a:r>
                      <a:br>
                        <a:rPr sz="1400"/>
                      </a:b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SPO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ALIA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solidFill>
                      <a:srgbClr val="d2de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o narr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dee4"/>
                      </a:solidFill>
                    </a:lnL>
                    <a:lnR w="5760">
                      <a:solidFill>
                        <a:srgbClr val="d2dee4"/>
                      </a:solidFill>
                    </a:lnR>
                    <a:lnT w="5760">
                      <a:solidFill>
                        <a:srgbClr val="d2dee4"/>
                      </a:solidFill>
                    </a:lnT>
                    <a:lnB w="5760">
                      <a:solidFill>
                        <a:srgbClr val="d2dee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Text Box 9"/>
          <p:cNvSpPr/>
          <p:nvPr/>
        </p:nvSpPr>
        <p:spPr>
          <a:xfrm>
            <a:off x="755640" y="4046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Book Antiqua"/>
              </a:rPr>
              <a:t>I dati di scuola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 - 14 aprile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F4D5-CB74-419F-BD9A-8ABDD2C255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826920" y="260280"/>
            <a:ext cx="59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Book Antiqua"/>
              </a:rPr>
              <a:t>Contatti e numeri ut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221" name="CasellaDiTesto 11"/>
          <p:cNvSpPr/>
          <p:nvPr/>
        </p:nvSpPr>
        <p:spPr>
          <a:xfrm>
            <a:off x="642960" y="1341360"/>
            <a:ext cx="8501040" cy="4740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L’INVALSI assicura a tutte le scuole i seguenti serviz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675"/>
              </a:spcBef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servizio </a:t>
            </a:r>
            <a:r>
              <a:rPr b="1" i="1" lang="it-IT" sz="1800" spc="-1" strike="noStrike">
                <a:solidFill>
                  <a:srgbClr val="000000"/>
                </a:solidFill>
                <a:latin typeface="Book Antiqua"/>
              </a:rPr>
              <a:t>FAQ</a:t>
            </a: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disponibile sul sito www.invalsi.it/snv1011/faq/step1.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6760" indent="-2667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per accedere al modulo “Domande e Risposte” è necessario utilizzare il codice meccanografico dell’Istituzione scolastica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6760" indent="-2667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6760" indent="-2667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675"/>
              </a:spcBef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ssistenza via e-mail scrivendo a snv2010@invalsi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675"/>
              </a:spcBef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ssistenza telefonica 0694185 217-235-275-277-301-3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le linee sono attive dal lunedì al venerdì dalle ore 8.30-13.30 e dalle 14.30-16.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 - 14 aprile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37DE-EB2F-4879-BBBA-8D2C44B7AD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785880" y="357120"/>
            <a:ext cx="68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Book Antiqua"/>
              </a:rPr>
              <a:t>Il disegno della rilevazione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2"/>
          <p:cNvSpPr/>
          <p:nvPr/>
        </p:nvSpPr>
        <p:spPr>
          <a:xfrm>
            <a:off x="826920" y="1413000"/>
            <a:ext cx="734544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la rilevazione è </a:t>
            </a:r>
            <a:r>
              <a:rPr b="1" lang="en-US" sz="2000" spc="-1" strike="noStrike">
                <a:solidFill>
                  <a:srgbClr val="006699"/>
                </a:solidFill>
                <a:latin typeface="Book Antiqua"/>
              </a:rPr>
              <a:t>censuaria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a livello di scuola e a livello di stud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l </a:t>
            </a:r>
            <a:r>
              <a:rPr b="1" lang="en-US" sz="2000" spc="-1" strike="noStrike">
                <a:solidFill>
                  <a:srgbClr val="006699"/>
                </a:solidFill>
                <a:latin typeface="Book Antiqua"/>
              </a:rPr>
              <a:t>dirigente scolastico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è responsabile del processo di svolgimento della prova nella sua scu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sellaDiTesto 11"/>
          <p:cNvSpPr/>
          <p:nvPr/>
        </p:nvSpPr>
        <p:spPr>
          <a:xfrm>
            <a:off x="642960" y="3714840"/>
            <a:ext cx="8429760" cy="22708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n alcune </a:t>
            </a:r>
            <a:r>
              <a:rPr b="1" lang="en-US" sz="2000" spc="-1" strike="noStrike">
                <a:solidFill>
                  <a:srgbClr val="ff9900"/>
                </a:solidFill>
                <a:latin typeface="Book Antiqua"/>
              </a:rPr>
              <a:t>scuole campion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, individuate dall’INVALSI, la somministrazione delle prove avverrà alla presenza di un </a:t>
            </a:r>
            <a:r>
              <a:rPr b="1" lang="en-US" sz="2000" spc="-1" strike="noStrike">
                <a:solidFill>
                  <a:srgbClr val="ff9900"/>
                </a:solidFill>
                <a:latin typeface="Book Antiqua"/>
              </a:rPr>
              <a:t>osservatore esterno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18.04.2011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 pubblicazione mediante modulo on-line ad accesso riservato delle classi campione  - attività 6 dello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Book Antiqua"/>
                <a:hlinkClick r:id="rId2"/>
              </a:rPr>
              <a:t>scadenzario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Book Antiqua"/>
                <a:hlinkClick r:id="rId3"/>
              </a:rPr>
              <a:t>http://www.invalsi.it/snv1011/scadenziario/index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 - 14 aprile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8487-304D-4ADF-99CD-CBC0F384E8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785880" y="357120"/>
            <a:ext cx="68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Book Antiqua"/>
              </a:rPr>
              <a:t>Il disegno della rilevazione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2"/>
          <p:cNvSpPr/>
          <p:nvPr/>
        </p:nvSpPr>
        <p:spPr>
          <a:xfrm>
            <a:off x="826920" y="1643040"/>
            <a:ext cx="781704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In ogni regione l’INVALSI estrae un campione rappresentativo di scuole (</a:t>
            </a:r>
            <a:r>
              <a:rPr b="1" i="1" lang="it-IT" sz="2000" spc="-1" strike="noStrike">
                <a:solidFill>
                  <a:srgbClr val="000000"/>
                </a:solidFill>
                <a:latin typeface="Book Antiqua"/>
              </a:rPr>
              <a:t>scuole campione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All’interno di ogni scuola campione sono estratte, di norma, due classi (</a:t>
            </a:r>
            <a:r>
              <a:rPr b="1" i="1" lang="it-IT" sz="2000" spc="-1" strike="noStrike">
                <a:solidFill>
                  <a:srgbClr val="000000"/>
                </a:solidFill>
                <a:latin typeface="Book Antiqua"/>
              </a:rPr>
              <a:t>classi campione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) in cui la somministrazione avviene alla presenza di un osservatore esterno, nominato dagli USR in collaborazione con l’INVA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Il disegno campionario garantisce la rappresentatività regionale e, per la scuola secondaria superiore, anche della macrotipologia di indirizzo di studio (Licei, Istituti tecnici e professional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 - 14 aprile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5B3-F489-461E-BFE4-1CE5BFF436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asellaDiTesto 11"/>
          <p:cNvSpPr/>
          <p:nvPr/>
        </p:nvSpPr>
        <p:spPr>
          <a:xfrm>
            <a:off x="539640" y="836640"/>
            <a:ext cx="7632720" cy="64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Book Antiqua"/>
              </a:rPr>
              <a:t>Nella scuola secondaria di secondo g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2440">
              <a:lnSpc>
                <a:spcPct val="100000"/>
              </a:lnSpc>
              <a:spcBef>
                <a:spcPts val="675"/>
              </a:spcBef>
              <a:buClr>
                <a:srgbClr val="006699"/>
              </a:buClr>
              <a:buFont typeface="Book Antiqua"/>
              <a:buChar char="►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Book Antiqua"/>
              </a:rPr>
              <a:t>10 maggio 2011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er la</a:t>
            </a:r>
            <a:r>
              <a:rPr b="1" lang="en-US" sz="1800" spc="-1" strike="noStrike">
                <a:solidFill>
                  <a:srgbClr val="006699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rova di </a:t>
            </a:r>
            <a:r>
              <a:rPr b="1" lang="en-US" sz="1800" spc="-1" strike="noStrike">
                <a:solidFill>
                  <a:srgbClr val="006699"/>
                </a:solidFill>
                <a:latin typeface="Book Antiqua"/>
              </a:rPr>
              <a:t>Italiano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1800" spc="-1" strike="noStrike">
                <a:solidFill>
                  <a:srgbClr val="006699"/>
                </a:solidFill>
                <a:latin typeface="Book Antiqua"/>
              </a:rPr>
              <a:t>Matematica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e </a:t>
            </a:r>
            <a:r>
              <a:rPr b="1" lang="en-US" sz="1800" spc="-1" strike="noStrike">
                <a:solidFill>
                  <a:srgbClr val="006699"/>
                </a:solidFill>
                <a:latin typeface="Book Antiqua"/>
              </a:rPr>
              <a:t>questionario studente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classe II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)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veda attivit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. 13 e 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ll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cadenzario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Book Antiqua"/>
                <a:hlinkClick r:id="rId2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2440">
              <a:lnSpc>
                <a:spcPct val="100000"/>
              </a:lnSpc>
              <a:spcBef>
                <a:spcPts val="524"/>
              </a:spcBef>
              <a:buClr>
                <a:srgbClr val="006699"/>
              </a:buClr>
              <a:buFont typeface="Book Antiqua"/>
              <a:buChar char="►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ook Antiqua"/>
                <a:hlinkClick r:id="rId3"/>
              </a:rPr>
              <a:t>Tipologie delle prov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ook Antiqua"/>
              </a:rPr>
              <a:t> 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invalsi.it/snv1011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2440">
              <a:lnSpc>
                <a:spcPct val="100000"/>
              </a:lnSpc>
              <a:spcBef>
                <a:spcPts val="675"/>
              </a:spcBef>
              <a:buClr>
                <a:srgbClr val="006699"/>
              </a:buClr>
              <a:buFont typeface="Book Antiqua"/>
              <a:buChar char="►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ook Antiqua"/>
                <a:hlinkClick r:id="rId5"/>
              </a:rPr>
              <a:t>Strumenti consentiti per lo svolgimento prova mate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2440">
              <a:lnSpc>
                <a:spcPct val="100000"/>
              </a:lnSpc>
              <a:spcBef>
                <a:spcPts val="675"/>
              </a:spcBef>
              <a:buClr>
                <a:srgbClr val="006699"/>
              </a:buClr>
              <a:buFont typeface="Book Antiqua"/>
              <a:buChar char="►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ook Antiqua"/>
                <a:hlinkClick r:id="rId6"/>
              </a:rPr>
              <a:t>Te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2440">
              <a:lnSpc>
                <a:spcPct val="100000"/>
              </a:lnSpc>
              <a:spcBef>
                <a:spcPts val="675"/>
              </a:spcBef>
              <a:buClr>
                <a:srgbClr val="006699"/>
              </a:buClr>
              <a:buFont typeface="Book Antiqua"/>
              <a:buChar char="►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ook Antiqua"/>
                <a:hlinkClick r:id="rId7"/>
              </a:rPr>
              <a:t>Organizzazione somministrazione p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Book Antiqua"/>
              </a:rPr>
              <a:t>Nella scuola primaria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2440">
              <a:lnSpc>
                <a:spcPct val="100000"/>
              </a:lnSpc>
              <a:spcBef>
                <a:spcPts val="524"/>
              </a:spcBef>
              <a:buClr>
                <a:srgbClr val="006699"/>
              </a:buClr>
              <a:buFont typeface="Book Antiqua"/>
              <a:buChar char="►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Book Antiqua"/>
              </a:rPr>
              <a:t>11 maggio 2011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per la prova di</a:t>
            </a:r>
            <a:r>
              <a:rPr b="1" lang="en-US" sz="1400" spc="-1" strike="noStrike">
                <a:solidFill>
                  <a:srgbClr val="006699"/>
                </a:solidFill>
                <a:latin typeface="Book Antiqua"/>
              </a:rPr>
              <a:t> Italiano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(</a:t>
            </a:r>
            <a:r>
              <a:rPr b="0" i="1" lang="en-US" sz="1400" spc="-1" strike="noStrike">
                <a:solidFill>
                  <a:srgbClr val="000000"/>
                </a:solidFill>
                <a:latin typeface="Book Antiqua"/>
              </a:rPr>
              <a:t>classi II e V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2440">
              <a:lnSpc>
                <a:spcPct val="100000"/>
              </a:lnSpc>
              <a:spcBef>
                <a:spcPts val="524"/>
              </a:spcBef>
              <a:buClr>
                <a:srgbClr val="006699"/>
              </a:buClr>
              <a:buFont typeface="Book Antiqua"/>
              <a:buChar char="►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Book Antiqua"/>
              </a:rPr>
              <a:t>13 maggio 2011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per la prova di</a:t>
            </a:r>
            <a:r>
              <a:rPr b="1" lang="en-US" sz="1400" spc="-1" strike="noStrike">
                <a:solidFill>
                  <a:srgbClr val="006699"/>
                </a:solidFill>
                <a:latin typeface="Book Antiqua"/>
              </a:rPr>
              <a:t> Matematica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Book Antiqua"/>
              </a:rPr>
              <a:t>classi II e V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31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nella classe </a:t>
            </a:r>
            <a:r>
              <a:rPr b="1" lang="en-US" sz="1400" spc="-1" strike="noStrike">
                <a:solidFill>
                  <a:srgbClr val="006699"/>
                </a:solidFill>
                <a:latin typeface="Book Antiqua"/>
              </a:rPr>
              <a:t>V primaria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, dopo la prova di matematica, sarà somministrato anche un </a:t>
            </a:r>
            <a:r>
              <a:rPr b="1" lang="en-US" sz="1400" spc="-1" strike="noStrike">
                <a:solidFill>
                  <a:srgbClr val="006699"/>
                </a:solidFill>
                <a:latin typeface="Book Antiqua"/>
              </a:rPr>
              <a:t>questionario stud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Book Antiqua"/>
              </a:rPr>
              <a:t>Nella scuola secondaria di primo g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2440">
              <a:lnSpc>
                <a:spcPct val="100000"/>
              </a:lnSpc>
              <a:spcBef>
                <a:spcPts val="524"/>
              </a:spcBef>
              <a:buClr>
                <a:srgbClr val="006699"/>
              </a:buClr>
              <a:buFont typeface="Book Antiqua"/>
              <a:buChar char="►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Book Antiqua"/>
              </a:rPr>
              <a:t>12 maggio 2011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per la</a:t>
            </a:r>
            <a:r>
              <a:rPr b="1" lang="en-US" sz="1400" spc="-1" strike="noStrike">
                <a:solidFill>
                  <a:srgbClr val="006699"/>
                </a:solidFill>
                <a:latin typeface="Book Antiqu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prova di </a:t>
            </a:r>
            <a:r>
              <a:rPr b="1" lang="en-US" sz="1400" spc="-1" strike="noStrike">
                <a:solidFill>
                  <a:srgbClr val="006699"/>
                </a:solidFill>
                <a:latin typeface="Book Antiqua"/>
              </a:rPr>
              <a:t>Italiano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1400" spc="-1" strike="noStrike">
                <a:solidFill>
                  <a:srgbClr val="006699"/>
                </a:solidFill>
                <a:latin typeface="Book Antiqua"/>
              </a:rPr>
              <a:t>Matematica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e </a:t>
            </a:r>
            <a:r>
              <a:rPr b="1" lang="en-US" sz="1400" spc="-1" strike="noStrike">
                <a:solidFill>
                  <a:srgbClr val="006699"/>
                </a:solidFill>
                <a:latin typeface="Book Antiqua"/>
              </a:rPr>
              <a:t>questionario studente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(</a:t>
            </a:r>
            <a:r>
              <a:rPr b="0" i="1" lang="en-US" sz="1400" spc="-1" strike="noStrike">
                <a:solidFill>
                  <a:srgbClr val="000000"/>
                </a:solidFill>
                <a:latin typeface="Book Antiqua"/>
              </a:rPr>
              <a:t>classe I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2440">
              <a:lnSpc>
                <a:spcPct val="100000"/>
              </a:lnSpc>
              <a:spcBef>
                <a:spcPts val="524"/>
              </a:spcBef>
              <a:buClr>
                <a:srgbClr val="006699"/>
              </a:buClr>
              <a:buFont typeface="Book Antiqua"/>
              <a:buChar char="►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660680">
              <a:lnSpc>
                <a:spcPct val="100000"/>
              </a:lnSpc>
              <a:tabLst>
                <a:tab algn="l" pos="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826920" y="26028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Book Antiqua"/>
              </a:rPr>
              <a:t>Le date della rilev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3" descr=""/>
          <p:cNvPicPr/>
          <p:nvPr/>
        </p:nvPicPr>
        <p:blipFill>
          <a:blip r:embed="rId8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 - 14 aprile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A707-1D56-44A4-8665-D3CDB8048F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CasellaDiTesto 11"/>
          <p:cNvSpPr/>
          <p:nvPr/>
        </p:nvSpPr>
        <p:spPr>
          <a:xfrm>
            <a:off x="611280" y="981000"/>
            <a:ext cx="8137440" cy="58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50000"/>
              </a:lnSpc>
              <a:buClr>
                <a:srgbClr val="006699"/>
              </a:buClr>
              <a:buFont typeface="Book Antiqua"/>
              <a:buChar char="►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Gli insegnanti scelti dalla scuola sulla base delle indicazioni dell’INVALSI e </a:t>
            </a: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competenti per ambito 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provvedono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2440">
              <a:lnSpc>
                <a:spcPct val="10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registrare</a:t>
            </a:r>
            <a:r>
              <a:rPr b="1" lang="it-IT" sz="1800" spc="-1" strike="noStrike">
                <a:solidFill>
                  <a:srgbClr val="006699"/>
                </a:solidFill>
                <a:latin typeface="Book Antiqu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le risposte date dagli alunni alle domande chiuse delle p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2440">
              <a:lnSpc>
                <a:spcPct val="100000"/>
              </a:lnSpc>
              <a:spcAft>
                <a:spcPts val="1199"/>
              </a:spcAft>
              <a:buClr>
                <a:srgbClr val="ff9900"/>
              </a:buClr>
              <a:buFont typeface="Wingdings" charset="2"/>
              <a:buChar char="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correggere e codificare le risposte date dagli alunni alle domande aperte delle p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1199"/>
              </a:spcAft>
              <a:buClr>
                <a:srgbClr val="006699"/>
              </a:buClr>
              <a:buFont typeface="Book Antiqua"/>
              <a:buChar char="►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Per le class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Book Antiqua"/>
              </a:rPr>
              <a:t>NON CAMPIONE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i risultati delle prove sono riportati sulle </a:t>
            </a: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schede-risposta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(stessa modalità della Prova nazionale), fornite dall’INVALSI insieme alle prove (si veda attività n. 7 dello 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Book Antiqua"/>
                <a:hlinkClick r:id="rId1"/>
              </a:rPr>
              <a:t>scadenzario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: 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Book Antiqua"/>
                <a:hlinkClick r:id="rId2"/>
              </a:rPr>
              <a:t>http://www.invalsi.it/snv1011/scadenziario/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Book Antiqua"/>
                <a:hlinkClick r:id="rId3"/>
              </a:rPr>
              <a:t>index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1199"/>
              </a:spcAft>
              <a:buClr>
                <a:srgbClr val="006699"/>
              </a:buClr>
              <a:buFont typeface="Book Antiqua"/>
              <a:buChar char="►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I </a:t>
            </a: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fascicoli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compilati dagli alunni rimangono alla scu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006699"/>
              </a:buClr>
              <a:buFont typeface="Book Antiqua"/>
              <a:buChar char="►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Le schede-risposta devono essere spedite all’indirizzo indicato dall’INVALSI che procede alla </a:t>
            </a: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lettura ottica dei risult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826920" y="26028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Book Antiqua"/>
              </a:rPr>
              <a:t>La correzione delle 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"/>
          <p:cNvPicPr/>
          <p:nvPr/>
        </p:nvPicPr>
        <p:blipFill>
          <a:blip r:embed="rId4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 - 14 aprile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4EB2-A358-4356-B402-F8AD06785E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826920" y="260280"/>
            <a:ext cx="71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Book Antiqua"/>
              </a:rPr>
              <a:t>La correzione delle prove nelle </a:t>
            </a:r>
            <a:r>
              <a:rPr b="1" lang="en-US" sz="2400" spc="-1" strike="noStrike">
                <a:solidFill>
                  <a:srgbClr val="ff9900"/>
                </a:solidFill>
                <a:latin typeface="Book Antiqua"/>
              </a:rPr>
              <a:t>scuole camp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95" name="CasellaDiTesto 11"/>
          <p:cNvSpPr/>
          <p:nvPr/>
        </p:nvSpPr>
        <p:spPr>
          <a:xfrm>
            <a:off x="928800" y="1285920"/>
            <a:ext cx="7343640" cy="48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Nelle </a:t>
            </a:r>
            <a:r>
              <a:rPr b="1" lang="en-US" sz="2000" spc="-1" strike="noStrike">
                <a:solidFill>
                  <a:srgbClr val="006699"/>
                </a:solidFill>
                <a:latin typeface="Book Antiqua"/>
              </a:rPr>
              <a:t>classi campion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i risultati delle prove saranno riportati su apposite </a:t>
            </a:r>
            <a:r>
              <a:rPr b="1" lang="en-US" sz="2000" spc="-1" strike="noStrike">
                <a:solidFill>
                  <a:srgbClr val="006699"/>
                </a:solidFill>
                <a:latin typeface="Book Antiqua"/>
              </a:rPr>
              <a:t>maschere elettroniche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all’</a:t>
            </a:r>
            <a:r>
              <a:rPr b="1" lang="en-US" sz="2000" spc="-1" strike="noStrike">
                <a:solidFill>
                  <a:srgbClr val="006699"/>
                </a:solidFill>
                <a:latin typeface="Book Antiqua"/>
              </a:rPr>
              <a:t>osservatore esterno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secondo le modalità e i tempi indicati dall’INVALSI (si vedano attività 12 e 14 dello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Book Antiqua"/>
                <a:hlinkClick r:id="rId2"/>
              </a:rPr>
              <a:t>scadenzario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Book Antiqua"/>
                <a:hlinkClick r:id="rId3"/>
              </a:rPr>
              <a:t>http://www.invalsi.it/snv1011/scadenziario/index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l termine dell’imputazione dei risultati l’</a:t>
            </a:r>
            <a:r>
              <a:rPr b="1" lang="en-US" sz="2000" spc="-1" strike="noStrike">
                <a:solidFill>
                  <a:srgbClr val="006699"/>
                </a:solidFill>
                <a:latin typeface="Book Antiqua"/>
              </a:rPr>
              <a:t>osservatore esterno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onsegna alla segreteria della scuola le </a:t>
            </a:r>
            <a:r>
              <a:rPr b="1" lang="en-US" sz="2000" spc="-1" strike="noStrike">
                <a:solidFill>
                  <a:srgbClr val="006699"/>
                </a:solidFill>
                <a:latin typeface="Book Antiqua"/>
              </a:rPr>
              <a:t>maschere elettroniche  facendosene rilasciare una copia su fil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. La segreteria provvederà all’invio delle </a:t>
            </a:r>
            <a:r>
              <a:rPr b="1" lang="en-US" sz="2000" spc="-1" strike="noStrike">
                <a:solidFill>
                  <a:srgbClr val="006699"/>
                </a:solidFill>
                <a:latin typeface="Book Antiqua"/>
              </a:rPr>
              <a:t>maschere elettronich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all’indirizzo indicato dall’INVALSI (si veda l’attività 14 dello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Book Antiqua"/>
                <a:hlinkClick r:id="rId4"/>
              </a:rPr>
              <a:t>scadenzario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Book Antiqua"/>
                <a:hlinkClick r:id="rId5"/>
              </a:rPr>
              <a:t>http://www.invalsi.it/snv1011/scadenziario/index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 - 14 aprile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21EE-C21E-4E3F-80CF-DCBC1F3C3D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42960" y="428760"/>
            <a:ext cx="767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Book Antiqua"/>
              </a:rPr>
              <a:t>La restituzione schede-risposta per le classi </a:t>
            </a:r>
            <a:r>
              <a:rPr b="1" lang="en-US" sz="2000" spc="-1" strike="noStrike" u="sng">
                <a:solidFill>
                  <a:srgbClr val="006699"/>
                </a:solidFill>
                <a:uFillTx/>
                <a:latin typeface="Book Antiqua"/>
              </a:rPr>
              <a:t>NON CAMP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103" name="CasellaDiTesto 11"/>
          <p:cNvSpPr/>
          <p:nvPr/>
        </p:nvSpPr>
        <p:spPr>
          <a:xfrm>
            <a:off x="755640" y="1413000"/>
            <a:ext cx="770400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SOLO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 PER LE CLASSI NON CAMP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Le </a:t>
            </a:r>
            <a:r>
              <a:rPr b="1" lang="en-US" sz="2000" spc="-1" strike="noStrike">
                <a:solidFill>
                  <a:srgbClr val="006699"/>
                </a:solidFill>
                <a:latin typeface="Book Antiqua"/>
              </a:rPr>
              <a:t>schede-risposta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devono essere inviate all’indirizzo indicato dall’INVALSI a mezzo corriere (con </a:t>
            </a:r>
            <a:r>
              <a:rPr b="1" lang="en-US" sz="2000" spc="-1" strike="noStrike">
                <a:solidFill>
                  <a:srgbClr val="006699"/>
                </a:solidFill>
                <a:latin typeface="Book Antiqua"/>
              </a:rPr>
              <a:t>tracciatura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e senza spese per la scuola) secondo i tempi e i modi indicati nell’attività n. 15 dello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Book Antiqua"/>
                <a:hlinkClick r:id="rId2"/>
              </a:rPr>
              <a:t>scadenzario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Book Antiqua"/>
                <a:hlinkClick r:id="rId3"/>
              </a:rPr>
              <a:t>http://www.invalsi.it/snv1011/scadenziario/index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eriodo: 23.05.2011 – 04.06.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Modalità: prenotazione del ritiro presso il corriere indicato dall’INVA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6699"/>
              </a:buClr>
              <a:buFont typeface="Book Antiqua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 - 14 aprile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1A05-8E96-4F68-87BC-C6C7361835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826920" y="26028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Book Antiqua"/>
              </a:rPr>
              <a:t>Garanzi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6699"/>
                </a:solidFill>
                <a:latin typeface="Book Antiqua"/>
              </a:rPr>
              <a:t>sull’attendibilità dei d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714240" y="1508040"/>
            <a:ext cx="8429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L’utilità per la singola scuola che partecipa alla rilevazione si fonda sull’opportunità di poter effettuare confronti con quanto accade nelle altre scuo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Il buon esito delle operazioni di confronto dipenderà dalla credibilità e affidabilità dei dati complessivi con cui confrontare i prop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99"/>
                </a:solidFill>
                <a:latin typeface="Book Antiqua"/>
              </a:rPr>
              <a:t>Per la verifica dell’affidabilità viene predisposto un piano di controllo secondo due distinte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in itinere – invio di osservatori presso le scuole campionate 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accertare la corretta applicazione del protocollo di somministr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ex-post - metodi statistici che permettono di individ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comportamenti non conformi al corretto svolgimento d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rilev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 - 14 aprile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20D5-9DE0-4878-89D6-972E42A9B3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250920" y="907920"/>
            <a:ext cx="8229600" cy="36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 rot="5400000">
            <a:off x="-2461680" y="3407760"/>
            <a:ext cx="6095880" cy="36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 flipH="1">
            <a:off x="7314480" y="6553080"/>
            <a:ext cx="1600200" cy="17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 rot="16200000">
            <a:off x="8420760" y="6423480"/>
            <a:ext cx="685800" cy="17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11280" y="40464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Book Antiqua"/>
              </a:rPr>
              <a:t>Le scuole campione e le scu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3" descr=""/>
          <p:cNvPicPr/>
          <p:nvPr/>
        </p:nvPicPr>
        <p:blipFill>
          <a:blip r:embed="rId1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  <p:sp>
        <p:nvSpPr>
          <p:cNvPr id="119" name="CasellaDiTesto 11"/>
          <p:cNvSpPr/>
          <p:nvPr/>
        </p:nvSpPr>
        <p:spPr>
          <a:xfrm>
            <a:off x="755640" y="1484280"/>
            <a:ext cx="7488360" cy="29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buClr>
                <a:srgbClr val="00669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Book Antiqua"/>
              </a:rPr>
              <a:t>piano di campionamento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nalogo a quello della prova nazion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appresentatività reg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n genere una classe per ogni plesso campionato (mediamente due per Istituzione scolast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osservatore esterno retribuito solo dopo l’avvenuto riscontro della ricezione da parte dell’INVALSI delle maschere elettroniche correttamente compi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 - 14 aprile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85AB-3D91-495C-B90A-7CE5754B21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7:59:48Z</dcterms:created>
  <dc:creator>M.I.U.R.</dc:creator>
  <dc:description/>
  <dc:language>en-US</dc:language>
  <cp:lastModifiedBy>M.I.U.R.</cp:lastModifiedBy>
  <dcterms:modified xsi:type="dcterms:W3CDTF">2011-04-14T11:19:36Z</dcterms:modified>
  <cp:revision>45</cp:revision>
  <dc:subject/>
  <dc:title>Diapositiva 1</dc:title>
</cp:coreProperties>
</file>